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7C7-E4F3-4D89-B2C2-0FA74B63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D97-C99C-4D5C-9767-6A2653E0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142-BA8F-4A0F-8C22-BA219DF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A91-72E8-4264-996B-F7B12AD3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F84-6F2D-409A-8BCA-03C63EEB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C29-D587-4F9E-A45A-E48FFFA6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097-90E8-451E-9BC8-92DAF59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0FE-F808-423E-89CE-C8513ED2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3FF-A7A5-43BF-9305-7ABE912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730-8605-4ABD-9655-02D36438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800-3506-4D61-854D-AB32945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D44-114F-4895-A63D-F851595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FB4-715C-4105-8ABA-C8CB5A778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use some strategies to help me when I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less or 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eel positive even when things are going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manner of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identify and list some of the ways we feel about doing things. We shall use our list in a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for sta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er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happ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w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r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uess the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with a partner. Agree an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of you will perform the activity in a way which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ertain fee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artn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ust try to gues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the feel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trying to show.  Later you will swap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suggested activities are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uggested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he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car / bicycl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how to make a cup of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on a shirt / b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he bedding in a rabbit’s 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f a fi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a dishwa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 a song / recite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you can think of your own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goo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frustrate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pass if you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ant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hink mouse was feeling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t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assembl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any of these word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ver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ra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fu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ouse goes and hides in the hole she meets Vole. Mouse says to Vole “I’m a useless mouse who is no good at anything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a partner to think of strategies that Vole might suggest to help Mouse feel better about he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llect your strategies and show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1T09:59:42Z</dcterms:modified>
  <cp:revision>2</cp:revision>
  <dc:subject/>
  <dc:title>BASEAL   Good to be me  -1</dc:title>
</cp:coreProperties>
</file>