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FD7C1-3C66-440B-8699-860272235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41C93-FD23-46DA-9778-7A6F1DBEC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B4EF1-48CF-4072-9EAF-9F87C2A86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0DFFB-DFDB-4874-8DB8-9D7BD0AA9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D39F0-76EF-427F-9343-E0FE13C48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D8589-7255-4B09-894B-E3DFF63B4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BAD51-6673-4D3B-9B79-9E1C13B39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9425B-44EE-476A-A642-FD97AA045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956F6-8B35-4CB8-ABF0-40541E030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7398B-6810-4A63-AA22-0A9DC090A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B7747-492F-4759-A127-0020D3A98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9FB89-16EE-4AF7-9A6E-B9CEC5CA3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C9C68-BCF3-4F1D-8811-036BDFBF18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76280"/>
            <a:ext cx="7772400" cy="5689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BASEAL</a:t>
            </a:r>
            <a:br>
              <a:rPr sz="4000"/>
            </a:br>
            <a:br>
              <a:rPr sz="4000"/>
            </a:b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 Good to be me  -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250920" y="333000"/>
            <a:ext cx="8642160" cy="579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.O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 can make a judgment about whether or not to take a ris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539280" y="549000"/>
            <a:ext cx="8209080" cy="5576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Taking Ris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at is a risk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o takes risk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verybody takes risks at some 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re risks an everyday occurrenc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o we try to minimise risk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s it a risk to put up your hand if you think you know the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sw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s it a risk to climb to the top of the climbing fram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s it a risk to get up in the morn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68360" y="404640"/>
            <a:ext cx="8207280" cy="6048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n you think of some risks that people tak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e will need to record your ide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en we have enough we will put them in order of how risky we think they are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68000" y="404640"/>
            <a:ext cx="8218440" cy="5904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xamples of risks might b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climbed on the roof of the old shed as a d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climbed the drainpipe to rescue my ca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e wrote our own play for the class assemb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walked across a wire fence between two tre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went into my test without revis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wrote a poem instead of a story for my homewor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told my teacher I disagreed with her about what should go into my pain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chose a very complicated piece of music to play in assemb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asked my friend for help with my maths when everyone else was being qui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Just because something is risky it doesn’t mean it isn’t worth doing….standing up for a friend who is being bullied is an examp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n you think of any worthwhile risk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t us look at the order we put our risky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situations i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e will change the crit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o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very worthwhile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not worthwhil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es the order stay the sam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ave you taken any risks with your learning that have had positive outcomes e.g. working in a new medium in art or trying something new and difficult in math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s there anything that helped you to take risk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s there anything the teacher or other children did that made it feel O.K.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re there any risks you could take with your learning that you haven’t tried ye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at are the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ith a partner discuss something you might try that involves taking a bit of a risk in order to extend your skills or improve your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rganise your thoughts like th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at am I going to d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at is the worst that can happe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at are the benefits if I am successfu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21T09:00:18Z</dcterms:created>
  <dc:creator>Nicky D</dc:creator>
  <dc:description/>
  <dc:language>en-US</dc:language>
  <cp:lastModifiedBy>Nicky D</cp:lastModifiedBy>
  <dcterms:modified xsi:type="dcterms:W3CDTF">2006-12-22T21:27:52Z</dcterms:modified>
  <cp:revision>7</cp:revision>
  <dc:subject/>
  <dc:title>BASEAL   Good to be me  -1</dc:title>
</cp:coreProperties>
</file>