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D46-5DC6-4DBC-A3C2-8ACB80BC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234-3140-4109-841B-F3F0382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6B3-18DD-47F1-81B1-0F47565D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E9F-ED66-4C29-AF67-13D7B81F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6B3-DC9E-47AE-81F1-2B52494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81E-0CE1-44A1-99BC-8802602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1F6-5818-4CC3-9FD5-0749B52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133-4224-4C18-B0AD-99231F5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F44-8C61-407E-8E25-36F59CF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164-D150-4E1C-B17F-4A7548C7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3D5-F604-4FAC-91EC-5CB94F1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338-A2DE-4833-B9F6-3E771B97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9106-A201-463F-A93D-E61B29BE9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disagree with someone without fall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cope when someone disagree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ree… or….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work with the person next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an “agree” pair or a “disagree”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read you some statements and you mus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 up with reasons why you agree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agree with each statemen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 your answer either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ree because…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sagree becaus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ts make better pets than d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work harder than b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vision is bad fo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ear school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should not be allowed to wear make up before they are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s should stay at home and look after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ys and men should not c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have more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be paid to come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ing animals appear in circuses is cr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eat some fruit for brea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have Sunday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Donald’s burgers should be b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alk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play you some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wander round the room while it is pl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t stops I will read out one of the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ust find one person 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gre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your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’ve found them you should each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views and try to convince the o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tha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it feel to disag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you disagree with some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hurting their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59:38Z</dcterms:modified>
  <cp:revision>5</cp:revision>
  <dc:subject/>
  <dc:title>BASEAL   Good to be me  -1</dc:title>
</cp:coreProperties>
</file>