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F01-78B8-4B9B-AC22-1FCFD355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351-504F-4464-9103-6730ED74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797-FEAE-4A3D-B25B-AA5980FD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153-AB39-4AFE-9C0F-19B3F6EF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224-E423-44BF-BBE9-FE15619B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308-004D-43B3-AABF-5A95F6B2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758-3E63-467B-8147-4FA81F1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87F-31A3-49DE-8163-148AC16B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609-70DA-4191-84CD-722C32FF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6C2-50E6-4FCB-9D45-C32AB429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E5C-633E-4041-A99E-7A35F6E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9C9-EC7E-4459-AA3D-8D6BB33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416C-1FEE-49B6-BDE7-609ED08E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Class 1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nglo-Saxons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scovery at Sutton H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2881440" cy="288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Original helmet"/>
          <p:cNvPicPr/>
          <p:nvPr/>
        </p:nvPicPr>
        <p:blipFill>
          <a:blip r:embed="rId1"/>
          <a:stretch/>
        </p:blipFill>
        <p:spPr>
          <a:xfrm>
            <a:off x="-252360" y="0"/>
            <a:ext cx="5257800" cy="5257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Replica: front view"/>
          <p:cNvPicPr/>
          <p:nvPr/>
        </p:nvPicPr>
        <p:blipFill>
          <a:blip r:embed="rId2"/>
          <a:stretch/>
        </p:blipFill>
        <p:spPr>
          <a:xfrm>
            <a:off x="4356000" y="0"/>
            <a:ext cx="5715000" cy="5013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24000" y="5091120"/>
            <a:ext cx="4392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King Redwald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helm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75632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What his helmet would have looked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Purse lid from the ship-burial at Sutton Hoo"/>
          <p:cNvPicPr/>
          <p:nvPr/>
        </p:nvPicPr>
        <p:blipFill>
          <a:blip r:embed="rId1"/>
          <a:stretch/>
        </p:blipFill>
        <p:spPr>
          <a:xfrm>
            <a:off x="179280" y="189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40360" y="333360"/>
            <a:ext cx="30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An Anglo – Saxon purse 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Gold coins and ingots from the ship-burial at Sutton Hoo"/>
          <p:cNvPicPr/>
          <p:nvPr/>
        </p:nvPicPr>
        <p:blipFill>
          <a:blip r:embed="rId1"/>
          <a:stretch/>
        </p:blipFill>
        <p:spPr>
          <a:xfrm>
            <a:off x="179280" y="189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0360" y="26028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Gold coins and ing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Sword from the ship-burial at Sutton Hoo"/>
          <p:cNvPicPr/>
          <p:nvPr/>
        </p:nvPicPr>
        <p:blipFill>
          <a:blip r:embed="rId1"/>
          <a:stretch/>
        </p:blipFill>
        <p:spPr>
          <a:xfrm>
            <a:off x="250920" y="-1784520"/>
            <a:ext cx="8642160" cy="864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221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An Anglo – Saxon s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Buckle from the sword belt from the ship-burial at Sutton Hoo"/>
          <p:cNvPicPr/>
          <p:nvPr/>
        </p:nvPicPr>
        <p:blipFill>
          <a:blip r:embed="rId1"/>
          <a:stretch/>
        </p:blipFill>
        <p:spPr>
          <a:xfrm>
            <a:off x="539640" y="-819000"/>
            <a:ext cx="8101080" cy="6873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221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The sword belt buck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141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assoonPrimaryInfant"/>
              </a:rPr>
              <a:t>http://www.thebritishmuseum.ac.uk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628640"/>
            <a:ext cx="864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SassoonPrimaryInfant"/>
              </a:rPr>
              <a:t>Thank you for listen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SassoonPrimaryInfant"/>
              </a:rPr>
              <a:t>You can clap now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17080" y="62784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Map showing where the Anglo-Saxons came from and where they settled in England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1480" y="-2692440"/>
            <a:ext cx="7508880" cy="929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060640"/>
            <a:ext cx="252108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0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The Discovery at Sutton H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50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The mounds at Sutton Hoo in Suffo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0"/>
            <a:ext cx="6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SassoonPrimaryInfan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assoonPrimaryInfant"/>
              </a:rPr>
              <a:t>The remains of the burial 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SassoonPrimaryInfant"/>
              </a:rPr>
              <a:t>King Redwald being buried in 625 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SassoonPrimaryInfant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34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00720" y="3573360"/>
            <a:ext cx="46432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9736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92428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SassoonPrimaryInfant"/>
              </a:rPr>
              <a:t>Pictures showing digging at Sutton Hoo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00720" y="189000"/>
            <a:ext cx="478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SassoonPrimaryInfant"/>
              </a:rPr>
              <a:t>This is what archaeologists think the burial ship may have looked lik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060640"/>
            <a:ext cx="914400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986360"/>
            <a:ext cx="738036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7101000"/>
            <a:ext cx="2484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72360" y="5013360"/>
            <a:ext cx="97164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60280"/>
            <a:ext cx="8785440" cy="5113440"/>
          </a:xfrm>
          <a:prstGeom prst="wedgeRoundRectCallout">
            <a:avLst>
              <a:gd name="adj1" fmla="val 33375"/>
              <a:gd name="adj2" fmla="val 56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ssoonPrimaryInfant"/>
              </a:rPr>
              <a:t>There were great moments that we will never forget such as the lifting of the silver plate that for days had been half covering a silver basin. We knew that exciting things were waiting to be uncovered and we were not disappointed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532720" y="62784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PrimaryInfant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09:41Z</dcterms:created>
  <dc:creator>jdavidson</dc:creator>
  <dc:description/>
  <dc:language>en-US</dc:language>
  <cp:lastModifiedBy>jdavidson</cp:lastModifiedBy>
  <dcterms:modified xsi:type="dcterms:W3CDTF">2006-03-06T14:54:33Z</dcterms:modified>
  <cp:revision>11</cp:revision>
  <dc:subject/>
  <dc:title>Slide 1</dc:title>
</cp:coreProperties>
</file>