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FE1-BC84-4DB9-A962-B4D6DE79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55B-C27B-41EA-BB00-2660ED74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898-EE82-4A2D-A003-633347E9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349-0473-4327-B818-6596B8A5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755C-A066-403E-B5F1-27D2A86A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6E71-8430-42A2-A9B8-C2717B3E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09BA-ADC0-47F9-A64C-3EF1F0E7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F5B7-5ACE-4AC2-BC2C-B95A1961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E49D-D80B-40FF-8F5B-6622FD0C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071D-FE8A-448A-A374-31A98229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2CA5-922D-41B4-AC85-70E9FACA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6AB-1ECF-4FE5-A645-9EF43745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82B0-4023-4C13-8406-10684704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0A85-D2DD-44E1-848F-22276106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C0C0-7883-411B-9084-C851F5EE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BD11-E20B-4E87-A507-E99566FE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D675-1739-4584-AB76-6342F3E1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20A-AE13-4C1A-ADE8-1FC3A7DC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D8F-2256-41BF-9A0B-7F60FD8B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6E6-B9B3-4026-AF1E-CD2F1EB6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F2C-A99D-47BF-B665-D8226C0C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D82-29FD-4F20-B553-19CC55FE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4F5-0528-45D6-880C-38B7AFCD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42A-1C27-4624-AB1C-3CB0361E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EF8D-0927-4698-94AA-A89AD5307D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FDFA-84EA-472E-A62B-F28739253CB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eading and spelling words containing different spellings for phonem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Text Box 93"/>
          <p:cNvSpPr/>
          <p:nvPr/>
        </p:nvSpPr>
        <p:spPr>
          <a:xfrm>
            <a:off x="179280" y="1197000"/>
            <a:ext cx="745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lthough there are only five vowels, the same sound can be spelt in different way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 short vowel phoneme means that it is just the letter that makes the vowel sound, e.g. cat, dog, bus, bit, le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 long vowel phoneme means that more than one letter makes the vowel sound. There are five long vowel phoneme group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/ai/ (train, made, great, gate, way, brak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/ee/ (sea, seed, be, week, weak, seen, meat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/igh/ (write, night, sigh, try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/oa/ (so, toe, blow, road, roll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/(y)oo, oo/ (blew, glue, too, to, tw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179280" y="162864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isten out for the /ai/ phoneme in this passage of tex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he train made a loud noise as it pulled into the station. Jerry opened the gate that allowed him to get on the platform, and made his way towards it. It was a great big train, with 9 different carriages, and he could hear the hiss as the driver put the brake 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51"/>
          <p:cNvSpPr/>
          <p:nvPr/>
        </p:nvSpPr>
        <p:spPr>
          <a:xfrm>
            <a:off x="179280" y="436572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isten again and put your thumbs up when you hear the /ai/ phonem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Text Box 52"/>
          <p:cNvSpPr/>
          <p:nvPr/>
        </p:nvSpPr>
        <p:spPr>
          <a:xfrm>
            <a:off x="179280" y="519912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id you hear them all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 Box 53"/>
          <p:cNvSpPr/>
          <p:nvPr/>
        </p:nvSpPr>
        <p:spPr>
          <a:xfrm>
            <a:off x="179280" y="162864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isten out for the /ai/ phoneme in this passage of tex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he tr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ai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n m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a loud noise as it pulled into the st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i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on. Jerry opened the g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that allowed him to get on the platform, and m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his way towards it. It was a gr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ea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 big train, with 9 different carriages, and he could hear the hiss as the driver put the br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a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k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ighlight the /ai/ phoneme in your passage of text. How many different ways can you find of making the /ai/ soun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find the other long vowel phonemes in the other passages of text? How can you spell each phonem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7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 at the set of words you have. In your pair take it in turns to say the word for your partner to write i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Once you have used all of the words from your phoneme set, try a different phonem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08000" y="119700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is a long vowel phoneme? Can you give me an exampl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65160" y="2133720"/>
            <a:ext cx="7746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 am going to say four sentences. Write them in your book as I say th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34920" y="3068640"/>
            <a:ext cx="78501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ave you spelt the sentences correctl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On my way home from school I saw a cat, with a mouse in its mouth. I told my mum about i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On the same day each week my friend comes to tea. We like to make things with paper, glue and crayon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51:50Z</dcterms:modified>
  <cp:revision>25</cp:revision>
  <dc:subject/>
  <dc:title>Spelling – Year 5</dc:title>
</cp:coreProperties>
</file>