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0A48-C9E6-44B0-BA21-A1406558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5860-87AB-42DC-83F1-BC1E8237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2E7E-33A9-4289-9A49-53E08E3E1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B982-5C00-42E6-BE1B-1E13EA43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08FC-E4FD-4E3B-B9CA-390F7D69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FA59-C993-450A-B9B7-1ED65D85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BA8E-A997-4982-8E1B-2FB41A88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C185-797F-4F7F-88D4-E6F07822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293C-E9F9-4CEE-BA2B-F9AA3454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8C3D-17F3-409D-8737-41919F32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A88F-F114-4E11-A865-1BC20C29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2CA3-31BF-4CD4-89AF-D1E53B71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3093F-1973-44D9-88D1-E0493E9C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EAFE-C4DE-429F-B3FC-415A3F2A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04FD-7569-4E82-8BE8-BC6C3202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53D1-A6BD-488C-84BB-F68C92DC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EA99-F945-4724-A23B-3C55AD0A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3D0D-CBFD-4F8D-8297-C872E89A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9309-C68C-4EBE-9F05-9DBCEAF7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91E5-F7FD-4423-AE0F-A8781238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0970-D269-43DC-B384-DCCA0ADC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3C59-9D1E-4AC2-BB57-41DA4F5B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4633-70FF-449F-897A-2AC27656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003D-3355-4048-BDCE-0A3954A8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4129-72B4-4D90-A22D-963D3B7513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9320"/>
                <a:gd name="textAreaBottom" fmla="*/ 1939680 h 193932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9440"/>
                <a:gd name="textAreaBottom" fmla="*/ 1999800 h 199944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5960"/>
                <a:gd name="textAreaBottom" fmla="*/ 4035960 h 403596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3760"/>
                <a:gd name="textAreaBottom" fmla="*/ 2184120 h 218376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7200"/>
                <a:gd name="textAreaBottom" fmla="*/ 5047560 h 504720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0800"/>
                <a:gd name="textAreaBottom" fmla="*/ 3071160 h 307080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1960"/>
                <a:gd name="textAreaBottom" fmla="*/ 3352320 h 335196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2320"/>
                <a:gd name="textAreaBottom" fmla="*/ 3352680 h 335232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custGeom>
              <a:avLst/>
              <a:gdLst>
                <a:gd name="textAreaLeft" fmla="*/ 668160 w 6856560"/>
                <a:gd name="textAreaRight" fmla="*/ 6188400 w 68565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22C1-7D7E-4AE8-8E32-D929F01C7CCF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Spell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Adding the suffixes –s and –y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Singular to plural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Did you get them right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755640" y="2492280"/>
            <a:ext cx="6481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shops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cards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armies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jelli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pillars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dinghies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ladi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daisies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curtains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plans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tap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tapes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boys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tub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wellies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cries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smiles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hug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flies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jetties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phon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parties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ways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bakeries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girl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Apply, Assess, Reflec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60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hat is a suffix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250920" y="4724280"/>
            <a:ext cx="738648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Can you write sentences that use each of our suffixes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50920" y="3211560"/>
            <a:ext cx="73864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hat suffixes have we looked at so far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63480" y="2081160"/>
            <a:ext cx="71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A suffix is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a unit of letters such as "ing," "ness," or "ed" that are attached to a root word to modify its meaning, part of speech, or tense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1476360" y="4005360"/>
            <a:ext cx="59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-ing, -ed, -s, -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Revisit, Explain, Us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84872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ho can remember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hat is a verb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539280" y="3357720"/>
            <a:ext cx="53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hat do we mean by tense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116000" y="2631960"/>
            <a:ext cx="45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A verb is a ‘doing word’.</a:t>
            </a:r>
            <a:r>
              <a:rPr b="0" lang="en-GB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1116000" y="4005360"/>
            <a:ext cx="66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Tense tells us the time at which something happened, or will happen: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past, present or futur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74278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Can you change these sentences from past to present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Yesterday I walked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On Saturday I shopped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Last week we worked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In August she jogged 10 mil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A year ago they planned their wedding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Now can you change them again, but to future tense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468360" y="1052640"/>
          <a:ext cx="6912000" cy="5667120"/>
        </p:xfrm>
        <a:graphic>
          <a:graphicData uri="http://schemas.openxmlformats.org/drawingml/2006/table">
            <a:tbl>
              <a:tblPr/>
              <a:tblGrid>
                <a:gridCol w="2303280"/>
                <a:gridCol w="2305080"/>
                <a:gridCol w="23036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Add –ed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rop the e and add –ed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ouble the final consonant and add -ed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47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27"/>
          <p:cNvSpPr/>
          <p:nvPr/>
        </p:nvSpPr>
        <p:spPr>
          <a:xfrm>
            <a:off x="0" y="0"/>
            <a:ext cx="8229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f1311"/>
                </a:solidFill>
                <a:latin typeface="Arial"/>
              </a:rPr>
              <a:t>Can you remember the rules for finding verbs that fit in each column?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Teach, Model, Defi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11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hat do we mean by singular and plural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1166760" y="2714760"/>
            <a:ext cx="6500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Singular means there is just one, whereas plural means there is more than on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For example, there is just one school (singular) on our road, but there are many schools (plural) in Openshaw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63520" y="549360"/>
            <a:ext cx="73864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hat suffix did I add when I changed from singular to plural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school </a:t>
            </a:r>
            <a:r>
              <a:rPr b="0" lang="en-GB" sz="32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school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252360" y="2133720"/>
            <a:ext cx="73440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Does this always work? Can we   always just add the –s? When does this rule not work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250920" y="3525840"/>
            <a:ext cx="73436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This rule doesn’t work when the word ends in a consonant then a ‘y’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army </a:t>
            </a:r>
            <a:r>
              <a:rPr b="0" lang="en-GB" sz="32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armi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jelly </a:t>
            </a:r>
            <a:r>
              <a:rPr b="0" lang="en-GB" sz="32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jelli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250920" y="5580000"/>
            <a:ext cx="73436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hat do we have to do when adding the –s suffix to such words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63520" y="475920"/>
            <a:ext cx="73864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hat about when we’re adding the suffix –y? What rules do we have then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On whiteboards write some words where the suffix –y is added, and try to identify the rules for adding this suffix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Examples might include: squash </a:t>
            </a:r>
            <a:r>
              <a:rPr b="0" lang="en-GB" sz="32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squashy, bend </a:t>
            </a:r>
            <a:r>
              <a:rPr b="0" lang="en-GB" sz="32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bendy, flake </a:t>
            </a:r>
            <a:r>
              <a:rPr b="0" lang="en-GB" sz="32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flaky, slime </a:t>
            </a:r>
            <a:r>
              <a:rPr b="0" lang="en-GB" sz="32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slimy, slop </a:t>
            </a:r>
            <a:r>
              <a:rPr b="0" lang="en-GB" sz="32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sloppy, drip </a:t>
            </a:r>
            <a:r>
              <a:rPr b="0" lang="en-GB" sz="32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drippy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484280"/>
            <a:ext cx="738648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Can you add the suffix –y to create adjectives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Can you work with a partner to create five descriptive sentences using words with the suffix –y added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e.g. He was covered in slime </a:t>
            </a:r>
            <a:r>
              <a:rPr b="0" lang="en-GB" sz="28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 He was slimy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Look through your reading books, can you find any adjectives in the character descriptions that use the suffix –y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Can you change these words from singular to plural using the suffix –s? Remember the rul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6920" y="3228840"/>
            <a:ext cx="6481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shop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card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army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jell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pillar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dinghy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lad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daisy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curtain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plan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tap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tape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boy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tub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welly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cry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smile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hug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fly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jetty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phon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party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way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bakery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gir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14:18Z</dcterms:created>
  <dc:creator>Miss Rattray</dc:creator>
  <dc:description/>
  <dc:language>en-US</dc:language>
  <cp:lastModifiedBy>Mrs Riley</cp:lastModifiedBy>
  <dcterms:modified xsi:type="dcterms:W3CDTF">2010-02-22T19:50:30Z</dcterms:modified>
  <cp:revision>13</cp:revision>
  <dc:subject/>
  <dc:title>Spelling – Year 5</dc:title>
</cp:coreProperties>
</file>