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1A7-F6D1-478A-B5C6-66126AE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FCB-1AF8-4B1B-8838-54B773C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D56-8680-4636-8EC9-A8356E72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A65-DBAB-4FEB-A514-670A6894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387B-0552-4322-8583-EA08423E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12D6-0A95-4D42-938E-7121074F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E05-E932-40AA-90E0-DA4828C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D1D-BC40-4FC4-92F2-406B520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027-047E-40AD-B0DE-14FFD7D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F67-D10A-48FB-9375-F382DA1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E855-A5C9-4BFF-8FE4-801D644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347-352A-4BDC-B54A-970FE01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9B0-CFB9-4519-A18A-38B1C66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E359-6D0E-4B3C-9F95-EADD88D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8E72-9E18-474D-B1FF-649B74B2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5AEF-70D4-4EEB-9068-986F61D8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0BE7-051E-4C79-B3AD-075E54E5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3F7-D85E-4F59-AB44-A5189EC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6D2-AC65-4397-AEA8-AE13A8C1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E11-0C4D-4097-9365-8BB5AD34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47F-C7CC-4A1A-A33B-BAEB723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7E4-B302-4FF1-B802-D9E85677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D74-931C-49DA-80B7-F286AB4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670-DF0A-439D-8152-5287D6D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539-DC27-4ADF-BC50-0C9722AB04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A028-8292-41FE-BBCC-B82E4AB4DA0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yll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93"/>
          <p:cNvSpPr/>
          <p:nvPr/>
        </p:nvSpPr>
        <p:spPr>
          <a:xfrm>
            <a:off x="179280" y="119700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s a syllab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97"/>
          <p:cNvSpPr/>
          <p:nvPr/>
        </p:nvSpPr>
        <p:spPr>
          <a:xfrm>
            <a:off x="179280" y="16286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yllable is a beat in a word, e.g. sy-lla-ble – it has 3 beats, so has 3 syllab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 can find how many syllables a word has by clapping the bea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101"/>
          <p:cNvSpPr/>
          <p:nvPr/>
        </p:nvSpPr>
        <p:spPr>
          <a:xfrm>
            <a:off x="179280" y="321300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find how many syllables there are in your nam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03"/>
          <p:cNvSpPr/>
          <p:nvPr/>
        </p:nvSpPr>
        <p:spPr>
          <a:xfrm>
            <a:off x="179280" y="407664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ose name has the most syllables in the cla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179280" y="450864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f we include surnam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179280" y="494172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plitting words into syllables can help when we’re spelling because we can think of how to spell each syllable then put it altogether. Try it with some tricky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179280" y="16286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did we split words into syllabl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could this help us with spelling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179280" y="296244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ink of a long word that you find hard to spell. Can you try to spell it by splitting it into syllabl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importa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m – port – a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we know how to spell ‘port’ and ‘ant’ it becomes a lot easier to spel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ry some more on your whiteboar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in your reading book. Can you find how many syllables there are in each of the words by clapping it out with a partner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She looked a-round the crow-ded room. Not one per-son there looked fa-mil-i-ar, but she was sure Ash-leigh had said she was co-ming to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rite down some of the words (especially long words) that you found in your text yester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them in syllab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famili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a-mil-i-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08000" y="119700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syllables? Can you show me how to use syllab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5160" y="2133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4920" y="3068640"/>
            <a:ext cx="7850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Sunday I am playing football. I am going to be goalkeep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A friendship that I value is with my best friend. We make snowmen toge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-36360" y="5661000"/>
            <a:ext cx="77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other sentences containing one of the words on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34Z</dcterms:modified>
  <cp:revision>32</cp:revision>
  <dc:subject/>
  <dc:title>Spelling – Year 5</dc:title>
</cp:coreProperties>
</file>