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848-7BEE-4BD7-B854-A1A49ED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1B2-3F8A-400A-AEBB-ED1E541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0F6-B6BA-4C1B-8FD0-328297B5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787-834E-4AE7-B746-D88570A9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6E4-9BFE-4544-91FB-77372F31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9734-3166-4402-80E3-03B0F89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4F3-8EDC-42EB-A2FC-63753FB4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5E6B-C031-41A3-83FC-784E4F0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7AA5-9341-40EC-8CFB-0A021FAC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B4B3-10EB-451F-81AA-42839C2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B36B-36C0-4524-9680-2108E8F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0C5-30FD-4754-A91B-0357956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6FB-97C1-449F-9784-AC73DC6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439-F090-4748-8256-F31CEEF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F04D-F6BD-4D70-8CAC-F719FD2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34BC-AAF0-4E01-8DCA-9C6EE418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31A-055C-465E-99C1-D503CA6D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970-5E33-4AC4-8611-81E04E3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63D-19C0-4D79-878A-864AE37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574-3712-4165-8609-0401E48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306-A43E-4D0A-A59E-027FDE4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E59-1700-4E69-A787-9F1CC789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C2E-BFA4-44D3-B17D-1638A82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4DC-E21A-416A-AB12-16E6D16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4B9C-DFFD-48F4-B657-D327F5B63F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2CA-C1AB-41C1-BFB9-4738E90F58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dding the prefixes un- and dis-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3840" y="1370160"/>
          <a:ext cx="3673440" cy="502920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d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n</a:t>
                      </a: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d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92"/>
          <p:cNvSpPr/>
          <p:nvPr/>
        </p:nvSpPr>
        <p:spPr>
          <a:xfrm>
            <a:off x="4136760" y="1343160"/>
            <a:ext cx="343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is a suffix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do we think a prefix i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93"/>
          <p:cNvSpPr/>
          <p:nvPr/>
        </p:nvSpPr>
        <p:spPr>
          <a:xfrm>
            <a:off x="4135680" y="2422440"/>
            <a:ext cx="3647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has adding the prefix un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done to the meaning of each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ord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put each of the word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in the table into a sentenc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think of other un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ords and put them i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sentenc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What do you think un- mea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3948120" cy="4572000"/>
        </p:xfrm>
        <a:graphic>
          <a:graphicData uri="http://schemas.openxmlformats.org/drawingml/2006/table">
            <a:tbl>
              <a:tblPr/>
              <a:tblGrid>
                <a:gridCol w="1974960"/>
                <a:gridCol w="197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ik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leas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ee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wn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sua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gre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ppear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e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ey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zip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nest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ess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ust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llow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ol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49"/>
          <p:cNvSpPr/>
          <p:nvPr/>
        </p:nvSpPr>
        <p:spPr>
          <a:xfrm>
            <a:off x="4281120" y="1628640"/>
            <a:ext cx="369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add a prefix to eac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of these words to chan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the meaning? Add either un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or dis-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How does each prefix chang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the meaning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write each word an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its opposite by adding a prefix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put the words i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sentence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in your reading book. Can you fi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ive ‘un-’ or ‘dis-’ words? Write them 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our book, then find the meaning o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ach word and write thi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at the words that your partner h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ound. Can you find the meaning o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Using the book that you looked at yesterday can you change the meaning of a paragraph by adding the prefixes ‘un- or ‘dis-’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member you will not need to add a prefix to every wor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50920" y="1413000"/>
            <a:ext cx="7386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prefix? Can you give me an examp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250920" y="2492280"/>
            <a:ext cx="7386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two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250920" y="3571920"/>
            <a:ext cx="7386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The king was displeased, he was unable to go outside because it was rain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He disliked this unpleasant wea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55Z</dcterms:modified>
  <cp:revision>18</cp:revision>
  <dc:subject/>
  <dc:title>Spelling – Year 5</dc:title>
</cp:coreProperties>
</file>