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19B-2FC6-4AB8-A158-CBBE7A15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C86-3BC8-4500-B863-7B1955EF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A42-1832-43A4-A0B5-B688028C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A50-1646-4CF9-9D25-87ABEB2A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C8C4-AD1A-40DF-A9F7-47FD96FD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CDE1-9F96-40B5-8C27-EFD03A9A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4EEF-A116-4C84-9542-ED811E00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0490-50CD-4619-956F-405AD968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03A4-9345-4B33-A5B6-4E83EA52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706E-F3FF-4993-BCF3-5ED8F12F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7792-CB29-4FB7-A0BC-20FF5E0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819-9F3D-4158-952F-1FC8AABC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E3BB-677B-4178-86C7-1E738826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06AF-3D0E-4BF4-AC04-CD8AAFD7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7B25-986E-4E9D-B581-D3EA113C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27E5-EBF2-4032-B83C-021364D9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85F1-CDDE-45F9-A804-250CE099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0D8-A6CC-428F-AABD-2E633FB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80E-62B8-4DE9-BA62-CCB909AF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71F-6054-48DA-90E3-1AF68205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C2B-47FA-42B3-81CC-3684FDE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673-A568-43EB-91A1-619851D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5F1-A747-40DE-9DFB-BDF828A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776-AB6A-436C-8ACC-2288691C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3D09-C23A-487E-A2C5-8C0C7A7DF3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33B3-4679-4A41-B6D2-FD718AF5285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consolidate understanding of adding suffixes and to investigate conventions related to the spelling pattern –le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50920" y="1854360"/>
          <a:ext cx="7386480" cy="4754520"/>
        </p:xfrm>
        <a:graphic>
          <a:graphicData uri="http://schemas.openxmlformats.org/drawingml/2006/table">
            <a:tbl>
              <a:tblPr/>
              <a:tblGrid>
                <a:gridCol w="2462040"/>
                <a:gridCol w="2462400"/>
                <a:gridCol w="246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dd -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dd -ing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un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hu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lap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wim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op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id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mil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iv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219"/>
          <p:cNvSpPr/>
          <p:nvPr/>
        </p:nvSpPr>
        <p:spPr>
          <a:xfrm>
            <a:off x="179280" y="105264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remember how to add the suffixes –ed and –ing to these words? Give it a go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79280" y="1403280"/>
            <a:ext cx="764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ach of you has a word card. You must find your team ‘leader’ who will have your groups spelling pattern. The three spelling patterns ar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wo different consonants before –le, e.g. cand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ouble consonant before –le, e.g. bott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one consonant before –le, e.g. beet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Note: ck is treated as a double consonant – why might this b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179280" y="429264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rule can we have for spelling words ending i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l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57"/>
          <p:cNvSpPr/>
          <p:nvPr/>
        </p:nvSpPr>
        <p:spPr>
          <a:xfrm>
            <a:off x="179280" y="501336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f a word contains a short vowel phoneme, there are always two consonants between the vowel and –le. If there is a long vowel phoneme there is one consonant before –l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ith a partner sort your words into groups, and explain your group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.g. those preceded by double letters, those preceded by –ck, -able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ith a partner look at the words in your pack. One should read the word and the other should try to spell it, using the rules we’ve learnt this week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were the rul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79280" y="486900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f a word contains a short vowel phoneme, there are always two consonants between the vowel and –l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f there is a long vowel phoneme there is one consonant before –l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5160" y="1268280"/>
            <a:ext cx="7746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 am going to say four sentences. Write them in your book as I sa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4920" y="2205000"/>
            <a:ext cx="7850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ve you spelt the sentences correctl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In the middle of the night I heard a noise. I lit a candle and saw a little beetle scuttle across my roo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It went under the table and over an apple and disappeared. Then I heard a giggle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-36360" y="5661000"/>
            <a:ext cx="770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other sentences containing one of the words on the boar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9:12Z</dcterms:modified>
  <cp:revision>38</cp:revision>
  <dc:subject/>
  <dc:title>Spelling – Year 5</dc:title>
</cp:coreProperties>
</file>