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5AA-0787-4DA4-AE1B-16005083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0B-03B5-4D8B-A824-F10D51F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8A0-70A3-4FA6-92DF-1EC3D44B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DC5-9686-47D7-A48B-C4BDCBC2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CA08-61CD-4EF5-84B2-0BD4391A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BD37-E378-4158-902B-B0B5962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B450-5D05-4F2F-86E2-D2CC7F9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DA4F-645F-4C94-86D9-CC087D3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D6C8-A13A-471C-AB3C-8983470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975D-7C7D-4B84-87DE-0BADED5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7666-0F26-412E-93A8-52511E2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551-7C6A-4F03-8887-05E66219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F68-B952-49DA-B703-6000F54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CFE1-D5F2-4CEE-A611-1EADF3E6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507-4C3D-43AC-B541-D5380D8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204-5CDB-49FC-A213-90D5D245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8A1-E7A7-4E43-852A-CE9E4FB3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CC3-BE90-4E68-95C4-B881D35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5D9-F246-4D5D-B895-EF44AEF5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E0E-1B2F-4150-91A8-071B056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FB7-117D-434D-8858-A62D165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098-04E9-4E03-8BAC-34DD4EC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E9C-8821-46E1-A8B7-2989D73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025-85D4-4EF3-B254-9456176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1DE-B19A-4447-8BF9-DFF7AFC7A8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11F-B4A6-4338-B8BB-A2CAA7EBFEC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how words change when suffixes are adde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24"/>
          <p:cNvSpPr/>
          <p:nvPr/>
        </p:nvSpPr>
        <p:spPr>
          <a:xfrm>
            <a:off x="395280" y="4292640"/>
            <a:ext cx="7386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work with a partner to create five descriptive sentences using words with the suffix –y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He was covered in slime </a:t>
            </a:r>
            <a:r>
              <a:rPr b="0" lang="en-GB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He was slim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25"/>
          <p:cNvSpPr/>
          <p:nvPr/>
        </p:nvSpPr>
        <p:spPr>
          <a:xfrm>
            <a:off x="395280" y="1341360"/>
            <a:ext cx="738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the base word for the following adjectives; sunny, funny, ston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26"/>
          <p:cNvSpPr/>
          <p:nvPr/>
        </p:nvSpPr>
        <p:spPr>
          <a:xfrm>
            <a:off x="395280" y="2637000"/>
            <a:ext cx="738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sort of words are sunny, funny and ston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27"/>
          <p:cNvSpPr/>
          <p:nvPr/>
        </p:nvSpPr>
        <p:spPr>
          <a:xfrm>
            <a:off x="395280" y="3429000"/>
            <a:ext cx="738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hey are now adjectives, as we have added the –y suf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28"/>
          <p:cNvSpPr/>
          <p:nvPr/>
        </p:nvSpPr>
        <p:spPr>
          <a:xfrm>
            <a:off x="395280" y="213372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un, fun and st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24000" y="162864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think of any examples of comparativ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It is cold today. It was colder yesterday. It will be coldest on Frida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324000" y="27511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write the comparatives for these word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ng, tall, late, close, big, thin, happy, funny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324000" y="3522600"/>
            <a:ext cx="71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ink of and find as many adjectives as you can ending in the following suffixe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ly, -less, -ful, -able, -er, -es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slowly, hopeless, painful, likeable, colder, hottes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416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complete this table of comparatives?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1916280"/>
          <a:ext cx="7561440" cy="475452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i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tt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los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at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ich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w add your own comparative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339560"/>
            <a:ext cx="7386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ork with a partner to learn to spell the ten comparatives that you wrote yester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en you have both learnt, and been tested on, the spellings, se if you can find any exceptions (words that you can’t add –er and –est to when creating comparatives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5160" y="1268280"/>
            <a:ext cx="78199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add a suffix to each of these words? Use –ly, -ful, -less, -able, or –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in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o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969920" y="2276640"/>
            <a:ext cx="3249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indly/kind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inful/painl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inkab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ot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tefu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oyful/joyl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01Z</dcterms:modified>
  <cp:revision>48</cp:revision>
  <dc:subject/>
  <dc:title>Spelling – Year 5</dc:title>
</cp:coreProperties>
</file>