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E1A-C997-4AFF-8B51-46BF5B08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D58-87F5-4A80-88DB-4555B09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13E-0F82-4049-B247-EB3684E6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C1-D1E3-42F9-818A-0742AD69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14F-7FE1-44FF-8F27-8DC2AA8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D3E-F54D-4B9B-9113-20EC515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1C0C-E123-4181-B0AB-93EE312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156F-E151-4FF3-B86B-4CD8CD7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A4D-27CB-48AF-8E93-CE0FC2A1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921D-27F5-4A00-AE74-872E604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629-AEA4-4855-BB48-A5A840A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D92-534A-4079-9B16-D9E17B9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579E-28B8-476B-AF3A-8F368C7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BDA9-E59B-458E-BC6E-8978F5E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1006-B5C4-42A3-88B0-198E53C3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C3EC-EA51-46D6-A945-E72624D2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4AB-B38D-4007-ADFF-5FF5E638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5F6-B84A-491A-8AD1-74D04D6B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24E-EB1B-4BA0-BCD9-CFE4383D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5B7-E883-4335-9F82-57C1F220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673-E5FE-4517-B6F6-A8221DBA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C47-D9B6-44B6-BFE2-683B5AC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D86-2B0B-47EC-B56A-41CF52C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AF3-CEF4-4DB9-9809-143F3F8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33CC-0E60-4195-9CAC-A95F57FD7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34E-34C3-4570-9F5D-0BEB8AEA0F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regular verb endings and to learn irregular tense change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219"/>
          <p:cNvSpPr/>
          <p:nvPr/>
        </p:nvSpPr>
        <p:spPr>
          <a:xfrm>
            <a:off x="179280" y="1171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s a verb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221"/>
          <p:cNvSpPr/>
          <p:nvPr/>
        </p:nvSpPr>
        <p:spPr>
          <a:xfrm>
            <a:off x="179280" y="15890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verb is a doing word. These are important as they tell us what is happen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think of some examples of verb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222"/>
          <p:cNvSpPr/>
          <p:nvPr/>
        </p:nvSpPr>
        <p:spPr>
          <a:xfrm>
            <a:off x="179280" y="316692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 of the most common verbs we use show that we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omething or that something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omething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day I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n apple, yesterday I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 pea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day it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s</a:t>
            </a: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raining, yesterday it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wa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unn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223"/>
          <p:cNvSpPr/>
          <p:nvPr/>
        </p:nvSpPr>
        <p:spPr>
          <a:xfrm>
            <a:off x="179280" y="520380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write your own ‘Today….yesterday…’ sentences using these verb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179280" y="1403280"/>
            <a:ext cx="475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 hops and wobb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over rocks and sto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 whimpers and whisp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and softly moa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n darkness it glow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like the moon in the sk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What is it, this form, this crea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this me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 try and I try to look at its fac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 laugh and cry, I’ve got it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Can you gue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’s a poor alien from outer space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4067280" y="1773360"/>
            <a:ext cx="37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we change the verbs to past tens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333000"/>
            <a:ext cx="76215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Not all verbs follow the spelling patterns for when tense changes. These are known as ‘irregular verbs’ (those that do follow the rules are ‘regular verbs’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change these sentences to past ten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go to schoo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catch a bal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tell a stor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reak a to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low a whistl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sing a song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338640" y="3357720"/>
            <a:ext cx="454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went to schoo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caught a bal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told a stor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roke a to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lew a whistl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sang a song…</a:t>
            </a: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reate a past tense alphabe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Yesterday I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ate an app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bought a bo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caught a fi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drank a cok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reate a past tense poem, starting with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esterday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ng ago…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en I was young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5160" y="1268280"/>
            <a:ext cx="78199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the past tense of these verb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o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mo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r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762280" y="2349360"/>
            <a:ext cx="45464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opp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moan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rri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a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u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21Z</dcterms:modified>
  <cp:revision>41</cp:revision>
  <dc:subject/>
  <dc:title>Spelling – Year 5</dc:title>
</cp:coreProperties>
</file>