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AF5-2EF6-4A00-9C8D-1F4D74D6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400-1A3D-47AB-B8CD-4802C706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189-918D-4D32-8AEC-C63483A2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2D1-E4D3-4EF5-BA62-22D5CE74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A89C-B712-43A5-94B7-04388813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AD3C-BFA7-4042-8298-E8E96177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5A3B-0765-4831-A9E6-AA018201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112F-3331-4EAD-9D34-54F356E5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B47A-064F-4AD5-AC4B-1BC8C7A7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D7D1-1170-42A5-94B9-48F44826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1D99-97E8-4B85-8E87-5DF73434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EF8-0AF6-4EC4-B163-65D0644C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2FAA-6911-4DEE-A810-7DDBDC41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2560-6B59-4466-A8C5-5BB8FF4A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F8D0-410B-4E67-9A79-411E189A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2E12-9176-4E40-A0AE-791E9CAC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9F81-BC5A-48B8-86B1-83C68054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655-28F6-4059-9920-9C2B6921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E3F-EFBE-4CB1-A601-3D51CF27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0F2-444B-484E-98EE-CD3E7C00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753-C120-427F-915F-B0130353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2BF-BFAC-462F-8F95-B605D34B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C8C-33AA-4B29-92DE-31F80690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FC6-E267-40A7-AB5F-796B2FA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CF02-339B-4DD4-BAD5-3FE441C286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B088-816E-4104-945A-87C3D56ED28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develop knowledge of prefixes to generate new words from root wor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468360" y="126828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is a pre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68360" y="162864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How do prefixes change the meaning of a word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2"/>
          <p:cNvSpPr/>
          <p:nvPr/>
        </p:nvSpPr>
        <p:spPr>
          <a:xfrm>
            <a:off x="468360" y="234936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add un- or dis- to these words to alter the meaning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seen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agree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own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appe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ell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lucky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obe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like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fair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ertain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allow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reate sentences using the root word, then the root word and prefix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Text Box 58"/>
          <p:cNvSpPr/>
          <p:nvPr/>
        </p:nvSpPr>
        <p:spPr>
          <a:xfrm>
            <a:off x="324000" y="1628640"/>
            <a:ext cx="748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prefix is added at the beginning of a word, and does not usually change the spelling of the word, but will change the meaning of the word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e’re going to look at the prefixes re-, pre-, de- and mis-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 Box 105"/>
          <p:cNvSpPr/>
          <p:nvPr/>
        </p:nvSpPr>
        <p:spPr>
          <a:xfrm>
            <a:off x="324000" y="381636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ow would these words chang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ycl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ook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frost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understa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rit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view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aid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c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od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ea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106"/>
          <p:cNvSpPr/>
          <p:nvPr/>
        </p:nvSpPr>
        <p:spPr>
          <a:xfrm>
            <a:off x="324000" y="57801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rite sentences using the pairs of word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How many words can you think of that use these prefixes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pre-?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-?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is-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-?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mis-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Look at the prefixes non-, anti- and ex-. How do each of these change the meaning of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50920" y="155736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Sentence challenge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ry to compose a sentence using two or three words with different prefix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I had to defrost the precooked meal before I returned to work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50920" y="155736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prefixes have we looked at this week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am going to read out a sentence. You need to alter the sentence by adding in a prefix and write the new sentenc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I cooked a mea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precooked a meal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7:08Z</dcterms:modified>
  <cp:revision>56</cp:revision>
  <dc:subject/>
  <dc:title>Spelling – Year 5</dc:title>
</cp:coreProperties>
</file>