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4C0-AA9E-4978-83D3-FA1C2E93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806-8738-4779-B83C-C30D1DEB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E5A-5992-4ED7-8D46-825DFEA0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BF2-986D-43AB-9F10-9523FC16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ED10-B40B-492B-885C-A1445162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EF00-D93F-49D7-B1C1-85D60CCD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8BCB-DF4B-4F0B-9478-6B12208A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E66E-8082-42BE-9853-8B65DA02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5E60-41B6-4551-8406-22529950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BAC4-DBCA-4F84-AF91-B7F8B61E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216A-10A0-4208-BB43-0C72266E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252-188C-4B90-A599-CE74F717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8BC0-51C0-45B6-AEE3-FC72061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6FDB-E805-4C67-A34A-968A033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1337-B6F6-42AA-BAD1-9314C16F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1E0C-2A01-4E88-9ECB-FF263127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F1C1-DCF6-418D-88B8-DC7D599A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B94-473F-4BD8-8D4C-C4D1743F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0D6-DF13-4D25-A88E-A4AE78A2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A81-3C45-4653-8B61-5819048A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823-90BE-4EF5-B1C2-5A2BC102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6F1-8B9A-44D6-846A-607B7F1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856-50AF-45AF-BC9A-038CFDCC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813-B5F4-4C2D-8400-471F660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5A3C-0C38-421D-B570-D1EA252E31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BEA-C4D2-4070-9876-9AC4D28BEE6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investigate and learn to spell words with common letter str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letters that often occur together but are not always sound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428760" y="4071960"/>
            <a:ext cx="74293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an be pronounced, and used, in 3 main way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 – li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gh – cau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gh – tough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ompose sentences with ‘gh’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3286080"/>
            <a:ext cx="7500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ould the letter string gh be pronounc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2071800"/>
            <a:ext cx="75009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include kn, mb, and w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words that contain these letter strings?   know, lamb, wri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69720" y="15001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a word with the ight spelling patte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57120" y="24289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words that contain ight, but aren’t pronounced the same as nigh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357120" y="56181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a list of words that contain igh, ough and augh spelling patter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357120" y="39751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words that don’t contain ight, but are pronounced the same as nigh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357120" y="33336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ight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357120" y="4905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i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play ‘Hangman’, using words containing igh, ough and augh spelling patter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words you have containing the spelling patterns igh, augh, and ough. Can you group each set of words according to their pronunciati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85840" y="1071720"/>
            <a:ext cx="76039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going to dictate two sentences and want you to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840" y="2000160"/>
            <a:ext cx="75643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Last night I tried to do my homework, it was toug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re were eight sums I had to get right, using the method we had been taugh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85840" y="434808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these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rough, sight, thought, caught, weight, li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7T12:24:46Z</dcterms:modified>
  <cp:revision>65</cp:revision>
  <dc:subject/>
  <dc:title>Spelling – Year 5</dc:title>
</cp:coreProperties>
</file>