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04F-F68C-4BCB-AD54-797911F4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779-716D-4E8B-B717-02A4A17C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4B8-59F0-43F9-BB19-8D2AAF1D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2AA-86AC-4A36-9269-BAB5D86E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AB2C-CC4C-4F8A-A2A7-841FECD3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3ED5-0FBC-4387-A686-20DAF744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962E-B975-489D-9893-73B974C7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BA22-3370-4060-8683-833E706E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A860-64E2-4D63-8804-DC0C37C2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83C5-8649-48A3-9D59-3ED1D205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495A-3C0F-4075-B3C5-E962383C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0D4-BA06-4DFF-B1EE-FD5BDB33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84DE-2535-4F5F-B64E-8786F6C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9E40-53CC-41B7-B999-383C1A31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FFBF-4B60-44DE-B17F-B4167DAD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562D-59EE-42AB-ADFD-47187089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7FBD-1845-4370-839F-D4D74224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75E-B511-4FA6-8AE9-7972FF20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7BA-4FD9-45AB-A951-DE62EABA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1E6-8A96-456C-B028-0DD9F0B4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C95-D3C5-418E-BA71-8AF8FBB7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46F-584B-4659-BC87-47737402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74F-54EB-46D2-B7D4-35FFCEFD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CE3-D651-428E-8E14-0EBB269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B2FD-2123-46CB-AA81-635A1F3119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62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680"/>
              <a:ext cx="1190520" cy="19386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600"/>
                <a:gd name="textAreaBottom" fmla="*/ 1938960 h 19386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920"/>
              <a:ext cx="1219320" cy="199872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0240"/>
              <a:ext cx="1231920" cy="40341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160"/>
                <a:gd name="textAreaBottom" fmla="*/ 4034520 h 40341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0600"/>
              <a:ext cx="979560" cy="21826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2680"/>
                <a:gd name="textAreaBottom" fmla="*/ 2183040 h 21826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1280"/>
              <a:ext cx="914400" cy="5044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4680"/>
                <a:gd name="textAreaBottom" fmla="*/ 5044680 h 50446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6400"/>
              <a:ext cx="909720" cy="30693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360"/>
                <a:gd name="textAreaBottom" fmla="*/ 3069720 h 306936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320"/>
              <a:ext cx="576360" cy="33501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160"/>
                <a:gd name="textAreaBottom" fmla="*/ 3350520 h 33501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760"/>
              <a:ext cx="300240" cy="33505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0520"/>
                <a:gd name="textAreaBottom" fmla="*/ 3350880 h 33505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6480" y="3318120"/>
              <a:ext cx="6853320" cy="225360"/>
            </a:xfrm>
            <a:custGeom>
              <a:avLst/>
              <a:gdLst>
                <a:gd name="textAreaLeft" fmla="*/ 667800 w 6853320"/>
                <a:gd name="textAreaRight" fmla="*/ 6185520 w 68533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9CAD-E67E-4ECB-8B0F-904D4D9B099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investigate, collect and classify spelling patterns related to the formation of plural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468360" y="126828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we mean by singular and plural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471600" y="1781280"/>
            <a:ext cx="738648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we already know about what happens when we change words from singular to plural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471600" y="4572000"/>
            <a:ext cx="73864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most words just add –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words that end in a hissing, buzzing or shushing sound (e.g. z, ss, ch, sh) add –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words that end consonant y, drop the y and add –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471600" y="2924280"/>
            <a:ext cx="73864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reate sentences using singular and plural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230"/>
          <p:cNvSpPr/>
          <p:nvPr/>
        </p:nvSpPr>
        <p:spPr>
          <a:xfrm>
            <a:off x="471600" y="37101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rules for changing from singular to plural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Text Box 58"/>
          <p:cNvSpPr/>
          <p:nvPr/>
        </p:nvSpPr>
        <p:spPr>
          <a:xfrm>
            <a:off x="369720" y="15001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the plural for these singular 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357120" y="2286000"/>
            <a:ext cx="157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Straight Connector 11"/>
          <p:cNvSpPr/>
          <p:nvPr/>
        </p:nvSpPr>
        <p:spPr>
          <a:xfrm>
            <a:off x="2000160" y="260676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2000160" y="296388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Straight Connector 13"/>
          <p:cNvSpPr/>
          <p:nvPr/>
        </p:nvSpPr>
        <p:spPr>
          <a:xfrm>
            <a:off x="2000160" y="339264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Straight Connector 14"/>
          <p:cNvSpPr/>
          <p:nvPr/>
        </p:nvSpPr>
        <p:spPr>
          <a:xfrm>
            <a:off x="2000160" y="382104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Straight Connector 15"/>
          <p:cNvSpPr/>
          <p:nvPr/>
        </p:nvSpPr>
        <p:spPr>
          <a:xfrm>
            <a:off x="2000160" y="424980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Straight Connector 16"/>
          <p:cNvSpPr/>
          <p:nvPr/>
        </p:nvSpPr>
        <p:spPr>
          <a:xfrm>
            <a:off x="2000160" y="467820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58"/>
          <p:cNvSpPr/>
          <p:nvPr/>
        </p:nvSpPr>
        <p:spPr>
          <a:xfrm>
            <a:off x="5357880" y="2286000"/>
            <a:ext cx="185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urch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nch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1" name="Straight Arrow Connector 19"/>
          <p:cNvCxnSpPr/>
          <p:nvPr/>
        </p:nvCxnSpPr>
        <p:spPr>
          <a:xfrm>
            <a:off x="3928680" y="2606760"/>
            <a:ext cx="1143720" cy="21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2" name="Straight Arrow Connector 25"/>
          <p:cNvCxnSpPr/>
          <p:nvPr/>
        </p:nvCxnSpPr>
        <p:spPr>
          <a:xfrm>
            <a:off x="3928680" y="2962440"/>
            <a:ext cx="1143720" cy="21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3" name="Straight Arrow Connector 26"/>
          <p:cNvCxnSpPr/>
          <p:nvPr/>
        </p:nvCxnSpPr>
        <p:spPr>
          <a:xfrm>
            <a:off x="3928680" y="3390480"/>
            <a:ext cx="1143720" cy="25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4" name="Straight Arrow Connector 27"/>
          <p:cNvCxnSpPr/>
          <p:nvPr/>
        </p:nvCxnSpPr>
        <p:spPr>
          <a:xfrm>
            <a:off x="3928680" y="3819600"/>
            <a:ext cx="1143720" cy="21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5" name="Straight Arrow Connector 28"/>
          <p:cNvCxnSpPr/>
          <p:nvPr/>
        </p:nvCxnSpPr>
        <p:spPr>
          <a:xfrm>
            <a:off x="3928680" y="4247640"/>
            <a:ext cx="1143720" cy="25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6" name="Straight Arrow Connector 29"/>
          <p:cNvCxnSpPr/>
          <p:nvPr/>
        </p:nvCxnSpPr>
        <p:spPr>
          <a:xfrm>
            <a:off x="3928680" y="4676760"/>
            <a:ext cx="1143720" cy="21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217" name="Text Box 58"/>
          <p:cNvSpPr/>
          <p:nvPr/>
        </p:nvSpPr>
        <p:spPr>
          <a:xfrm>
            <a:off x="357120" y="48578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happens when a word ends in f or f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357120" y="528624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most words that end in f or fe, we drop the f/fe and add –ves (this is not the case if a word ends in ff, where –s is added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group the words on your table according to how they alter when changed from singular to plural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put the words into sentenc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following irregular plurals. They are irregular because they do not follow the normal rules of plurals. Can you work out strategies for spelling them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s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ee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us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i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man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om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th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ee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hildr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eo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ot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ee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85840" y="5072040"/>
            <a:ext cx="757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any plural words that have no singular? (eg scissor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any words that are the same when singular or plural? (eg sheep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142920" y="1071720"/>
            <a:ext cx="7746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rewrite these sentences but using plurals of the underlined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il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d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andwi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oa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bread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ward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o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ash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gi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lean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omplete the passage using plural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il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d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andwi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oa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bread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e children made sandwiches from loaves of brea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ward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o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ash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gi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lean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Afterwards the boys washed the dishes and the girls cleaned the tabl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8:45Z</dcterms:modified>
  <cp:revision>61</cp:revision>
  <dc:subject/>
  <dc:title>Spelling – Year 5</dc:title>
</cp:coreProperties>
</file>