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43E-7538-4924-84D8-5137D71D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D90-FBCC-4F6A-A858-20F94D7A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25E-A418-448B-ABC8-9F01219D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84D-4099-4229-BA18-59B9BF5B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7B25-3FA7-4E3C-8FF4-21D8473B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0151-A3FB-4240-8A53-B7E1DA2C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7DA0-DE7F-4544-A46E-51054BB2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37F5-65F0-4FFF-B055-7D1E6794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1852-CC1F-45D5-AA58-4FD14CBE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54CF-68F9-4EB0-BCA2-6A29C9CF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7809-3F15-43EA-B9AF-2D7376A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77A-1C30-4E42-A6D3-18263F62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6EC9-C358-4434-A109-3E5F546B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1C16-CA5C-48FE-B22B-F278444A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2800-713C-4641-B8BD-D556A290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299C-A456-4A4D-8623-EBDD28A3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6AD1-32A3-4EAA-968C-A3207829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4A3-552A-448B-B115-E3692473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FCB-3464-49B6-8450-044B941B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6C8-092A-4C79-B739-8B79E137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016-3CDC-4F36-81A7-DFF9E8A1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D40-086E-4D98-9AE6-4E75835A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1A9-B207-42F5-B8D4-4F68CA12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AF8-082D-463B-9E5E-DE3A620E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F9DB-0581-4435-86C6-42EA33B461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57A0-B859-4D11-91D8-714AB617C86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distinguish between the spelling and meaning of homophon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468360" y="126828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A homophone is a word that sounds the same as another, but is spelt differentl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think of any exampl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68360" y="162864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2"/>
          <p:cNvSpPr/>
          <p:nvPr/>
        </p:nvSpPr>
        <p:spPr>
          <a:xfrm>
            <a:off x="428760" y="235728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471600" y="25671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mail/male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see/sea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d/re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bare/bear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knew/new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think of sentences that use these words in context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Postman Pat put the mail through the letterbox. He has a male cat, called Jes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Text Box 58"/>
          <p:cNvSpPr/>
          <p:nvPr/>
        </p:nvSpPr>
        <p:spPr>
          <a:xfrm>
            <a:off x="369720" y="162864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o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does each spelling of the homophone mean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369720" y="16430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ook at this homophone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- goes before (precedes) a verb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- a numb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- as well, also, more tha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58"/>
          <p:cNvSpPr/>
          <p:nvPr/>
        </p:nvSpPr>
        <p:spPr>
          <a:xfrm>
            <a:off x="357120" y="395604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 am going to say a sentence. Can you hold up the correct spelling of to/two/too that fits in the sentenc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357120" y="48132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about these homophones: wear/where, see/sea, new/knew, eight/ate, know/no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homophones can you think of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identify the meaning of each spelling of the homophone and then use each in a sentenc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their/they’re/the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hey’re getting their ball from over ther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’m going to say bye as I need to go to the shops by my house to buy some te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50920" y="155736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complete the sentences on your sheet by choosing the correct homophon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250920" y="155736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is a homophon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think of some examples of homophon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14200" y="2921040"/>
            <a:ext cx="741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am going to read two sentences. Can you pick the correct spelling of the homophone in each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214200" y="4206960"/>
            <a:ext cx="741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am going to dictate two sentences. Can you write them using the correct spelling in your book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6:46Z</dcterms:modified>
  <cp:revision>57</cp:revision>
  <dc:subject/>
  <dc:title>Spelling – Year 5</dc:title>
</cp:coreProperties>
</file>