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789E-301C-495B-B0E7-BF4DA310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BCD-DFEA-42BF-B773-1519139B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F9F-2A0F-4B21-B043-C52206C0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9E9C-CB88-497C-816D-18C6880E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AE83-4CE9-449A-BCB0-14B111C7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B323-1950-4FBE-AFA1-CEDAE7F2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BC27-0515-4404-8055-868E86D7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B170-06AB-4F03-BD25-D915AD9B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CD59-F02A-4191-8D93-95767112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30F8-3B8D-4D5A-B36D-B4FD5604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5175-EDEC-4AA2-BB72-4563A9FA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FA9-F5A8-4371-B0B3-8415F800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EDBE-46FC-4126-B56E-BF074D05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87CE-DBB3-48D8-B91B-1E205042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1875-5600-499F-8694-F9A7CDC4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FE15-08F2-495D-ACCD-EFFE60BF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E2AE-5B76-4B54-B92B-EA26E53D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D8B-1392-4CA8-9411-D3129D64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B2E3-7BF2-4CA7-A9E2-58979391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A940-6D55-4083-BF3B-9FC0C347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57A-E33B-423B-AEF9-1A76F443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475-3A73-47A4-BE4F-6EEB6DF3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3CEA-408C-45F9-A3FA-8376CE6E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3E10-D163-4023-87A7-A50B7CF5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408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148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18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7D35-EA2D-438D-BCC4-4CB73EDBD2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756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7560"/>
              <a:ext cx="1203120" cy="685008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5920"/>
                <a:chOff x="8381880" y="360"/>
                <a:chExt cx="762120" cy="227592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3800" y="360"/>
                  <a:ext cx="279360" cy="275400"/>
                  <a:chOff x="871380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3800" y="360"/>
                    <a:ext cx="279360" cy="275400"/>
                    <a:chOff x="871380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268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204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3320" y="1371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708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800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748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3320" y="19908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1840" y="1742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61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61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07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0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49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5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59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64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5960"/>
                <a:ext cx="828720" cy="4704120"/>
                <a:chOff x="7848720" y="1605960"/>
                <a:chExt cx="828720" cy="470412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5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0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8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7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9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4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0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6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8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9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7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4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1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0760"/>
              <a:ext cx="1190520" cy="19375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7520"/>
                <a:gd name="textAreaBottom" fmla="*/ 1937880 h 19375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0000"/>
              <a:ext cx="1219320" cy="19976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7640"/>
                <a:gd name="textAreaBottom" fmla="*/ 1998000 h 19976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2040"/>
              <a:ext cx="1231920" cy="40323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2360"/>
                <a:gd name="textAreaBottom" fmla="*/ 4032720 h 40323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2040"/>
              <a:ext cx="979560" cy="21819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1960"/>
                <a:gd name="textAreaBottom" fmla="*/ 2182320 h 21819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4160"/>
              <a:ext cx="914400" cy="50421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2160"/>
                <a:gd name="textAreaBottom" fmla="*/ 5042520 h 504216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9640"/>
              <a:ext cx="909720" cy="30679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7920"/>
                <a:gd name="textAreaBottom" fmla="*/ 3068280 h 30679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7560"/>
              <a:ext cx="576360" cy="33487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48720"/>
                <a:gd name="textAreaBottom" fmla="*/ 3349080 h 33487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9000"/>
              <a:ext cx="300240" cy="334908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49080"/>
                <a:gd name="textAreaBottom" fmla="*/ 3349440 h 33490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9000"/>
              <a:ext cx="88920" cy="685008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160"/>
              <a:ext cx="1165320" cy="61848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7920" y="3319920"/>
              <a:ext cx="6850080" cy="225360"/>
            </a:xfrm>
            <a:custGeom>
              <a:avLst/>
              <a:gdLst>
                <a:gd name="textAreaLeft" fmla="*/ 667440 w 6850080"/>
                <a:gd name="textAreaRight" fmla="*/ 6182640 w 685008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42CD-C53E-4C68-A800-75B20B42F87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understand the use of the apostrophe in contracted forms of word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Rectangle 230"/>
          <p:cNvSpPr/>
          <p:nvPr/>
        </p:nvSpPr>
        <p:spPr>
          <a:xfrm>
            <a:off x="357120" y="1268280"/>
            <a:ext cx="7497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following examples of headline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m: We’ve got 40 days to wi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nger: I haven’t forgiven Taylor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on: I’ve paid the pric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231"/>
          <p:cNvSpPr/>
          <p:nvPr/>
        </p:nvSpPr>
        <p:spPr>
          <a:xfrm>
            <a:off x="428760" y="1785960"/>
            <a:ext cx="738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30"/>
          <p:cNvSpPr/>
          <p:nvPr/>
        </p:nvSpPr>
        <p:spPr>
          <a:xfrm>
            <a:off x="357120" y="4429080"/>
            <a:ext cx="75009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230"/>
          <p:cNvSpPr/>
          <p:nvPr/>
        </p:nvSpPr>
        <p:spPr>
          <a:xfrm>
            <a:off x="357120" y="3567240"/>
            <a:ext cx="75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230"/>
          <p:cNvSpPr/>
          <p:nvPr/>
        </p:nvSpPr>
        <p:spPr>
          <a:xfrm>
            <a:off x="357120" y="4352760"/>
            <a:ext cx="750096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Rectangle 230"/>
          <p:cNvSpPr/>
          <p:nvPr/>
        </p:nvSpPr>
        <p:spPr>
          <a:xfrm>
            <a:off x="357120" y="3125880"/>
            <a:ext cx="749772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are the apostrophes?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has an apostrophe been us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Rectangle 230"/>
          <p:cNvSpPr/>
          <p:nvPr/>
        </p:nvSpPr>
        <p:spPr>
          <a:xfrm>
            <a:off x="357120" y="4054320"/>
            <a:ext cx="7497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postrophe represents missing letters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e joining of two word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Rectangle 230"/>
          <p:cNvSpPr/>
          <p:nvPr/>
        </p:nvSpPr>
        <p:spPr>
          <a:xfrm>
            <a:off x="357120" y="4786200"/>
            <a:ext cx="7497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pairs, one person say a sentence which includes contracted words ( words with apostrophes), the other should then say the same sentence with full words, e.g. I’ve not had breakfast.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 have not had breakfast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Text Box 58"/>
          <p:cNvSpPr/>
          <p:nvPr/>
        </p:nvSpPr>
        <p:spPr>
          <a:xfrm>
            <a:off x="369720" y="1500120"/>
            <a:ext cx="62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is an apostrophe us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Text Box 58"/>
          <p:cNvSpPr/>
          <p:nvPr/>
        </p:nvSpPr>
        <p:spPr>
          <a:xfrm>
            <a:off x="357120" y="19288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write the full form of the following contracted word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Text Box 58"/>
          <p:cNvSpPr/>
          <p:nvPr/>
        </p:nvSpPr>
        <p:spPr>
          <a:xfrm>
            <a:off x="1512720" y="283356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Text Box 58"/>
          <p:cNvSpPr/>
          <p:nvPr/>
        </p:nvSpPr>
        <p:spPr>
          <a:xfrm>
            <a:off x="1512720" y="326232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Text Box 58"/>
          <p:cNvSpPr/>
          <p:nvPr/>
        </p:nvSpPr>
        <p:spPr>
          <a:xfrm>
            <a:off x="1512720" y="369108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ha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Text Box 58"/>
          <p:cNvSpPr/>
          <p:nvPr/>
        </p:nvSpPr>
        <p:spPr>
          <a:xfrm>
            <a:off x="1512720" y="411948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Text Box 58"/>
          <p:cNvSpPr/>
          <p:nvPr/>
        </p:nvSpPr>
        <p:spPr>
          <a:xfrm>
            <a:off x="1512720" y="4548240"/>
            <a:ext cx="19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a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Text Box 58"/>
          <p:cNvSpPr/>
          <p:nvPr/>
        </p:nvSpPr>
        <p:spPr>
          <a:xfrm>
            <a:off x="1512720" y="4976640"/>
            <a:ext cx="22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Text Box 58"/>
          <p:cNvSpPr/>
          <p:nvPr/>
        </p:nvSpPr>
        <p:spPr>
          <a:xfrm>
            <a:off x="369720" y="283356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Text Box 58"/>
          <p:cNvSpPr/>
          <p:nvPr/>
        </p:nvSpPr>
        <p:spPr>
          <a:xfrm>
            <a:off x="369720" y="326232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n’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Text Box 58"/>
          <p:cNvSpPr/>
          <p:nvPr/>
        </p:nvSpPr>
        <p:spPr>
          <a:xfrm>
            <a:off x="369720" y="369108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’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Text Box 58"/>
          <p:cNvSpPr/>
          <p:nvPr/>
        </p:nvSpPr>
        <p:spPr>
          <a:xfrm>
            <a:off x="369720" y="411948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n’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Text Box 58"/>
          <p:cNvSpPr/>
          <p:nvPr/>
        </p:nvSpPr>
        <p:spPr>
          <a:xfrm>
            <a:off x="369720" y="4548240"/>
            <a:ext cx="19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’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Text Box 58"/>
          <p:cNvSpPr/>
          <p:nvPr/>
        </p:nvSpPr>
        <p:spPr>
          <a:xfrm>
            <a:off x="369720" y="4976640"/>
            <a:ext cx="22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n’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Text Box 58"/>
          <p:cNvSpPr/>
          <p:nvPr/>
        </p:nvSpPr>
        <p:spPr>
          <a:xfrm>
            <a:off x="4143240" y="283356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’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Text Box 58"/>
          <p:cNvSpPr/>
          <p:nvPr/>
        </p:nvSpPr>
        <p:spPr>
          <a:xfrm>
            <a:off x="4143240" y="326232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’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Text Box 58"/>
          <p:cNvSpPr/>
          <p:nvPr/>
        </p:nvSpPr>
        <p:spPr>
          <a:xfrm>
            <a:off x="4143240" y="369108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’l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Text Box 58"/>
          <p:cNvSpPr/>
          <p:nvPr/>
        </p:nvSpPr>
        <p:spPr>
          <a:xfrm>
            <a:off x="4143240" y="411948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n’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Text Box 58"/>
          <p:cNvSpPr/>
          <p:nvPr/>
        </p:nvSpPr>
        <p:spPr>
          <a:xfrm>
            <a:off x="4143240" y="4548240"/>
            <a:ext cx="19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n’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Text Box 58"/>
          <p:cNvSpPr/>
          <p:nvPr/>
        </p:nvSpPr>
        <p:spPr>
          <a:xfrm>
            <a:off x="4143240" y="4976640"/>
            <a:ext cx="22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’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Text Box 58"/>
          <p:cNvSpPr/>
          <p:nvPr/>
        </p:nvSpPr>
        <p:spPr>
          <a:xfrm>
            <a:off x="5513400" y="2833560"/>
            <a:ext cx="22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Text Box 58"/>
          <p:cNvSpPr/>
          <p:nvPr/>
        </p:nvSpPr>
        <p:spPr>
          <a:xfrm>
            <a:off x="5513400" y="326232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 woul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Text Box 58"/>
          <p:cNvSpPr/>
          <p:nvPr/>
        </p:nvSpPr>
        <p:spPr>
          <a:xfrm>
            <a:off x="5513400" y="3691080"/>
            <a:ext cx="24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wil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Text Box 58"/>
          <p:cNvSpPr/>
          <p:nvPr/>
        </p:nvSpPr>
        <p:spPr>
          <a:xfrm>
            <a:off x="5513400" y="411948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Text Box 58"/>
          <p:cNvSpPr/>
          <p:nvPr/>
        </p:nvSpPr>
        <p:spPr>
          <a:xfrm>
            <a:off x="5513400" y="4548240"/>
            <a:ext cx="24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Text Box 58"/>
          <p:cNvSpPr/>
          <p:nvPr/>
        </p:nvSpPr>
        <p:spPr>
          <a:xfrm>
            <a:off x="5513400" y="4976640"/>
            <a:ext cx="22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ha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58"/>
          <p:cNvSpPr/>
          <p:nvPr/>
        </p:nvSpPr>
        <p:spPr>
          <a:xfrm>
            <a:off x="357120" y="357120"/>
            <a:ext cx="7488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is a special case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’s mean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t ha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but its means belonging t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hold up the correct it’s/its for each sentenc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…raining today (it’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he cat licked … paws (it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ovely day toda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se coat is this? … mine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lephant raised … trunk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ry’s birthday toda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ook had lost … last pag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find contracted words in your book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the contracted word and its full form in your book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don’t – do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Rectangle 74"/>
          <p:cNvSpPr/>
          <p:nvPr/>
        </p:nvSpPr>
        <p:spPr>
          <a:xfrm>
            <a:off x="250920" y="458136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50920" y="1557360"/>
            <a:ext cx="7416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a sentence using the contracted form of a word. Then write the same sentence but using the full form of the wor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Sophie realised she’d broken her mums plat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phie realised she had broken her mums plat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285840" y="1562040"/>
            <a:ext cx="7603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0" y="2000160"/>
            <a:ext cx="78501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0" y="585792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285840" y="2500200"/>
            <a:ext cx="75643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285840" y="4786200"/>
            <a:ext cx="7603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285840" y="1276200"/>
            <a:ext cx="7603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write three contracted words and their full forms on your boar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285840" y="2428920"/>
            <a:ext cx="7603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write the contracted forms of these word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 ha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wil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a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ha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currys</cp:lastModifiedBy>
  <dcterms:modified xsi:type="dcterms:W3CDTF">2010-06-28T12:50:57Z</dcterms:modified>
  <cp:revision>74</cp:revision>
  <dc:subject/>
  <dc:title>Spelling – Year 5</dc:title>
</cp:coreProperties>
</file>