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6CD-D5EE-40D8-8177-7FF9566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A4D-F352-4D85-B46E-64207CB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4C7-1199-48D9-AB45-2804D60F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99A-758C-43B8-AA82-793C6CC5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893-F26F-47F9-B3EB-922EB5C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A14-4FCD-42E7-9796-C32D25E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E8D0-006C-4EF2-9765-88DFCA0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71FE-327E-439A-ADF5-B0C1C71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6C5-EC0D-460B-A6C2-6C6153D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DE02-CA6F-4240-B073-0CA1AD5E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CFD8-DA23-42D9-AB60-A911911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967-E0DD-45BD-AD81-3917B0C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C3C7-B9A8-422B-98DF-5D604F1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3212-9F63-4B44-AC7C-413AA8E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3A0A-0B83-4FC0-9EBA-0AC8F06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0CB9-4683-4FBC-9A6A-95F62BD5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49A-846A-4435-BD9E-FD2AD2A3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DFA-992B-430D-8174-E9053BCB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7F5-FE19-44BB-893E-0FE1772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A23-DABF-4196-A0EE-84525F3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E20-6B57-47AF-91C1-5F5775BC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73C-3DB6-47DB-8951-0042DE8C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7DF-785D-4C96-81F2-2DB49909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FE4-7CF7-4FFA-8157-6F65B0C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35C1-8C8A-4BB5-9210-97B6C73BA8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8F7-253B-4DDE-81A3-08053FBFF0C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how suffixes change the function of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3071880"/>
            <a:ext cx="74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-y, -er, -est, -ly, -ful, -able, -ed, -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2571840"/>
            <a:ext cx="7500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mmon suffixes have we looked a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17146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an give an example of a suffix and how it might be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to words when suffixes are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aning of the word chan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be looking at this further this wee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look at how adding each suffix changes the meaning of w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69720" y="15001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n adjective? noun? verb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57120" y="19288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give an example of each and use it in a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40719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simp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p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beau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loo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57120" y="278604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reate verbs we can use the suffixes -en and -ify. Can you use them to create verbs from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57120" y="407196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engt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simpl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plify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ngt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pur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urif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igh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aight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beauty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autif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gh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ight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loo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s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57120" y="5786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examples of where -able is used to create adjectiv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llect words that contain suf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words you have containing suffixes. Can you identify the root word for each and how the meaning has chang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I wanted to strengthen the table, to make it more usa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children were comfortable, once they had straightened the cushio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85840" y="484812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happiness, enjoyable, simplify, loosen, laziness, agreeable, beautify, deep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85840" y="10620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rules for adding suf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7T12:25:19Z</dcterms:modified>
  <cp:revision>68</cp:revision>
  <dc:subject/>
  <dc:title>Spelling – Year 5</dc:title>
</cp:coreProperties>
</file>