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241-C247-4CB4-8CCC-6922050A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7A1-CA2F-438B-9B9F-506587B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81B-2D24-4061-9FD3-DF8EDFA4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356-62CD-4A88-B533-30CC13A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2025-2525-409B-96DF-6135D949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2EE3-33E8-475C-AA6C-542D0E1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0D1D-FD46-45A5-8ACD-A1E482F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AA1D-9C12-4B90-94F7-EEF3401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B91-3EDB-4F48-B132-558849C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1499-50DF-4C1B-B5A8-2CED945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93A-0CFC-4145-97FB-B76EBA7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14A-252F-4841-9132-792D83CB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609-26B1-4ACE-B76B-2D0DC72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4E4A-8A53-45E1-8538-14CF7BB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2330-B47B-4288-914C-AD3A3E3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8D8-3F2F-4982-92B7-158B88E2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CAC9-1FC2-48F8-8C7F-3D3BCB5F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F24-1A7C-401F-9296-AF1CAE1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4C8-01CC-487B-8C55-8CB66761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D02-CC13-4580-850A-5AAF4BED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4B8-44D3-49E7-BD1E-E2FE2AFB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0E4-DADF-4E98-8688-A52DCF2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F92-2F37-40EA-BBA6-EE04E6A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8B0-4FBB-4086-B159-B9A49207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603E-46F5-4815-9BE9-8ADA05A8F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360"/>
                  <a:ext cx="279360" cy="275400"/>
                  <a:chOff x="871380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360"/>
                    <a:ext cx="279360" cy="275400"/>
                    <a:chOff x="871380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640"/>
                <a:gd name="textAreaBottom" fmla="*/ 1998000 h 19976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2360"/>
                <a:gd name="textAreaBottom" fmla="*/ 4032720 h 40323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960"/>
                <a:gd name="textAreaBottom" fmla="*/ 2182320 h 21819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920"/>
                <a:gd name="textAreaBottom" fmla="*/ 3068280 h 30679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720"/>
                <a:gd name="textAreaBottom" fmla="*/ 3349080 h 33487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9080"/>
                <a:gd name="textAreaBottom" fmla="*/ 3349440 h 33490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3DB1-533D-4DBA-87CB-CD987E9F674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revise and investigate links between meaning and spelling when using affix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14280" y="1339920"/>
            <a:ext cx="7497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24000" y="227664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eral term for prefixes and suffixes is af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14280" y="17715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24000" y="313992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ds that have both a prefix and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ar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230"/>
          <p:cNvSpPr/>
          <p:nvPr/>
        </p:nvSpPr>
        <p:spPr>
          <a:xfrm>
            <a:off x="324000" y="45813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words that have a prefix or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69720" y="1500120"/>
            <a:ext cx="744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ork out the meaning of the following prefix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graph, autobiograph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m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mferen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, telesco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, transf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69720" y="1484280"/>
            <a:ext cx="744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ro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24000" y="4138560"/>
            <a:ext cx="74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ds that use these pre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five words with either prefixes or suffixes that you didn’t know befo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up the meaning of each word in a dictiona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words to which more than one suffix could be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 – correc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correc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– 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ul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81160" y="183996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of words with both a suffix and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277488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dictate two sentences,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50920" y="356724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The children were transported on a minibus to the circu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They asked the clowns for their autographs then they returned hom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9:35Z</dcterms:modified>
  <cp:revision>78</cp:revision>
  <dc:subject/>
  <dc:title>Spelling – Year 5</dc:title>
</cp:coreProperties>
</file>