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13AA-F6E1-4C4B-B51A-E26AAE703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C7DD-6CB8-448C-8FAA-AF1F1E3FA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54FE-DDD0-4FD5-88B3-B6AAEC131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0CAD-F615-4C7A-925C-C8BCD9509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5AFCD-9B32-4836-9F99-B594AD8B3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C9BC0-053F-4505-B8D7-090A3CBD7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94971-C733-4658-A393-0C3167D89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A23EE-E2C2-4E84-84F0-7DC2C7034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F5D6D-F7BD-435D-BBE0-A4F040743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6AB03-E488-4B77-8514-A480AF9EA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5009D-14F8-458D-884B-E2723C2C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39EE-E47A-446F-8B14-79EEE87F3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B90A5-6211-427A-8B65-97825C390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717AD-E7B9-48CF-B614-1E93340B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B0A53-E937-4B07-803B-93E8291F8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E8AAC-E87A-447D-ACD2-E69E886B9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C4754-6841-4420-BB77-876AA0665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CAD4-E09E-40BF-A39D-45FAA19B8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2D25-3B04-49BC-BF7D-FA57BB855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E16D-6AC5-44F0-8BF7-52EB6C3A8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0E4B-48DE-4FB0-94ED-5B520D739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B024-C12D-4EA7-8A24-6F40DD95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F7BC-730F-4553-86B0-740FBBC2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B263-7BC6-4E26-859C-D05D440F5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6120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4860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9828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C7D66-9FFD-4B1E-8D46-E17421C77FB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-360"/>
            <a:ext cx="9159840" cy="6870600"/>
            <a:chOff x="0" y="-36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600"/>
              <a:ext cx="8078760" cy="22464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1080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10800"/>
              <a:ext cx="1203120" cy="684684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-360"/>
              <a:ext cx="1295280" cy="6310800"/>
              <a:chOff x="7848720" y="-360"/>
              <a:chExt cx="1295280" cy="63108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-360"/>
                <a:ext cx="762120" cy="2278800"/>
                <a:chOff x="8381880" y="-360"/>
                <a:chExt cx="762120" cy="227880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17040" y="-360"/>
                  <a:ext cx="279360" cy="275400"/>
                  <a:chOff x="8717040" y="-360"/>
                  <a:chExt cx="279360" cy="27540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17040" y="-360"/>
                    <a:ext cx="279360" cy="275400"/>
                    <a:chOff x="8717040" y="-360"/>
                    <a:chExt cx="279360" cy="27540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55920" y="-3924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65280" y="91800"/>
                      <a:ext cx="140760" cy="225360"/>
                    </a:xfrm>
                    <a:custGeom>
                      <a:avLst/>
                      <a:gdLst>
                        <a:gd name="textAreaLeft" fmla="*/ 0 w 140760"/>
                        <a:gd name="textAreaRight" fmla="*/ 141120 w 14076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36560" y="13968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70320" y="71640"/>
                    <a:ext cx="42480" cy="57240"/>
                  </a:xfrm>
                  <a:custGeom>
                    <a:avLst/>
                    <a:gdLst>
                      <a:gd name="textAreaLeft" fmla="*/ 0 w 42480"/>
                      <a:gd name="textAreaRight" fmla="*/ 42840 w 4248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41240" y="5904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10720" y="10872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36560" y="20160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85080" y="17712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3904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3904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4360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2376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4744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832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848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864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8480"/>
                <a:ext cx="828720" cy="4701960"/>
                <a:chOff x="7848720" y="1608480"/>
                <a:chExt cx="828720" cy="470196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848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1268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2108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932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90124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580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8212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860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1036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9052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876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688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700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944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960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188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4012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2064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836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11480"/>
              <a:ext cx="1190520" cy="193680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36800"/>
                <a:gd name="textAreaBottom" fmla="*/ 1937160 h 193680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61080"/>
              <a:ext cx="1219320" cy="19965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1996560"/>
                <a:gd name="textAreaBottom" fmla="*/ 1996920 h 19965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24200"/>
              <a:ext cx="1231920" cy="403020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0200"/>
                <a:gd name="textAreaBottom" fmla="*/ 4030560 h 403020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43840"/>
              <a:ext cx="979560" cy="21808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0880"/>
                <a:gd name="textAreaBottom" fmla="*/ 2181240 h 21808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37400"/>
              <a:ext cx="914400" cy="504000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0000"/>
                <a:gd name="textAreaBottom" fmla="*/ 5040360 h 504000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72520"/>
              <a:ext cx="909720" cy="306648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66480"/>
                <a:gd name="textAreaBottom" fmla="*/ 3066840 h 306648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10800"/>
              <a:ext cx="576360" cy="334692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46920"/>
                <a:gd name="textAreaBottom" fmla="*/ 3347280 h 334692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2240"/>
              <a:ext cx="300240" cy="334728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47280"/>
                <a:gd name="textAreaBottom" fmla="*/ 3347640 h 33472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2240"/>
              <a:ext cx="88920" cy="684684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30160"/>
              <a:ext cx="1165320" cy="61812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8120"/>
                <a:gd name="textAreaBottom" fmla="*/ 618480 h 61812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9720" y="3321360"/>
              <a:ext cx="6846840" cy="225360"/>
            </a:xfrm>
            <a:custGeom>
              <a:avLst/>
              <a:gdLst>
                <a:gd name="textAreaLeft" fmla="*/ 667080 w 6846840"/>
                <a:gd name="textAreaRight" fmla="*/ 6179760 w 684684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210DB-A5F0-4FAF-B2ED-2A7E5328A1D1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Spelling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547280" y="3500280"/>
            <a:ext cx="5820120" cy="21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To explore less common prefixes and suffixes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Revisit, Explain, Us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Rectangle 230"/>
          <p:cNvSpPr/>
          <p:nvPr/>
        </p:nvSpPr>
        <p:spPr>
          <a:xfrm>
            <a:off x="357120" y="1268280"/>
            <a:ext cx="74977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is a prefix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6" name="Rectangle 231"/>
          <p:cNvSpPr/>
          <p:nvPr/>
        </p:nvSpPr>
        <p:spPr>
          <a:xfrm>
            <a:off x="428760" y="1785960"/>
            <a:ext cx="73864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7" name="Rectangle 230"/>
          <p:cNvSpPr/>
          <p:nvPr/>
        </p:nvSpPr>
        <p:spPr>
          <a:xfrm>
            <a:off x="395280" y="2852640"/>
            <a:ext cx="742968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you write a word beginning with the prefix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-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is-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-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Rectangle 230"/>
          <p:cNvSpPr/>
          <p:nvPr/>
        </p:nvSpPr>
        <p:spPr>
          <a:xfrm>
            <a:off x="324000" y="1628640"/>
            <a:ext cx="74977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efix can change the meaning of a word, for example un- (happy/ unhappy), and dis- (appear/ disappear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9" name="Rectangle 230"/>
          <p:cNvSpPr/>
          <p:nvPr/>
        </p:nvSpPr>
        <p:spPr>
          <a:xfrm>
            <a:off x="395280" y="5084640"/>
            <a:ext cx="742968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king with a partner, state a sentence using a word containing one of the three given prefixes, then your partner should state the opposite sentence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Teach, Model, Defin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Text Box 58"/>
          <p:cNvSpPr/>
          <p:nvPr/>
        </p:nvSpPr>
        <p:spPr>
          <a:xfrm>
            <a:off x="369720" y="1500120"/>
            <a:ext cx="74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ds that have opposite meanings can be known as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ntonym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Text Box 58"/>
          <p:cNvSpPr/>
          <p:nvPr/>
        </p:nvSpPr>
        <p:spPr>
          <a:xfrm>
            <a:off x="357120" y="2349360"/>
            <a:ext cx="74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are going to be looking at antonyms, using unusual prefixes meaning not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Text Box 58"/>
          <p:cNvSpPr/>
          <p:nvPr/>
        </p:nvSpPr>
        <p:spPr>
          <a:xfrm>
            <a:off x="0" y="3195720"/>
            <a:ext cx="7885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se are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r-, for words beginning with r (regular/irregular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l-, for words beginning with l (legal/illegal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-, for words beginning with m, b or p (mature/immature, balance/imbalance, polite/impolite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-, meaning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active/inactive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7d47d"/>
                </a:solidFill>
                <a:latin typeface="Arial"/>
              </a:rPr>
              <a:t>Practise, Explore, Investigate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741672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many words can you find for each of the following prefixes, where adding the prefix creates an antonym? Group them under each prefix heading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209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209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-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-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r-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l-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209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6" name="Rectangle 74"/>
          <p:cNvSpPr/>
          <p:nvPr/>
        </p:nvSpPr>
        <p:spPr>
          <a:xfrm>
            <a:off x="250920" y="4581360"/>
            <a:ext cx="74167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395280" y="2852640"/>
            <a:ext cx="741672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395280" y="2854440"/>
            <a:ext cx="74167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7d47d"/>
                </a:solidFill>
                <a:latin typeface="Arial"/>
              </a:rPr>
              <a:t>Practise, Explore, Investigate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63520" y="1484280"/>
            <a:ext cx="73864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250920" y="1557360"/>
            <a:ext cx="74167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Can you use some of the words you found, that the prefixes im-, in-, ir- or il- could be added to, in sentences? Can you also give the sentence with opposite meaning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e.g.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Her daughter was responsible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Her daughter was 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ir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responsible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Apply, Assess, Reflec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3" name="Rectangle 9"/>
          <p:cNvSpPr/>
          <p:nvPr/>
        </p:nvSpPr>
        <p:spPr>
          <a:xfrm>
            <a:off x="285840" y="1562040"/>
            <a:ext cx="76039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is an antonym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" name="Rectangle 10"/>
          <p:cNvSpPr/>
          <p:nvPr/>
        </p:nvSpPr>
        <p:spPr>
          <a:xfrm>
            <a:off x="0" y="2000160"/>
            <a:ext cx="7850160" cy="37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Rectangle 11"/>
          <p:cNvSpPr/>
          <p:nvPr/>
        </p:nvSpPr>
        <p:spPr>
          <a:xfrm>
            <a:off x="0" y="5857920"/>
            <a:ext cx="7704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285840" y="2871720"/>
            <a:ext cx="756432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you rewrite these sentences with the opposite meaning by using prefixes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a36f2"/>
                </a:solidFill>
                <a:latin typeface="Arial"/>
              </a:rPr>
              <a:t>The teacher was </a:t>
            </a:r>
            <a:r>
              <a:rPr b="0" lang="en-GB" sz="2800" spc="-1" strike="noStrike" u="sng">
                <a:solidFill>
                  <a:srgbClr val="5a36f2"/>
                </a:solidFill>
                <a:uFillTx/>
                <a:latin typeface="Arial"/>
              </a:rPr>
              <a:t>patient</a:t>
            </a:r>
            <a:r>
              <a:rPr b="0" lang="en-GB" sz="2800" spc="-1" strike="noStrike">
                <a:solidFill>
                  <a:srgbClr val="5a36f2"/>
                </a:solidFill>
                <a:latin typeface="Arial"/>
              </a:rPr>
              <a:t> with the </a:t>
            </a:r>
            <a:r>
              <a:rPr b="0" lang="en-GB" sz="2800" spc="-1" strike="noStrike" u="sng">
                <a:solidFill>
                  <a:srgbClr val="5a36f2"/>
                </a:solidFill>
                <a:uFillTx/>
                <a:latin typeface="Arial"/>
              </a:rPr>
              <a:t>responsible</a:t>
            </a:r>
            <a:r>
              <a:rPr b="0" lang="en-GB" sz="2800" spc="-1" strike="noStrike">
                <a:solidFill>
                  <a:srgbClr val="5a36f2"/>
                </a:solidFill>
                <a:latin typeface="Arial"/>
              </a:rPr>
              <a:t> boy. ‘It is </a:t>
            </a:r>
            <a:r>
              <a:rPr b="0" lang="en-GB" sz="2800" spc="-1" strike="noStrike" u="sng">
                <a:solidFill>
                  <a:srgbClr val="5a36f2"/>
                </a:solidFill>
                <a:uFillTx/>
                <a:latin typeface="Arial"/>
              </a:rPr>
              <a:t>possible</a:t>
            </a:r>
            <a:r>
              <a:rPr b="0" lang="en-GB" sz="2800" spc="-1" strike="noStrike">
                <a:solidFill>
                  <a:srgbClr val="5a36f2"/>
                </a:solidFill>
                <a:latin typeface="Arial"/>
              </a:rPr>
              <a:t> to mark your work because it is </a:t>
            </a:r>
            <a:r>
              <a:rPr b="0" lang="en-GB" sz="2800" spc="-1" strike="noStrike" u="sng">
                <a:solidFill>
                  <a:srgbClr val="5a36f2"/>
                </a:solidFill>
                <a:uFillTx/>
                <a:latin typeface="Arial"/>
              </a:rPr>
              <a:t>legible</a:t>
            </a:r>
            <a:r>
              <a:rPr b="0" lang="en-GB" sz="2800" spc="-1" strike="noStrike">
                <a:solidFill>
                  <a:srgbClr val="5a36f2"/>
                </a:solidFill>
                <a:latin typeface="Arial"/>
              </a:rPr>
              <a:t>’ she said </a:t>
            </a:r>
            <a:r>
              <a:rPr b="0" lang="en-GB" sz="2800" spc="-1" strike="noStrike" u="sng">
                <a:solidFill>
                  <a:srgbClr val="5a36f2"/>
                </a:solidFill>
                <a:uFillTx/>
                <a:latin typeface="Arial"/>
              </a:rPr>
              <a:t>politely</a:t>
            </a:r>
            <a:r>
              <a:rPr b="0" lang="en-GB" sz="2800" spc="-1" strike="noStrike">
                <a:solidFill>
                  <a:srgbClr val="5a36f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a36f2"/>
                </a:solidFill>
                <a:latin typeface="Arial"/>
              </a:rPr>
              <a:t>The horse walked with </a:t>
            </a:r>
            <a:r>
              <a:rPr b="0" lang="en-GB" sz="2800" spc="-1" strike="noStrike" u="sng">
                <a:solidFill>
                  <a:srgbClr val="5a36f2"/>
                </a:solidFill>
                <a:uFillTx/>
                <a:latin typeface="Arial"/>
              </a:rPr>
              <a:t>balanced</a:t>
            </a:r>
            <a:r>
              <a:rPr b="0" lang="en-GB" sz="2800" spc="-1" strike="noStrike">
                <a:solidFill>
                  <a:srgbClr val="5a36f2"/>
                </a:solidFill>
                <a:latin typeface="Arial"/>
              </a:rPr>
              <a:t>, </a:t>
            </a:r>
            <a:r>
              <a:rPr b="0" lang="en-GB" sz="2800" spc="-1" strike="noStrike" u="sng">
                <a:solidFill>
                  <a:srgbClr val="5a36f2"/>
                </a:solidFill>
                <a:uFillTx/>
                <a:latin typeface="Arial"/>
              </a:rPr>
              <a:t>regular</a:t>
            </a:r>
            <a:r>
              <a:rPr b="0" lang="en-GB" sz="2800" spc="-1" strike="noStrike">
                <a:solidFill>
                  <a:srgbClr val="5a36f2"/>
                </a:solidFill>
                <a:latin typeface="Arial"/>
              </a:rPr>
              <a:t> steps towards the stable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250920" y="1994040"/>
            <a:ext cx="76039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am going to state a root word, and want you to give the antonym by adding a prefix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15:14:18Z</dcterms:created>
  <dc:creator>Miss Rattray</dc:creator>
  <dc:description/>
  <dc:language>en-US</dc:language>
  <cp:lastModifiedBy>currys</cp:lastModifiedBy>
  <dcterms:modified xsi:type="dcterms:W3CDTF">2010-06-28T15:55:20Z</dcterms:modified>
  <cp:revision>85</cp:revision>
  <dc:subject/>
  <dc:title>Spelling – Year 5</dc:title>
</cp:coreProperties>
</file>