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C43-B7AE-4DA2-BC8A-9D6E85E1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AE1-7D1D-4DCE-8ECF-00FADE1B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986-048A-4481-9521-6567232F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B62-124C-465D-8898-9C5188C4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4C6D-0DDD-4455-88D1-7FB6AF39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2AC7-01E4-47D5-8C3D-E8E586C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75AB-5531-4E44-8371-6FF6E814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11C8-E53B-4A60-AB10-6C9A48B2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F16E-7014-4A4C-A576-47767B6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8D04-83A7-4FFF-A846-1FF5553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267-5653-40D8-929D-F3C63E5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C4E-8D7A-4EA2-99F3-DD0E26D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DCB7-21E9-4D61-8823-8CBC373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469-66E7-409B-821E-9277C70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78D0-2E70-4ED9-968F-D4CD6EF1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639E-4F99-4B63-82D1-2866FB4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E102-66D8-4902-848B-8B3B65DA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A43-513C-43CE-A696-893BD62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08A-7980-45EF-8887-ECC0CFE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3EB-F3E2-459A-AC72-A9986EC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DB1-4439-4EB6-9ABA-9F10335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4A0-611E-452C-8A23-DE09B1A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44D-88BA-4359-BE5A-207F981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DA9-498A-4D07-8CD9-598FC88E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89BC-00D8-42B8-9853-2148B0DA9F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0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5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160"/>
                <a:gd name="textAreaBottom" fmla="*/ 1937160 h 19371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1280"/>
                <a:gd name="textAreaBottom" fmla="*/ 4031280 h 40312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1080"/>
                <a:gd name="textAreaBottom" fmla="*/ 5041080 h 50410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000"/>
                <a:gd name="textAreaBottom" fmla="*/ 3348360 h 33480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8360"/>
                <a:gd name="textAreaBottom" fmla="*/ 3348720 h 33483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2675-D2A4-427F-85F9-80DF41FFDE2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words with common letter strings and different pronunciati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honem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2708280"/>
            <a:ext cx="7429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example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What words can you think of containing this letter string? Do they all sound the sam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17146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an think of an example of a digraph or trigraph that has different pronunciation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95280" y="4005360"/>
            <a:ext cx="742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unds can you find for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group them according to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examples of words containing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g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place them in groups according to their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781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words containing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find any patterns that link the spellings and the pronunciation fo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tter str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llect words that contain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group them according to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95280" y="285264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do the same with one of these letter string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Play snap with your partner, using the cards given. The words contain one of five letter strings, but you can only snap when the letter string rhymes (eg if </a:t>
            </a:r>
            <a:r>
              <a:rPr b="0" i="1" lang="en-GB" sz="2800" spc="-1" strike="noStrike">
                <a:solidFill>
                  <a:srgbClr val="2f1311"/>
                </a:solidFill>
                <a:latin typeface="Arial"/>
              </a:rPr>
              <a:t>fight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is put down, then </a:t>
            </a:r>
            <a:r>
              <a:rPr b="0" i="1" lang="en-GB" sz="2800" spc="-1" strike="noStrike">
                <a:solidFill>
                  <a:srgbClr val="2f1311"/>
                </a:solidFill>
                <a:latin typeface="Arial"/>
              </a:rPr>
              <a:t>light/night/bright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One night last year I thought I heard a bear in the woo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My heart thumped in fear as I tried to phone the poli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285840" y="484812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letter strings, with different pronunciation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a36f2"/>
                </a:solidFill>
                <a:latin typeface="Arial"/>
              </a:rPr>
              <a:t>-ight, -ear, -oo, -ough, -ie, -o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7:13Z</dcterms:modified>
  <cp:revision>75</cp:revision>
  <dc:subject/>
  <dc:title>Spelling – Year 5</dc:title>
</cp:coreProperties>
</file>