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CCD-4A66-4447-BBD4-3C398D81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8E6-EEBB-4199-8F46-9F6A66EF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1101-A661-4D4B-911F-A967C89B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2A22-B8C7-4DE8-ACBD-5067CDE5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12B6-77FF-4A8C-9318-FAD23F3D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6DD9-4C44-4A19-9CD8-FE39766A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24A1-FF79-4CCF-B4B4-D74921EF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79A0-7834-4540-896B-ACD2A120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495C-B645-4BD2-B865-3526627D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A0BB-21D0-4D1D-815D-DEEAAC50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3E3D-66B1-4DE8-A76A-0BED637F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420-A731-450C-947D-D3C9D5FE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A417-954E-4628-ADB0-F7E9D1B5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836A-271B-43D1-B501-B9EC016C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801A-95BA-4D42-9345-0F7C68F4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0979-4170-41EA-96F7-ED6B07E4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54B3-ACB1-41B7-A50D-32018E02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6E1-6B62-4B64-95E2-2A4242E1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80C-A162-403C-8D79-9B2B31F1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AE0-FEC1-469A-B9E1-A91DFC53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3F1-D134-48DB-9F88-BCADD8D0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0DD-EBDE-4967-911D-61B961DF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12E-7986-4D57-8DC7-61906047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ABC-6F0D-46C9-B932-B1A0E730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264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004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00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9BBA-F03B-4C34-84C1-76F35A33E8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900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9000"/>
              <a:ext cx="1203120" cy="68486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7720"/>
                <a:chOff x="8381880" y="-360"/>
                <a:chExt cx="762120" cy="227772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7040" y="-360"/>
                  <a:ext cx="279360" cy="275400"/>
                  <a:chOff x="8717040" y="-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7040" y="-360"/>
                    <a:ext cx="279360" cy="275400"/>
                    <a:chOff x="8717040" y="-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5920" y="-392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5280" y="91800"/>
                      <a:ext cx="140760" cy="22536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6560" y="138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0320" y="7164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1240" y="5904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0720" y="10872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6560" y="2001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5080" y="1753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7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7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1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2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6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6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7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75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7040"/>
                <a:ext cx="828720" cy="4703400"/>
                <a:chOff x="7848720" y="1607040"/>
                <a:chExt cx="828720" cy="47034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7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12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00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82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05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1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75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92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8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62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9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9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06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1120"/>
              <a:ext cx="1190520" cy="19371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7160"/>
                <a:gd name="textAreaBottom" fmla="*/ 1937160 h 19371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0360"/>
              <a:ext cx="1219320" cy="19972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3120"/>
              <a:ext cx="1231920" cy="40312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1280"/>
                <a:gd name="textAreaBottom" fmla="*/ 4031280 h 40312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2760"/>
              <a:ext cx="979560" cy="2181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5600"/>
              <a:ext cx="914400" cy="5041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1080"/>
                <a:gd name="textAreaBottom" fmla="*/ 5041080 h 50410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0720"/>
              <a:ext cx="909720" cy="3067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7200"/>
                <a:gd name="textAreaBottom" fmla="*/ 3067560 h 30672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9000"/>
              <a:ext cx="576360" cy="334800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8000"/>
                <a:gd name="textAreaBottom" fmla="*/ 3348360 h 33480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0440"/>
              <a:ext cx="300240" cy="334836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8360"/>
                <a:gd name="textAreaBottom" fmla="*/ 3348720 h 33483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0440"/>
              <a:ext cx="88920" cy="68486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160"/>
              <a:ext cx="1165320" cy="61812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8640" y="3320640"/>
              <a:ext cx="6848640" cy="225360"/>
            </a:xfrm>
            <a:custGeom>
              <a:avLst/>
              <a:gdLst>
                <a:gd name="textAreaLeft" fmla="*/ 667440 w 6848640"/>
                <a:gd name="textAreaRight" fmla="*/ 6181200 w 684864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0DB4-BDC6-45F1-A5C3-88ED7D6C78C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spell unstressed vowels in polysyllabic word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314280" y="1339920"/>
            <a:ext cx="7497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following words have in commo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28760" y="17859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357120" y="4429080"/>
            <a:ext cx="75009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357120" y="3567240"/>
            <a:ext cx="75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30"/>
          <p:cNvSpPr/>
          <p:nvPr/>
        </p:nvSpPr>
        <p:spPr>
          <a:xfrm>
            <a:off x="357120" y="4352760"/>
            <a:ext cx="750096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Rectangle 230"/>
          <p:cNvSpPr/>
          <p:nvPr/>
        </p:nvSpPr>
        <p:spPr>
          <a:xfrm>
            <a:off x="360360" y="2276640"/>
            <a:ext cx="7497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dnesda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est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sonou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Rectangle 230"/>
          <p:cNvSpPr/>
          <p:nvPr/>
        </p:nvSpPr>
        <p:spPr>
          <a:xfrm>
            <a:off x="360360" y="3209760"/>
            <a:ext cx="749772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would these words present difficulties in spelling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Rectangle 230"/>
          <p:cNvSpPr/>
          <p:nvPr/>
        </p:nvSpPr>
        <p:spPr>
          <a:xfrm>
            <a:off x="324000" y="4581360"/>
            <a:ext cx="749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Rectangle 230"/>
          <p:cNvSpPr/>
          <p:nvPr/>
        </p:nvSpPr>
        <p:spPr>
          <a:xfrm>
            <a:off x="360360" y="4138560"/>
            <a:ext cx="749772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we break the words down and clap the syllables it makes the spelling clear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bus-i-ness, Wed-nes-d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Rectangle 230"/>
          <p:cNvSpPr/>
          <p:nvPr/>
        </p:nvSpPr>
        <p:spPr>
          <a:xfrm>
            <a:off x="357120" y="5424480"/>
            <a:ext cx="749772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we can’t hear a letter in a word we call i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nstresse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Rectangle 230"/>
          <p:cNvSpPr/>
          <p:nvPr/>
        </p:nvSpPr>
        <p:spPr>
          <a:xfrm>
            <a:off x="357120" y="2286000"/>
            <a:ext cx="7497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da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t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s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s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369720" y="1500120"/>
            <a:ext cx="744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learning to spell words containing unstressed vowels (e.g. sep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te, diff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nce) you need to think of strategi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324000" y="4138560"/>
            <a:ext cx="7441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strategies for spelling these words containing unstressed vowel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cola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getab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atu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Rectangle 230"/>
          <p:cNvSpPr/>
          <p:nvPr/>
        </p:nvSpPr>
        <p:spPr>
          <a:xfrm>
            <a:off x="360360" y="2849400"/>
            <a:ext cx="7497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ould us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ak, spe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saying the parts of the word, 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rds within wor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uch as thinking ‘there’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 ra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eparat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416720" cy="15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 partner select 10 words containing unstressed vowels and write down a strategy for spelling each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42920" y="3000240"/>
          <a:ext cx="7572240" cy="2733840"/>
        </p:xfrm>
        <a:graphic>
          <a:graphicData uri="http://schemas.openxmlformats.org/drawingml/2006/table">
            <a:tbl>
              <a:tblPr/>
              <a:tblGrid>
                <a:gridCol w="1143000"/>
                <a:gridCol w="1333440"/>
                <a:gridCol w="1203480"/>
                <a:gridCol w="1344600"/>
                <a:gridCol w="1285920"/>
                <a:gridCol w="1261800"/>
              </a:tblGrid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bounda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busines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oisonou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ctiona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t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eafening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efinit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asil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bando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marvellou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miserabl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memorabl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acto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amil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ima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rightening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generou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generall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egetabl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jewelle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attening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medicin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imilar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tationa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250920" y="1557360"/>
            <a:ext cx="741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also words which contain unstressed consonants. Can you find strategies for spelling thes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28800" y="3071880"/>
          <a:ext cx="5643360" cy="2370240"/>
        </p:xfrm>
        <a:graphic>
          <a:graphicData uri="http://schemas.openxmlformats.org/drawingml/2006/table">
            <a:tbl>
              <a:tblPr/>
              <a:tblGrid>
                <a:gridCol w="1752480"/>
                <a:gridCol w="2046240"/>
                <a:gridCol w="184464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nvironment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government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ndbag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ndkerchief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upboard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raspber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astl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ig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oubt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knight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285840" y="1562040"/>
            <a:ext cx="7603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0" y="585792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85840" y="2500200"/>
            <a:ext cx="75643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285840" y="4786200"/>
            <a:ext cx="7603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285840" y="1276200"/>
            <a:ext cx="7603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unstressed vowel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85840" y="2428920"/>
            <a:ext cx="7603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281160" y="1714680"/>
            <a:ext cx="7603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hink of examples of words with unstressed vowel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250920" y="3419640"/>
            <a:ext cx="7603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going to dictate two sentences, write them in your book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250920" y="4205160"/>
            <a:ext cx="7603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 spelt the sentences correctl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36f2"/>
                </a:solidFill>
                <a:latin typeface="Arial"/>
              </a:rPr>
              <a:t>On the first Wednesday in February, my family and I were involved in a frightening acciden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We were on our way to the library to get some general knowledge books and a dictionar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254160" y="2562120"/>
            <a:ext cx="7603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hink of strategies for spelling words containing unstressed vowel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currys</cp:lastModifiedBy>
  <dcterms:modified xsi:type="dcterms:W3CDTF">2010-06-28T12:48:19Z</dcterms:modified>
  <cp:revision>80</cp:revision>
  <dc:subject/>
  <dc:title>Spelling – Year 5</dc:title>
</cp:coreProperties>
</file>