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B762-19D3-4E31-9C77-48194CE0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BA59-F440-4268-8C5C-712D8FDC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A184-1997-4372-AD07-B08D0AD9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BBB1-87A0-4B1D-879E-A54B8B4E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0A14-99FB-46FB-9ED9-ECF0F0B8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8238-B421-4029-AFF4-9ECE2F26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C602-F45C-46CD-88EB-0F1E4AD7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53C8-158F-44D3-B91F-149CE270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D20C-EB20-4873-BF5C-57EB5E26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71DC-F96B-4AB8-A613-A0D99ED6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EFCA-011F-4C8E-BD0B-BD13DFE8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C73F-50D1-434F-9D12-20179246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2390-B033-40F4-B204-291D8D941F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an Argument as a L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932360" y="3573360"/>
            <a:ext cx="171144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ight information to be brought to people’s att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letter to an MP complaining about the appalling conditions in schools in the nineteenth century. ( Imagine that you are living at that time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– give at least 3 reasons ( each in its own paragraph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 – give at least four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rs, discuss a modern day issue to do with the treatment of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you remembered to end your letter by strongly stating your point of view agai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is if you have forgot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you find this task difficult / interesting / challenging ? Make a note on your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tension Group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remember to use paragraph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t, how can you remember to do so next time ? Discuss possible strategies with a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hould ban playtimes at school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 my opin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hildren at primary school do not need a play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most important reason for this is th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ytimes waste work time. The children need to spend more time on their English or Maths. work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-one could argue with the impor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se subjects and the more time spent by children practising them, the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 addition to th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laytimes are too dangerous. Little children get knocked over by bigger children and get hit by balls. Most injuries to children at school happen during play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inally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ytimes are bad for teachers. Many teachers are too old to run around and so they get too cold outside. Also, they have to miss out on having a cup of tea and a chat with other teac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refore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 believe it would be b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playtimes were ban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ons given for Banning Play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s work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danger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get cold and lonel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good ending for a letter i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 although some people might not agree, I believe that I have shown that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ummarises the l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house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4454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eakf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nt of gruel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porridge ) daily, thickened with flour: 3 – 5 oz. bread dail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– 5 oz. bread daily: butter, milk and water daily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ield Parish Workhouse 18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– 6 oz. beef, 3oz. bread, ve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– 14 oz. boiled suet pud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s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oz. boiled mutton, ve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nes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– 6 oz. beef, ve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s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– 14 oz. rice pud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– 6 oz. boiled mutton, ve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int soup, 3 oz. bre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unishment in School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common to fasten the legs of offenders together with wooden shackles. The shackle is a piece of wood about a foot long ( 30 cms. ) and tied to each leg. Pupils are ordered to walk around the schoolroom until tired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seph Lancaster Improvements in Education 18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ere the bad points in schools in the nineteenth century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food – quantity and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ishmen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ALT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We are learning to…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letter stating an arg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 ou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aragraphs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56360" y="3789360"/>
            <a:ext cx="1133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F        What I’m looking for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ongly worded argument set out in a logical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para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4221000"/>
            <a:ext cx="1224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22:58:30Z</dcterms:created>
  <dc:creator>CYN</dc:creator>
  <dc:description/>
  <dc:language>en-US</dc:language>
  <cp:lastModifiedBy>Pitchford</cp:lastModifiedBy>
  <dcterms:modified xsi:type="dcterms:W3CDTF">2007-02-27T13:24:59Z</dcterms:modified>
  <cp:revision>5</cp:revision>
  <dc:subject/>
  <dc:title>Slide 1</dc:title>
</cp:coreProperties>
</file>