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535-2EFE-4D70-84C8-C685738F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6B2-6C1B-4DB8-BF15-E44F721D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F5E-C75F-4EE8-B635-A34659E4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F24-717B-4758-9D3A-A51A04E2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2B7-240D-49F0-AD36-E8AB1D06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679-B933-48ED-B574-76FEDA0B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C59-E196-4C56-BBE9-72CE3EF5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5E9-6742-4CCE-A669-9E755DB0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DA1-AED7-47B8-999E-20DB4B28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C44-129F-489E-8143-BEF373F9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096-36DF-4D05-A7CF-B3A62E54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D92-BC54-4727-ADAA-FA5CF990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5D4-DCF9-48F5-8148-2280DC3E75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38876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tt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82472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t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7080" y="431640"/>
            <a:ext cx="4680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ala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471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ngaro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9800" y="333360"/>
            <a:ext cx="496728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cccc00"/>
                </a:solidFill>
                <a:latin typeface="SassoonCRInfantMedium"/>
              </a:rPr>
              <a:t>k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wi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74840" y="549360"/>
            <a:ext cx="44578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49:56Z</dcterms:modified>
  <cp:revision>16</cp:revision>
  <dc:subject/>
  <dc:title>a</dc:title>
</cp:coreProperties>
</file>