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F7C-D034-4AA6-90A1-50D0C581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B80-B995-4989-851D-AE514872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A4C-C287-4495-A062-E93A14CC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2E7-DB8B-4673-B62C-EA5B72FC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1A4-5D6E-46F9-9802-46D2218C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072-342B-4316-91C2-54703C7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917-EE67-4965-BF02-B13340B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0F1-B9EE-41EA-A373-920DDA38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590-A168-478C-BFD8-9D47EAA1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15F-81C3-4DFB-AA33-AC86909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A63-3053-4324-8B16-791DD67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E4C-5089-498E-A647-EE88A492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6687-8789-4439-B965-834E23E25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s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257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ath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7933400">
            <a:off x="3072960" y="128520"/>
            <a:ext cx="3502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x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832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a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47720"/>
            <a:ext cx="4896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v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67080" y="333360"/>
            <a:ext cx="3149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SassoonCRInfantMedium"/>
              </a:rPr>
              <a:t>f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4738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20:46Z</dcterms:modified>
  <cp:revision>7</cp:revision>
  <dc:subject/>
  <dc:title>a</dc:title>
</cp:coreProperties>
</file>