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C41-0E5B-4624-B0BD-913CAA7D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CF5-8DA0-4DE2-B522-744346A6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BB1-92AE-4089-9C9F-FBAE690B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248-B089-4D30-AB7E-E0752B1D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418-05B9-46EB-854C-EEAAE153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BE9-376C-4AE8-BC58-857651C2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080-F124-4176-AC1D-DB955CA4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9BC4-70C0-419B-B040-FE549C10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BC7-C33A-454A-B63F-3B146356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A78-721E-4C76-BC2E-94CE3746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8CA-E709-4282-9220-2A6E9E5B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5D7-6569-4EAB-8EF1-3BA0BD80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94AE-A2F8-4005-81A5-179E7BCE68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dbd600"/>
                </a:solidFill>
                <a:latin typeface="SassoonCRInfantMedium"/>
              </a:rPr>
              <a:t>n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bd600"/>
                </a:solidFill>
                <a:latin typeface="SassoonCRInfantMedium"/>
              </a:rPr>
              <a:t>n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s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0748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bd600"/>
                </a:solidFill>
                <a:latin typeface="SassoonCRInfantMedium"/>
              </a:rPr>
              <a:t>n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i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108000"/>
            <a:ext cx="5111640" cy="48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3280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bd600"/>
                </a:solidFill>
                <a:latin typeface="SassoonCRInfantMedium"/>
              </a:rPr>
              <a:t>n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s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52167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bd600"/>
                </a:solidFill>
                <a:latin typeface="SassoonCRInfantMedium"/>
              </a:rPr>
              <a:t>n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w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59040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bd600"/>
                </a:solidFill>
                <a:latin typeface="SassoonCRInfantMedium"/>
              </a:rPr>
              <a:t>n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mber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144360"/>
            <a:ext cx="55036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bd600"/>
                </a:solidFill>
                <a:latin typeface="SassoonCRInfantMedium"/>
              </a:rPr>
              <a:t>n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353120" cy="4116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6404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9:21Z</dcterms:modified>
  <cp:revision>22</cp:revision>
  <dc:subject/>
  <dc:title>a</dc:title>
</cp:coreProperties>
</file>