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A2F-C58F-4627-B76D-C686BE75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A1A-76A2-4002-8B00-A5E5314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D3E-028C-43DC-A6EE-81A350EF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502-8E89-4CCB-8EEC-74E1FF35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154-42E0-4F55-ACAD-F2BDD28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812-6FB2-452C-9400-1C65F48B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21C-F85C-48B0-A23E-EB2B9E2A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B84-56E4-4BF8-8329-32EE35B9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373-7F64-46F7-87B9-3F8C0C2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28D-8EFA-4A05-A802-4B8D1E0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1E2-1F59-4009-A8D8-F3B8B127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C9C-67C2-4A8E-A696-5BBBF62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1674-7F9A-4FA7-97A9-7C8CBD3374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ylophon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3374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-ra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578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ma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2624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fo</a:t>
            </a: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472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bo</a:t>
            </a: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6148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4bff4b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1199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4:11:17Z</dcterms:modified>
  <cp:revision>43</cp:revision>
  <dc:subject/>
  <dc:title>a</dc:title>
</cp:coreProperties>
</file>