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BCF-4379-4175-9A5A-A4092F1C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225-3A12-4427-991D-35E61278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8A3-EAFE-4414-84C7-913F66BB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368-7716-4D3C-958E-EDBAFE4B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618-F060-4144-93EA-34CF154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561-B386-4005-87D1-F69EE93A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35A-064D-4CD0-839E-C09BE972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533-85D5-4C25-8092-C4301991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4CE-2C7D-43C2-BF44-66B02E21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9EE-2371-4121-80DE-0D15D875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2A6-578A-4CDC-B031-DFCC3DE3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9F7-1B14-4971-B82A-7858ECCD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097A-8E4B-4096-815D-914467157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ctopu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ang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340000" y="404640"/>
            <a:ext cx="47530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w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235240" y="341280"/>
            <a:ext cx="4713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stric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268360" y="476280"/>
            <a:ext cx="518328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va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1557360"/>
            <a:ext cx="5113440" cy="2735280"/>
          </a:xfrm>
          <a:prstGeom prst="ellipse">
            <a:avLst/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6600cc"/>
                </a:solidFill>
                <a:latin typeface="SassoonCRInfantMedium"/>
              </a:rPr>
              <a:t>o</a:t>
            </a:r>
            <a:r>
              <a:rPr b="0" lang="en-GB" sz="14200" spc="-1" strike="noStrike">
                <a:solidFill>
                  <a:srgbClr val="000000"/>
                </a:solidFill>
                <a:latin typeface="SassoonCRInfantMedium"/>
              </a:rPr>
              <a:t>x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195640" y="412920"/>
            <a:ext cx="4713120" cy="4456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268360" y="404640"/>
            <a:ext cx="48564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0:48:04Z</dcterms:modified>
  <cp:revision>23</cp:revision>
  <dc:subject/>
  <dc:title>a</dc:title>
</cp:coreProperties>
</file>