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ECB-AD44-41A3-A945-0C64AF20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B7E-1C9E-422E-A620-570784F7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005-0C80-4E58-B364-B70B54C1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108-B406-4151-9561-E8AA90C9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52B-3C57-4DFC-ADF3-50F11D32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5F7-88EE-4849-B58B-DC031D8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B0F-C606-43B6-A724-0ACA70A0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6F0-5A17-429C-9750-CD5674C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4F3-303F-471C-941E-E28131E0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E0F-455C-48E3-904C-16C5DA5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2F8-672B-4C1C-8C1C-9FF8D28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B75-B5A8-48B7-AD20-9DBB176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AE0-9EA1-4384-B836-404C589CB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ghur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897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l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191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ch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3160" y="333360"/>
            <a:ext cx="52628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-y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1847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2000"/>
                </a:solidFill>
                <a:latin typeface="SassoonCRInfantMedium"/>
              </a:rPr>
              <a:t>y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83084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14:50Z</dcterms:modified>
  <cp:revision>44</cp:revision>
  <dc:subject/>
  <dc:title>a</dc:title>
</cp:coreProperties>
</file>