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A7D-DBD1-43DE-8720-64610091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EE1-39BC-4EC7-BA1B-98273FDE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1C6-7BF9-4157-85F7-8CA534DC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CCB-6EA5-4086-BE1C-654D0413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233-29EA-4EB6-8860-94BAC5F2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D36-35DB-49F2-95B9-6E7F0EBC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43B-8F98-496D-ABC0-CEF9AF90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5CF-A566-4003-9FDF-1135E956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941-E4D6-40D4-B5DA-646B6B6D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E6F-0389-448A-BCF3-7B293B28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38A-E37E-4CD4-8D29-0252DC36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DF7-706E-4201-9E04-782879F3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F93C-8A26-4457-8BF3-D8B16770A2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74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ff0000"/>
                </a:solidFill>
                <a:latin typeface="SassoonCRInfantMedium"/>
              </a:rPr>
              <a:t>s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00"/>
                </a:solidFill>
                <a:latin typeface="SassoonCRInfantMedium"/>
              </a:rPr>
              <a:t>s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ak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040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00"/>
                </a:solidFill>
                <a:latin typeface="SassoonCRInfantMedium"/>
              </a:rPr>
              <a:t>s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cissor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35240" y="485640"/>
            <a:ext cx="47131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00"/>
                </a:solidFill>
                <a:latin typeface="SassoonCRInfantMedium"/>
              </a:rPr>
              <a:t>s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ai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0920" y="284040"/>
            <a:ext cx="500076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00"/>
                </a:solidFill>
                <a:latin typeface="SassoonCRInfantMedium"/>
              </a:rPr>
              <a:t>s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lipper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4568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00"/>
                </a:solidFill>
                <a:latin typeface="SassoonCRInfantMedium"/>
              </a:rPr>
              <a:t>s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trawberr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28984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00"/>
                </a:solidFill>
                <a:latin typeface="SassoonCRInfantMedium"/>
              </a:rPr>
              <a:t>s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owma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62280" y="260280"/>
            <a:ext cx="3897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8:11Z</dcterms:modified>
  <cp:revision>32</cp:revision>
  <dc:subject/>
  <dc:title>a</dc:title>
</cp:coreProperties>
</file>