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7B5-95DE-4F06-ADF4-373C294A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617-6157-43DE-B1AC-49152BE9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37D-0F92-406E-9E3A-AC483C05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A41-63C7-45E3-8687-5BD2FD48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785-234E-4019-B699-996CC17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0D3-77CA-402E-92B3-2F9A36C3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4EE-A099-4AAA-AC86-A57540F3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C64-8A97-4FBF-AC68-EB60AF53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CC6-63A5-4C8F-B412-D1FAB505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617-39FE-4370-AAE9-1706121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96F-5FA1-42C0-9FA6-C1ADF9C2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26A-9E46-4507-990A-AB69BD2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FAB6-1906-46AE-8612-CEB32D0E2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ndo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4960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rm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5840"/>
            <a:ext cx="53611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ndmil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60480"/>
            <a:ext cx="4856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he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1440" y="333360"/>
            <a:ext cx="45356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GB" sz="14200" spc="-1" strike="noStrike">
                <a:solidFill>
                  <a:srgbClr val="000000"/>
                </a:solidFill>
                <a:latin typeface="SassoonCRInfantMedium"/>
              </a:rPr>
              <a:t>ellie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78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66"/>
                </a:solidFill>
                <a:latin typeface="SassoonCRInfantMedium"/>
              </a:rPr>
              <a:t>W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nd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9292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55:33Z</dcterms:modified>
  <cp:revision>40</cp:revision>
  <dc:subject/>
  <dc:title>a</dc:title>
</cp:coreProperties>
</file>