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E01-AB44-4CC0-8C9B-B51AA83B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53B-30F0-4618-AEC3-40B4F441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875-9B4D-4983-B059-7741576D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143-0B62-4661-9A36-08612787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A2E-AF51-4C47-B5BC-E430C3CA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326-1473-4FD0-BFAC-FA6CE68E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4E4-D34C-47E4-A776-1710A78D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D34-AB1A-4983-9C65-9585F9C8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F08-F80D-4D44-9BEB-2E33656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6AB-DCBE-4EF0-9E79-578D39DE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528-A69D-4903-93A3-D3A7564C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6AA-B118-4CAF-AB97-C1BAD53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AFC-EE39-4B61-A604-6D565D32A9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610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an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25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5356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tat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2320" y="333360"/>
            <a:ext cx="4640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14512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cc"/>
                </a:solidFill>
                <a:latin typeface="SassoonCRInfantMedium"/>
              </a:rPr>
              <a:t>p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rp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81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01Z</dcterms:modified>
  <cp:revision>26</cp:revision>
  <dc:subject/>
  <dc:title>a</dc:title>
</cp:coreProperties>
</file>