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0BF-D61B-4268-8CD3-3FDB7AED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6C2-417D-408C-81D4-9DE56DD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492-3DB4-4BE2-A914-5E54C5E6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F3C-EA22-4AC5-8E85-697DC47A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F37-C3F5-4600-960A-E5BC6C1A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B72-6497-4DC8-B529-1245C162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BAA-BCEF-4F08-9AED-12B70669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60E-5A39-4BDF-BF5E-FD3D360C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F70-991A-4962-9C28-EBBE33D0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908-FEF2-4C2B-8FA2-875258A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051-D2C1-4171-B20F-FEF662C3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AE1-993F-4E94-AB3E-C55985B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7A3B-DF41-4857-BB2B-BDABCA80D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u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52563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rs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7815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mm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4184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licopt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113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00"/>
                </a:solidFill>
                <a:latin typeface="SassoonCRInfantMedium"/>
              </a:rPr>
              <a:t>h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5640" y="695160"/>
            <a:ext cx="460836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4:43:44Z</dcterms:modified>
  <cp:revision>9</cp:revision>
  <dc:subject/>
  <dc:title>a</dc:title>
</cp:coreProperties>
</file>