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F6B-EE57-4CA0-AF0E-DB24D61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3E7-CB72-419E-BA65-F5603CF4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EC2-B94E-4A41-B4CD-BF79445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964-CC58-4FB0-9750-99557F43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B78-F279-4C23-AA45-AED7B57B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D10-D4F0-4973-8345-88E0705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E5B-8F56-4A21-AD31-A6372C60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97F-ABE1-4F11-96EA-7D11F69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271-0943-45C6-88EE-339BA32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E12-1CBA-4815-81AE-B689D56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EDF-B2A0-4DB6-A448-902921A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73B-4621-4A9E-BABC-53D3E05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69B3-DA68-401F-AA50-148B636E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9607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rro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406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ray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1360" y="476280"/>
            <a:ext cx="4221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a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438120"/>
            <a:ext cx="4321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terpilla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0483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cc00"/>
                </a:solidFill>
                <a:latin typeface="SassoonCRInfantMedium"/>
              </a:rPr>
              <a:t>c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u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1227400">
            <a:off x="2626920" y="404640"/>
            <a:ext cx="5329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3:00:54Z</dcterms:modified>
  <cp:revision>6</cp:revision>
  <dc:subject/>
  <dc:title>a</dc:title>
</cp:coreProperties>
</file>