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A28-B11A-424F-A5A7-06160D1D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129-BB7F-44FC-BE00-35DE87D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220-C740-44DA-B22F-0F7BF721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228-E7A2-49E3-876C-135BE423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EDF-F4D6-4E72-A61F-063A04C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2D1-4FD1-44DE-B3AF-FCF22D2D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64E-E1DF-42F0-B4D0-06973C54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EB0-BE93-4447-B22D-092D66F2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B80-2F18-464A-8E80-1E4E2F84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F16-1E20-4EF3-9AC7-0A62C32D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9EF-6B82-4037-8D8A-6B90F3E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D0A-5774-4AEB-9913-5DCFF52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9FB0-243B-4E34-B3C8-33A8554E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d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897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177840"/>
            <a:ext cx="5185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bbi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78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bo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959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inb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5454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r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cke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921200">
            <a:off x="2425320" y="-458280"/>
            <a:ext cx="361332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8:31Z</dcterms:modified>
  <cp:revision>30</cp:revision>
  <dc:subject/>
  <dc:title>a</dc:title>
</cp:coreProperties>
</file>