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7812-A2C5-4F5F-817C-CEAA52ED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49A6-2278-4096-AF16-DE99494E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B806-8B9E-4FF9-BD56-D362E7FA4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668-7D7E-4428-9A82-40B3F698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F6AB-EBA9-4A84-9408-7F78B4EB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77BF-2984-43E9-8EDE-450BA9DB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5EEF-29FF-41BA-8D6C-62A62BC5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421D-5DD2-4C17-A460-DA55ED1E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7B6A-32E5-4C0F-B25E-5932DA4B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EFC-3A65-4AB9-AEDE-36D7CF63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F21C-C4E7-4B10-A1E8-388F6FE8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3711-9BEA-48C7-97F1-B4DD9B85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C3E3-F27A-4052-B8F3-00E8F9EBE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74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200" spc="-1" strike="noStrike">
                <a:solidFill>
                  <a:srgbClr val="0336db"/>
                </a:solidFill>
                <a:latin typeface="SassoonCRInfantMedium"/>
              </a:rPr>
              <a:t>z</a:t>
            </a:r>
            <a:endParaRPr b="0" lang="en-US" sz="5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336db"/>
                </a:solidFill>
                <a:latin typeface="SassoonCRInfantMedium"/>
              </a:rPr>
              <a:t>z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o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489744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336db"/>
                </a:solidFill>
                <a:latin typeface="SassoonCRInfantMedium"/>
              </a:rPr>
              <a:t>z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bra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3640" y="44280"/>
            <a:ext cx="5759640" cy="47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336db"/>
                </a:solidFill>
                <a:latin typeface="SassoonCRInfantMedium"/>
              </a:rPr>
              <a:t>z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p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69897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336db"/>
                </a:solidFill>
                <a:latin typeface="SassoonCRInfantMedium"/>
              </a:rPr>
              <a:t>z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igzag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79640" y="620640"/>
            <a:ext cx="5184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336db"/>
                </a:solidFill>
                <a:latin typeface="SassoonCRInfantMedium"/>
              </a:rPr>
              <a:t>z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ero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6228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83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336db"/>
                </a:solidFill>
                <a:latin typeface="SassoonCRInfantMedium"/>
              </a:rPr>
              <a:t>z</a:t>
            </a:r>
            <a:r>
              <a:rPr b="0" lang="en-US" sz="14200" spc="-1" strike="noStrike">
                <a:solidFill>
                  <a:srgbClr val="000000"/>
                </a:solidFill>
                <a:latin typeface="SassoonCRInfantMedium"/>
              </a:rPr>
              <a:t>oo keeper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49560" y="260280"/>
            <a:ext cx="494352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9:27:41Z</dcterms:created>
  <dc:creator>kleeds</dc:creator>
  <dc:description/>
  <dc:language>en-US</dc:language>
  <cp:lastModifiedBy>kleeds</cp:lastModifiedBy>
  <dcterms:modified xsi:type="dcterms:W3CDTF">2007-06-29T14:23:25Z</dcterms:modified>
  <cp:revision>47</cp:revision>
  <dc:subject/>
  <dc:title>a</dc:title>
</cp:coreProperties>
</file>