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248-BD3A-4F1B-95FC-FF2E0994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C84-45F9-4860-BEE2-E74C35AF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D23-C598-4B4D-B20B-964AD580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F5B-F26C-4962-BDA8-A0C5D613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1BD-A103-405F-8812-CD601EB0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037-FCA8-4364-A554-4B2A09F3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C89-E425-4526-901D-D72DE80A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A33-C0F2-46BA-83FA-BBE10E47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FAB-1C50-459F-84EC-1AC184A5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635-98E0-4518-B128-D016A4C8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3A6-60E5-4BD1-9114-F5E16BE8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08C-3A53-4160-BABB-6C5CE031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674-A5E2-45D2-A211-8D77817A6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nana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5832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scui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236520"/>
            <a:ext cx="5256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l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681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a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5831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2148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SassoonCRInfantMedium"/>
              </a:rPr>
              <a:t>b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alloo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295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2:44:36Z</dcterms:modified>
  <cp:revision>5</cp:revision>
  <dc:subject/>
  <dc:title>a</dc:title>
</cp:coreProperties>
</file>