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9A4B-4147-4271-9B73-5A73AFB16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38F9-D9AE-4D68-A57E-5DC09C6F7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A08F-45EB-468E-AC17-20ED21092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5C70-1B1D-4FD4-81CE-7599DBF68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6CAC-364E-4610-ACD4-B0EFE45C0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2DDD-D49C-4094-9A5C-6DD9474F2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3FD3-8955-423B-ABD5-356171877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5917-D31B-4C77-8CA9-677CF32D4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0419-393B-4B7D-8A09-0A3E1BBC6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5DD0-DD89-478F-ACF0-804AB6DA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9F9B-B1E4-460D-BB66-F77620A4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D9C0-9A30-4EAD-9BBF-88BC2633A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1FE1C-705F-43C6-9C53-AEB14C3BE5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200" spc="-1" strike="noStrike">
                <a:solidFill>
                  <a:srgbClr val="669900"/>
                </a:solidFill>
                <a:latin typeface="SassoonCRInfantMedium"/>
              </a:rPr>
              <a:t>v</a:t>
            </a:r>
            <a:endParaRPr b="0" lang="en-US" sz="5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669900"/>
                </a:solidFill>
                <a:latin typeface="SassoonCRInfantMedium"/>
              </a:rPr>
              <a:t>v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iolin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195640" y="404640"/>
            <a:ext cx="4856040" cy="45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669900"/>
                </a:solidFill>
                <a:latin typeface="SassoonCRInfantMedium"/>
              </a:rPr>
              <a:t>v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ulture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835280" y="836640"/>
            <a:ext cx="540216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669900"/>
                </a:solidFill>
                <a:latin typeface="SassoonCRInfantMedium"/>
              </a:rPr>
              <a:t>v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iolets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556000" y="765000"/>
            <a:ext cx="3960720" cy="36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669900"/>
                </a:solidFill>
                <a:latin typeface="SassoonCRInfantMedium"/>
              </a:rPr>
              <a:t>v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egetables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332000" y="692280"/>
            <a:ext cx="640872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669900"/>
                </a:solidFill>
                <a:latin typeface="SassoonCRInfantMedium"/>
              </a:rPr>
              <a:t>v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ase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195640" y="412920"/>
            <a:ext cx="471312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669900"/>
                </a:solidFill>
                <a:latin typeface="SassoonCRInfantMedium"/>
              </a:rPr>
              <a:t>v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iolet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195640" y="260280"/>
            <a:ext cx="4856040" cy="45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09:27:41Z</dcterms:created>
  <dc:creator>kleeds</dc:creator>
  <dc:description/>
  <dc:language>en-US</dc:language>
  <cp:lastModifiedBy>kleeds</cp:lastModifiedBy>
  <dcterms:modified xsi:type="dcterms:W3CDTF">2007-06-29T13:51:03Z</dcterms:modified>
  <cp:revision>38</cp:revision>
  <dc:subject/>
  <dc:title>a</dc:title>
</cp:coreProperties>
</file>