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BF2-F86F-4D4C-808A-44E22DDC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64A-1953-4948-A7B7-2BF5368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FB8-6935-4BC7-BDA4-E0565C33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C07-312F-4283-83F9-B01E6DBF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AAA-0224-4507-8CDF-FE91CF57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305-3DDF-4EB2-B3E8-3EA846A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F4B-1D02-48B4-B14A-1912A6D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C8D-C282-491B-9C37-75317800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7D8-36A7-4C96-AD0B-40CF5C1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DA1-9222-4E84-B019-CD2A2EE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443-7665-44E7-A868-9892A75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A9D-BD86-47B9-AF91-895A1F3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6A88-E814-4271-BFAC-5B0DF4FE2F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GB" sz="14200" spc="-1" strike="noStrike">
                <a:solidFill>
                  <a:srgbClr val="000000"/>
                </a:solidFill>
                <a:latin typeface="SassoonCRInfantMedium"/>
              </a:rPr>
              <a:t>eg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39211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dybird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103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4137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m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20840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lipo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9924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99ff"/>
                </a:solidFill>
                <a:latin typeface="SassoonCRInfantMedium"/>
              </a:rPr>
              <a:t>l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8247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44Z</dcterms:modified>
  <cp:revision>18</cp:revision>
  <dc:subject/>
  <dc:title>a</dc:title>
</cp:coreProperties>
</file>