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0450-77DF-453D-B717-5A0509BB3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C114-6F57-4810-8659-D9E728060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75E8-D9AF-4258-AD1E-30FD7DC52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152C-F972-417A-BA87-472596E94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93B7-F067-4D80-8396-D3CE9BBB7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A104-BBDF-4385-8BF8-0372D5FC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C583-46A3-4FE5-9DF0-C7E838FCA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4F84-AC24-43E3-8B24-56D1910A1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0C4E-C299-4491-918E-52E27AC0B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8CC0-3CFC-4A1A-91C6-EB311C54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F626-4BC6-48F8-9C48-1891E362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1487-3F74-493A-BEAD-FB8E61BD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D1C72-94B7-47B9-A6CF-321FA1D12F2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384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600" spc="-1" strike="noStrike">
                <a:solidFill>
                  <a:srgbClr val="70ff43"/>
                </a:solidFill>
                <a:latin typeface="SassoonCRInfantMedium"/>
              </a:rPr>
              <a:t>i</a:t>
            </a:r>
            <a:endParaRPr b="0" lang="en-US" sz="5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70ff43"/>
                </a:solidFill>
                <a:latin typeface="SassoonCRInfantMedium"/>
              </a:rPr>
              <a:t>i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ce cream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76720" y="476280"/>
            <a:ext cx="27381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70ff43"/>
                </a:solidFill>
                <a:latin typeface="SassoonCRInfantMedium"/>
              </a:rPr>
              <a:t>i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gloo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08000" y="898560"/>
            <a:ext cx="54723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70ff43"/>
                </a:solidFill>
                <a:latin typeface="SassoonCRInfantMedium"/>
              </a:rPr>
              <a:t>i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ce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619280" y="549360"/>
            <a:ext cx="583236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70ff43"/>
                </a:solidFill>
                <a:latin typeface="SassoonCRInfantMedium"/>
              </a:rPr>
              <a:t>i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nsect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461016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70ff43"/>
                </a:solidFill>
                <a:latin typeface="SassoonCRInfantMedium"/>
              </a:rPr>
              <a:t>i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nk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476360" y="879480"/>
            <a:ext cx="6337440" cy="34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70ff43"/>
                </a:solidFill>
                <a:latin typeface="SassoonCRInfantMedium"/>
              </a:rPr>
              <a:t>i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njection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195640" y="620640"/>
            <a:ext cx="460836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09:27:41Z</dcterms:created>
  <dc:creator>kleeds</dc:creator>
  <dc:description/>
  <dc:language>en-US</dc:language>
  <cp:lastModifiedBy>kleeds</cp:lastModifiedBy>
  <dcterms:modified xsi:type="dcterms:W3CDTF">2007-06-29T13:50:23Z</dcterms:modified>
  <cp:revision>11</cp:revision>
  <dc:subject/>
  <dc:title>a</dc:title>
</cp:coreProperties>
</file>