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954-78F4-44B4-8970-3B2B3971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9C6-FF73-43C0-8EEF-1DD5D554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4F6-B129-4B13-8019-1862C467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C37-ED1C-4A78-8CC2-DF6D893F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5D8-9B26-4465-9E1D-AA6E5408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C37-A9C3-46C8-9618-2ECE6E3F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CD8-5272-48A6-B824-70191BED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7AF-77C8-4817-9CEA-DE0D5AEE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758-186E-49A3-A3C4-3C7952D4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9D1-BACD-47B7-A207-A26793C4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F07-02EB-4AFF-B343-E82083EE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EFA-79FC-4312-9A9D-021E3515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CAC9-E179-46C1-AAC5-9FDCF7581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ff00ff"/>
                </a:solidFill>
                <a:latin typeface="SassoonCRInfantMedium"/>
              </a:rPr>
              <a:t>e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ff"/>
                </a:solidFill>
                <a:latin typeface="SassoonCRInfantMedium"/>
              </a:rPr>
              <a:t>e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lephan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1387440"/>
            <a:ext cx="51850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ff"/>
                </a:solidFill>
                <a:latin typeface="SassoonCRInfantMedium"/>
              </a:rPr>
              <a:t>e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g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476280"/>
            <a:ext cx="2993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ff"/>
                </a:solidFill>
                <a:latin typeface="SassoonCRInfantMedium"/>
              </a:rPr>
              <a:t>e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lbow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3797640" cy="4032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873000">
            <a:off x="5580000" y="3284280"/>
            <a:ext cx="31687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ff"/>
                </a:solidFill>
                <a:latin typeface="SassoonCRInfantMedium"/>
              </a:rPr>
              <a:t>e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velop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5040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ff"/>
                </a:solidFill>
                <a:latin typeface="SassoonCRInfantMedium"/>
              </a:rPr>
              <a:t>E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rt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4360" y="541440"/>
            <a:ext cx="4321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ff"/>
                </a:solidFill>
                <a:latin typeface="SassoonCRInfantMedium"/>
              </a:rPr>
              <a:t>E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ster eggs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446436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8T13:14:39Z</dcterms:modified>
  <cp:revision>9</cp:revision>
  <dc:subject/>
  <dc:title>a</dc:title>
</cp:coreProperties>
</file>