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570A-724B-4805-8D05-93AC6259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8D1-72AA-4DB0-BF3B-13E418A6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23F-8ACD-4265-8301-2234521E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8B4-3ACE-4545-825E-174F2CA8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E4C-185D-42C9-A81B-55FBC92A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7EC-4831-4AA8-8E29-04527E94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8BD2-DEDC-4D7E-81C7-7A97F7E3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4D3-58BB-428D-B99B-7DD0F260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68AD-87CA-4E43-B975-8401DFB4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6F8-1339-420A-9445-5CC2B2EE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3AC-D418-4ADC-93BE-2CB7C993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88A-675C-48B2-A77F-462A75C5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C462-DAB0-42DA-8024-A1D08C34C5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0099cc"/>
                </a:solidFill>
                <a:latin typeface="SassoonCRInfantMedium"/>
              </a:rPr>
              <a:t>u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u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mbrella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4568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u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icor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13120" y="217440"/>
            <a:ext cx="47196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u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p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1280" y="620640"/>
            <a:ext cx="442440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u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derneat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2814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u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gly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79600" y="620640"/>
            <a:ext cx="442440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u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r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79600" y="681120"/>
            <a:ext cx="435312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47:43Z</dcterms:modified>
  <cp:revision>37</cp:revision>
  <dc:subject/>
  <dc:title>a</dc:title>
</cp:coreProperties>
</file>