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FBA-D48B-42CF-B28D-7EE91076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619-34AC-4245-A76B-04B1CC5A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D5E-18B6-407D-AE93-09E1C3AD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A73-B16E-4F9E-862D-9746C79B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9E8-3D12-4471-87AD-976905CC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310-C844-4C26-878F-A62A4817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595-9BD6-4FCE-B01D-F10B0D57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1DC-7871-4173-8EB8-527143A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DA7-0A38-4740-A74F-7E5AADE1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CDD-FA7E-41AC-B04A-486CBDAF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906-EF05-4C60-B4A6-4B9A3BA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217-2EC8-49D7-8D3E-768CB38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6D9-1C1D-4555-B6F1-2866E773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6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endParaRPr b="0" lang="en-US" sz="5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ppl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262080"/>
            <a:ext cx="4753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83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t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936720"/>
            <a:ext cx="5040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ngel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4543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ligato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24664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li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9760" y="333360"/>
            <a:ext cx="24418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e8400"/>
                </a:solidFill>
                <a:latin typeface="SassoonCRInfantMedium"/>
              </a:rPr>
              <a:t>a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mbulanc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2720" y="779400"/>
            <a:ext cx="52560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8T12:34:25Z</dcterms:modified>
  <cp:revision>4</cp:revision>
  <dc:subject/>
  <dc:title>a</dc:title>
</cp:coreProperties>
</file>