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073-5B3D-42DD-9FEF-F0679EB8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3A5-ADD8-42CD-A415-53BA1941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17A-BECD-4451-8CD2-42E322C9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451-175A-402E-80F9-48E1289D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573-44FB-426B-9C59-DBAE666F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6BE-13CE-463F-BCA1-CCC09D7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0F5-D207-4945-9E4D-027FDA8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706-7051-4607-9B1D-A713CEE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1B2-63AA-44A4-86E7-C48FA68C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7DB-3BD0-409E-A742-FC2DDC7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D43-8536-4B5E-98EA-2F6B7BD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BB5-966A-4C1E-B73F-DEB9DB9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4C8A-D39F-4E18-88B1-73C845D9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3112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il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850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st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527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eu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72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arr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392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9933"/>
                </a:solidFill>
                <a:latin typeface="SassoonCRInfantMedium"/>
              </a:rPr>
              <a:t>q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8:47Z</dcterms:modified>
  <cp:revision>28</cp:revision>
  <dc:subject/>
  <dc:title>a</dc:title>
</cp:coreProperties>
</file>