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E1E7-9687-4109-BF21-23730556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AA6-6E2B-48DB-B20C-8D2579B5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B75-C4A4-4669-9200-1090F408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C7B5-E346-4AB9-BF69-F33BD230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B6BE-BEA9-4E6D-BF9E-E697F6E8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18F4-8A4A-4B08-B7B5-4A76B39D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D3C2-DA74-4B68-AAAA-7385A9FC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8AC4-0761-498F-8F60-B59212DD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D29-FCDC-4F39-85BA-E6E201F2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797-6E5F-424B-B1AE-C8F31A70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BA74-5BCA-4269-B532-2C7AB7EF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74D-60B5-44C9-B72E-0F245F27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5002-5EBF-4E09-B83E-1E71AE1358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14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fe94bc"/>
                </a:solidFill>
                <a:latin typeface="SassoonCRInfantMedium"/>
              </a:rPr>
              <a:t>j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e94bc"/>
                </a:solidFill>
                <a:latin typeface="SassoonCRInfantMedium"/>
              </a:rPr>
              <a:t>j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lly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765000"/>
            <a:ext cx="3816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e94bc"/>
                </a:solidFill>
                <a:latin typeface="SassoonCRInfantMedium"/>
              </a:rPr>
              <a:t>j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g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00360" y="765000"/>
            <a:ext cx="36972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e94bc"/>
                </a:solidFill>
                <a:latin typeface="SassoonCRInfantMedium"/>
              </a:rPr>
              <a:t>j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m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46200" y="476280"/>
            <a:ext cx="38545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e94bc"/>
                </a:solidFill>
                <a:latin typeface="SassoonCRInfantMedium"/>
              </a:rPr>
              <a:t>j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mpe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56000" y="549360"/>
            <a:ext cx="38829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e94bc"/>
                </a:solidFill>
                <a:latin typeface="SassoonCRInfantMedium"/>
              </a:rPr>
              <a:t>j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gsaw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56000" y="692280"/>
            <a:ext cx="42415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e94bc"/>
                </a:solidFill>
                <a:latin typeface="SassoonCRInfantMedium"/>
              </a:rPr>
              <a:t>j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ggl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87560" y="260280"/>
            <a:ext cx="2979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50:10Z</dcterms:modified>
  <cp:revision>14</cp:revision>
  <dc:subject/>
  <dc:title>a</dc:title>
</cp:coreProperties>
</file>