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B28-7E4A-49BE-8D5E-A068AA63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74E5-B956-4460-85E0-CC59B849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8A2-BCDD-45D1-BF04-FD64AB2E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7734-4333-422B-88A6-49446CDE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0CDE-B4B6-46A4-9337-7D360479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DC3F-739A-4729-A769-17D4E666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611-1292-4DC9-877C-6119D586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605-6129-4D6F-9E4C-B16D4B4A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44B8-E5F9-48BF-A096-24A32F73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071-0BE3-4EFA-B9CA-11FB3BE8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ADF4-2CA6-41C3-B6C7-2EBA3285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2CD-8040-4C66-B6AE-E13DC59F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CAD0-EE24-43F9-8948-9AB17CE60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38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600" spc="-1" strike="noStrike">
                <a:solidFill>
                  <a:srgbClr val="333399"/>
                </a:solidFill>
                <a:latin typeface="SassoonCRInfantMedium"/>
              </a:rPr>
              <a:t>d</a:t>
            </a:r>
            <a:endParaRPr b="0" lang="en-US" sz="5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d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g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42465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d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ck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5113440" cy="35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d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l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87640" y="549360"/>
            <a:ext cx="33274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d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lphi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5436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d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nne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4007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99"/>
                </a:solidFill>
                <a:latin typeface="SassoonCRInfantMedium"/>
              </a:rPr>
              <a:t>d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o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511344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8T13:09:21Z</dcterms:modified>
  <cp:revision>7</cp:revision>
  <dc:subject/>
  <dc:title>a</dc:title>
</cp:coreProperties>
</file>