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9461-0A9E-43F4-A2DE-D39E1BFBE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24E8-3A6D-4EC3-B632-F202168E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9945-30F7-4A29-A26A-13ED0B29E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407A-0EF9-48EF-AF57-B2B41F28B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4FA6-103C-49B7-B682-A52C2A1F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F286-E7EB-46B6-8332-58CFF150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BEF9-6465-4E07-86EF-95032C45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86EA-7E42-4785-AB40-6487BD85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B2B5-12F8-4791-9C51-9CBFA31B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DE26-4DA0-4D6F-B83C-C2703841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7BCE-D598-4536-9E71-FB88DDC9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0CF5-8547-416A-8F9F-F6CD7986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95FA-363E-4BBC-B91E-9BD82A9405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600" spc="-1" strike="noStrike">
                <a:solidFill>
                  <a:srgbClr val="00f0ea"/>
                </a:solidFill>
                <a:latin typeface="SassoonCRInfantMedium"/>
              </a:rPr>
              <a:t>g</a:t>
            </a:r>
            <a:endParaRPr b="0" lang="en-US" sz="5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f0ea"/>
                </a:solidFill>
                <a:latin typeface="SassoonCRInfantMedium"/>
              </a:rPr>
              <a:t>g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at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95640" y="981000"/>
            <a:ext cx="496872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f0ea"/>
                </a:solidFill>
                <a:latin typeface="SassoonCRInfantMedium"/>
              </a:rPr>
              <a:t>g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lasses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03280" y="907920"/>
            <a:ext cx="655164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f0ea"/>
                </a:solidFill>
                <a:latin typeface="SassoonCRInfantMedium"/>
              </a:rPr>
              <a:t>g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rden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76360" y="549360"/>
            <a:ext cx="648036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f0ea"/>
                </a:solidFill>
                <a:latin typeface="SassoonCRInfantMedium"/>
              </a:rPr>
              <a:t>g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loves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92360" y="404640"/>
            <a:ext cx="596412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f0ea"/>
                </a:solidFill>
                <a:latin typeface="SassoonCRInfantMedium"/>
              </a:rPr>
              <a:t>g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rapes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700360" y="907920"/>
            <a:ext cx="3732120" cy="38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f0ea"/>
                </a:solidFill>
                <a:latin typeface="SassoonCRInfantMedium"/>
              </a:rPr>
              <a:t>g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rass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431172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9T13:50:44Z</dcterms:modified>
  <cp:revision>9</cp:revision>
  <dc:subject/>
  <dc:title>a</dc:title>
</cp:coreProperties>
</file>