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2B3-D708-4489-BC39-DEF28A89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D65-9192-41EA-A3E6-E0495EA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14E-9434-48EC-A277-065EC282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C3B-1FCE-4B77-AE4A-F05C5753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366-154C-48D5-9982-8F32193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25F-DD00-4FAC-9FD1-66C77DD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C3F-DED9-4EBB-BF9C-C94E9EFE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C72-6D48-40C5-B182-7A87744A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239-AB03-4FBC-AAD4-C7533A3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ED-BDC2-41C4-A618-7CED723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078-BFC3-40A9-B5E0-5EAC3934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220-BB48-4747-A495-8A12977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593-E6AF-49E7-8ECE-00F15B0421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nke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84804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99276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137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gici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680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l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9720" y="765000"/>
            <a:ext cx="2960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99cc"/>
                </a:solidFill>
                <a:latin typeface="SassoonCRInfantMedium"/>
              </a:rPr>
              <a:t>m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108000"/>
            <a:ext cx="51116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32Z</dcterms:modified>
  <cp:revision>19</cp:revision>
  <dc:subject/>
  <dc:title>a</dc:title>
</cp:coreProperties>
</file>