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CDF-38D9-43E1-866F-DD41FA1F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553-D077-447F-81ED-3930CE9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114-1DC5-4911-9E9B-9569541A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CF8-762A-4BC0-8027-D22979B9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78F-2E30-478C-B6B4-219C5098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183-973E-430F-9EB4-9B71AC5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2E4-2835-44F5-9F5B-88F8C569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101-6A46-464C-98BB-A1200A9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F7C-2197-49EE-AB51-B48681E2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D3E-C94D-4882-B12E-4D91C99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073-C085-4520-A6D0-766A057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E11-0AAB-456B-AF28-02910120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BBF-583B-4767-8CAF-A800AAB5D8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mat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184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evis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892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dd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376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b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960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SassoonCRInfantMedium"/>
              </a:rPr>
              <a:t>t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e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4956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7:59Z</dcterms:modified>
  <cp:revision>34</cp:revision>
  <dc:subject/>
  <dc:title>a</dc:title>
</cp:coreProperties>
</file>