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0C8-981D-4522-A33A-69530771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F6B-3BC7-45B0-B11D-06B2649C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549-23A6-4BBB-9005-71875B3C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381-FAB6-48F5-AF0E-9A690BC5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6EE-6CB4-4A88-A3C5-AF3DA256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1C08-63A0-4028-9F70-9BB16966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941B-8D93-4612-935B-D2DE848D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9B1-90B9-4BB5-893F-4FAEBC4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9DF-9A1F-436A-85B9-5D673055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363-6A38-438A-A12B-3E8E3BF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605E-96E5-4330-BAEF-D6F650D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35F-10D3-4291-8871-C4566B4D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15E-F323-4990-9A04-29A15F2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12A7-5EA7-4067-9EC1-F1BE518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0CCF-832F-4DE2-A80D-94DF1F9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A000-F6A1-47C7-8EA2-8873C1D4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E574-79B9-4B14-A4AD-12A890FF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1D1-F706-46C5-9AA8-9A53CDE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5E7-95AB-460F-8D77-53136E1F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2F1-AC61-437C-A3B4-DD6553D5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34A-2624-4174-B4D9-E5EA5D9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FAF-D4E9-4EE8-B92F-64896EE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DEF-5745-4BF7-A6AE-FD9DED8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11C-03C8-499F-89A3-2030F25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E9F-9115-4B94-A3CD-B3A2E1A1E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639-8854-403F-A3DA-EA486EABED36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azilian Cit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205000"/>
            <a:ext cx="8048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fact finder learning tool to find out the key ideas about 1 of these Brazilian cities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743200" cy="198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11280" y="3933720"/>
            <a:ext cx="3810240" cy="2563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14600" cy="20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5240" y="765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0120" y="3357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– Brasi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7600" y="602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5:29:52Z</dcterms:created>
  <dc:creator>Scott Haxton</dc:creator>
  <dc:description/>
  <cp:keywords/>
  <dc:language>en-US</dc:language>
  <cp:lastModifiedBy>Pitchford</cp:lastModifiedBy>
  <dcterms:modified xsi:type="dcterms:W3CDTF">2006-04-05T06:11:50Z</dcterms:modified>
  <cp:revision>2</cp:revision>
  <dc:subject/>
  <dc:title> Brazilian C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261033</vt:lpwstr>
  </property>
</Properties>
</file>