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644-7374-4A75-9ED2-488278F5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4CF-1BEF-43DF-8A66-DE95AFD7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9AF-1F26-4769-B46A-254BDFC1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3876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680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3876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680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C4F-7C73-4F45-90DC-15E0F37C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AEDB-294F-4822-966D-2791D63B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806F-DF52-48D5-A0BB-DC5E0788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353B-BC1C-4B73-952F-1C8F7CD0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6C28-141A-41D5-8AEA-FA0347FE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8B7D-400D-4E01-839E-044502A2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561240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3147-E03A-4D16-B449-C74C72FE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B6DB-B495-4D79-80D6-B6E06086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9BE-FE59-4344-BEDD-4C503EBB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9154-268A-4D44-86CC-3863D21A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798E-BE86-48DF-86E3-53A0EA1D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A38B-CC98-4876-BC9F-A7559860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98BB-25F4-4075-B130-CE7FEB53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3876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680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072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3876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680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AF96-E72A-4248-B17A-40D44083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930-BFCD-4D73-86FD-855E1D42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4CA-7A5D-477B-AC19-44973F80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BF1-A2BE-48C9-9EE0-18BB3AB3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561240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916-7BFC-4B58-9AE2-E65A85D9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8ED-892C-40A8-91C7-528EE6D2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AC2-BACC-46D3-B692-F053278B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472-DB73-4EA2-8185-EF589D7B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D344-98A9-4572-AC5A-34148A30F976}" type="slidenum"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44956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97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F2F8-3811-4523-A29C-8CC175381AB4}" type="slidenum"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c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c0c0c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c0c0c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c0c0c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97f"/>
                </a:solidFill>
                <a:latin typeface="Times New Roman"/>
              </a:rPr>
              <a:t>Task 1:</a:t>
            </a:r>
            <a:br>
              <a:rPr sz="4000"/>
            </a:br>
            <a:r>
              <a:rPr b="0" lang="en-US" sz="4000" spc="-1" strike="noStrike">
                <a:solidFill>
                  <a:srgbClr val="e5f97f"/>
                </a:solidFill>
                <a:latin typeface="Times New Roman"/>
              </a:rPr>
              <a:t>Use the fact finder sheet to identify the key ideas you want to include on your postcard.</a:t>
            </a:r>
            <a:endParaRPr b="0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MCTR00092_0000[1]" descr=""/>
          <p:cNvPicPr/>
          <p:nvPr/>
        </p:nvPicPr>
        <p:blipFill>
          <a:blip r:embed="rId2"/>
          <a:stretch/>
        </p:blipFill>
        <p:spPr>
          <a:xfrm>
            <a:off x="0" y="1557360"/>
            <a:ext cx="2733840" cy="2600280"/>
          </a:xfrm>
          <a:prstGeom prst="rect">
            <a:avLst/>
          </a:prstGeom>
          <a:ln w="0">
            <a:noFill/>
          </a:ln>
        </p:spPr>
      </p:pic>
      <p:pic>
        <p:nvPicPr>
          <p:cNvPr id="84" name="MCj01553000000[1]" descr=""/>
          <p:cNvPicPr/>
          <p:nvPr/>
        </p:nvPicPr>
        <p:blipFill>
          <a:blip r:embed="rId3"/>
          <a:stretch/>
        </p:blipFill>
        <p:spPr>
          <a:xfrm>
            <a:off x="0" y="4156200"/>
            <a:ext cx="235260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268360" y="549360"/>
          <a:ext cx="5411880" cy="5938920"/>
        </p:xfrm>
        <a:graphic>
          <a:graphicData uri="http://schemas.openxmlformats.org/drawingml/2006/table">
            <a:tbl>
              <a:tblPr/>
              <a:tblGrid>
                <a:gridCol w="5411880"/>
              </a:tblGrid>
              <a:tr h="59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5f97f"/>
                          </a:solidFill>
                          <a:latin typeface="Times New Roman"/>
                          <a:ea typeface="Times New Roman"/>
                        </a:rPr>
                        <a:t>Task 2:</a:t>
                      </a:r>
                      <a:endParaRPr b="0" lang="en-US" sz="3200" spc="-1" strike="noStrike">
                        <a:solidFill>
                          <a:srgbClr val="c0c0c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5f97f"/>
                          </a:solidFill>
                          <a:latin typeface="Times New Roman"/>
                          <a:ea typeface="Times New Roman"/>
                        </a:rPr>
                        <a:t>Use your fact finder to:</a:t>
                      </a:r>
                      <a:endParaRPr b="0" lang="en-US" sz="3200" spc="-1" strike="noStrike">
                        <a:solidFill>
                          <a:srgbClr val="c0c0c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0c0c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e5f97f"/>
                        </a:buClr>
                        <a:buFont typeface="Symbol" charset="2"/>
                        <a:buChar char=""/>
                        <a:tabLst>
                          <a:tab algn="l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5f97f"/>
                          </a:solidFill>
                          <a:latin typeface="Times New Roman"/>
                          <a:ea typeface="Times New Roman"/>
                        </a:rPr>
                        <a:t>Complete the front of the postcard. Why not include key dates, facts and an illustration?</a:t>
                      </a:r>
                      <a:endParaRPr b="0" lang="en-US" sz="3200" spc="-1" strike="noStrike">
                        <a:solidFill>
                          <a:srgbClr val="c0c0c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5f97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c0c0c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e5f97f"/>
                        </a:buClr>
                        <a:buFont typeface="Symbol" charset="2"/>
                        <a:buChar char=""/>
                        <a:tabLst>
                          <a:tab algn="l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5f97f"/>
                          </a:solidFill>
                          <a:latin typeface="Times New Roman"/>
                          <a:ea typeface="Times New Roman"/>
                        </a:rPr>
                        <a:t>Complete the back of the postcard. What would you say about this city to a friend? Remember to include a name and address.</a:t>
                      </a:r>
                      <a:r>
                        <a:rPr b="0" lang="en-US" sz="3200" spc="-1" strike="noStrike">
                          <a:solidFill>
                            <a:srgbClr val="c0c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c0c0c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5:25:52Z</dcterms:created>
  <dc:creator>Scott Haxton</dc:creator>
  <dc:description/>
  <cp:keywords/>
  <dc:language>en-US</dc:language>
  <cp:lastModifiedBy>Pitchford</cp:lastModifiedBy>
  <dcterms:modified xsi:type="dcterms:W3CDTF">2006-04-05T06:12:42Z</dcterms:modified>
  <cp:revision>3</cp:revision>
  <dc:subject/>
  <dc:title> Task 1: Use the fact finder sheet to identify the key ideas you want to include on your postcard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581033</vt:lpwstr>
  </property>
</Properties>
</file>