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877A-27A1-4AA3-BFF5-DB8F582BC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C1C2-BD6B-4551-BC24-A3354198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07D9-089C-4DC2-9D50-CCB6CB12C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BC8C-EA86-4E9F-BE44-285F6E5C4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EA6D-F99D-46E3-BD8F-C11302D8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D8C0-0810-49A9-9C04-3AA0C69C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8CB6-76AE-47D2-A806-FA85B469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92EE-9144-45A2-AF3D-42DA044F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A4B4-2372-4AEA-BC67-6BE601F9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8A22-E70D-4083-A952-53C357BC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692F-B39E-4D18-B1BF-5B2619F6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116F-D1BD-47A1-AF4F-8F11A861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9FC9-0872-485F-8FE6-9B96D2B9074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kidsnumbers.com/times-tables-games.php" TargetMode="External"/><Relationship Id="rId2" Type="http://schemas.openxmlformats.org/officeDocument/2006/relationships/hyperlink" Target="http://resources.woodlands-junior.kent.sch.uk/maths/timestable/interactive.ht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99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eek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9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th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September 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missgambyswiki.wikispaces.com/file/view/Numeracy.png/80253957/Numeracy.png"/>
          <p:cNvPicPr/>
          <p:nvPr/>
        </p:nvPicPr>
        <p:blipFill>
          <a:blip r:embed="rId1"/>
          <a:stretch/>
        </p:blipFill>
        <p:spPr>
          <a:xfrm>
            <a:off x="755640" y="189000"/>
            <a:ext cx="7581960" cy="244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457200" y="1600200"/>
          <a:ext cx="8218440" cy="4206960"/>
        </p:xfrm>
        <a:graphic>
          <a:graphicData uri="http://schemas.openxmlformats.org/drawingml/2006/table">
            <a:tbl>
              <a:tblPr/>
              <a:tblGrid>
                <a:gridCol w="2054160"/>
                <a:gridCol w="2055960"/>
                <a:gridCol w="2054160"/>
                <a:gridCol w="20541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 digi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 digi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 digi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 digi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23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117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1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74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90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8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09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107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53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595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9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75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101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L.I. To be able to read and write numbers up to 100 000 in figures and wo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ednesday - Mental Mat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Wave 3"/>
          <p:cNvSpPr/>
          <p:nvPr/>
        </p:nvSpPr>
        <p:spPr>
          <a:xfrm>
            <a:off x="971640" y="2421000"/>
            <a:ext cx="2808360" cy="1944720"/>
          </a:xfrm>
          <a:custGeom>
            <a:avLst/>
            <a:gdLst>
              <a:gd name="textAreaLeft" fmla="*/ 0 w 2808360"/>
              <a:gd name="textAreaRight" fmla="*/ 2808720 w 2808360"/>
              <a:gd name="textAreaTop" fmla="*/ 486000 h 1944720"/>
              <a:gd name="textAreaBottom" fmla="*/ 14587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Wave 5"/>
          <p:cNvSpPr/>
          <p:nvPr/>
        </p:nvSpPr>
        <p:spPr>
          <a:xfrm>
            <a:off x="5076720" y="2421000"/>
            <a:ext cx="2808360" cy="1944720"/>
          </a:xfrm>
          <a:custGeom>
            <a:avLst/>
            <a:gdLst>
              <a:gd name="textAreaLeft" fmla="*/ 0 w 2808360"/>
              <a:gd name="textAreaRight" fmla="*/ 2808720 w 2808360"/>
              <a:gd name="textAreaTop" fmla="*/ 486000 h 1944720"/>
              <a:gd name="textAreaBottom" fmla="*/ 14587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611280" y="465300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unt back in 2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4858920" y="4653000"/>
            <a:ext cx="35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unt forward in 2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1835280" y="573264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tarting Number = _____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ednesday – Main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L.I. To be able to know what each digit in a 5-digit number repres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will our SC need to b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L.I. To be able to know what each digit in a 5-digit number represent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70c0"/>
                </a:solidFill>
                <a:latin typeface="Calibri"/>
              </a:rPr>
              <a:t>six thousand, eight hundred and sixty-f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How many digits does this number h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How do we kn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Can you write it in digi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How can we check if we are righ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70c0"/>
                </a:solidFill>
                <a:latin typeface="Calibri"/>
              </a:rPr>
              <a:t>Nineteen thousand, three hundred and ninety-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could this number b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s there anything special about this numb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L.I. To be able to know what each digit in a 5-digit number represent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sing digit cards, generate a number. You can choose how many digits you would like to have (up to 5 digit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258920" y="3429000"/>
            <a:ext cx="1368360" cy="187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6443640" y="3429000"/>
            <a:ext cx="1368360" cy="187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4716360" y="3429000"/>
            <a:ext cx="1368360" cy="187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3059280" y="3429000"/>
            <a:ext cx="1368360" cy="187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4360" y="558972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does each digit repres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L.I. To be able to know what each digit in a 5-digit number represent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ednesday - Plen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n you make any palindromic numbers using 5 digi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.g.                                </a:t>
            </a: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123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ursday – Mental Mat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n you divide these numbers by 2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332000" y="2781360"/>
          <a:ext cx="6095880" cy="210348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2" name="TextBox 4"/>
          <p:cNvSpPr/>
          <p:nvPr/>
        </p:nvSpPr>
        <p:spPr>
          <a:xfrm>
            <a:off x="826920" y="530064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ke some of your own examples for your partner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ursday – Main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L.I. To be able to partition 4-digit numbers into Th, H, T and 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could our SC b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L.I. To be able to partition 4-digit numbers into Th, H, T and U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mg.docstoccdn.com/thumb/orig/24835078.png"/>
          <p:cNvPicPr/>
          <p:nvPr/>
        </p:nvPicPr>
        <p:blipFill>
          <a:blip r:embed="rId1"/>
          <a:stretch/>
        </p:blipFill>
        <p:spPr>
          <a:xfrm>
            <a:off x="900000" y="1341360"/>
            <a:ext cx="7321680" cy="517536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4140360" y="90792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74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onday – Mental Mat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600200"/>
          <a:ext cx="8229600" cy="4054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 digit numb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er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6" name="TextBox 5"/>
          <p:cNvSpPr/>
          <p:nvPr/>
        </p:nvSpPr>
        <p:spPr>
          <a:xfrm>
            <a:off x="1258920" y="5732640"/>
            <a:ext cx="662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different answers can you mak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Can we partition this number? How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alibri"/>
              </a:rPr>
              <a:t>540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L.I. To be able to partition 4-digit numbers into Th, H, T and U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ursday - Plen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rite in figures the number six thousand and fifty-eigh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KS2 2002 Mental test level 3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re is a number sentenc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3000 +  + 40 + 7 = 384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number goes where the  is to make the sentence true?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riday – Problem Solv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Dan the dete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ttp://www.nuttyschildrensparties.co.uk/Detective.jpg"/>
          <p:cNvPicPr/>
          <p:nvPr/>
        </p:nvPicPr>
        <p:blipFill>
          <a:blip r:embed="rId1"/>
          <a:stretch/>
        </p:blipFill>
        <p:spPr>
          <a:xfrm>
            <a:off x="179280" y="1989000"/>
            <a:ext cx="2795760" cy="4680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3708360" y="1484280"/>
            <a:ext cx="4967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Dan the detective looked for a number. He found a two-digit number less than 50. The sum of its digits was 12. Their difference was 4. What number did Dan fin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reak down the 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an the detective looked for a numb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 found a two-digit number less than 50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sum of its digits was 12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ir difference was 4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number did Dan fi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t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9528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an found a two-digit odd number. One of its digits was half the other. The number was greater than 50. What number did Dan fi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www.nuttyschildrensparties.co.uk/Detective.jpg"/>
          <p:cNvPicPr/>
          <p:nvPr/>
        </p:nvPicPr>
        <p:blipFill>
          <a:blip r:embed="rId1"/>
          <a:stretch/>
        </p:blipFill>
        <p:spPr>
          <a:xfrm>
            <a:off x="179280" y="1989000"/>
            <a:ext cx="27957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skills did you use toda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skills did you use toda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900000" y="1628640"/>
            <a:ext cx="7417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olve a given problem by organising and interpreting data in a simple tabl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2. Write whole numbers in figures; know what each digit represent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onday – Main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LI: To be able to recall multiplication facts up to 10 x 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kidsnumbers.com/times-tables-games.php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esources.woodlands-junior.kent.sch.uk/maths/timestable/interactive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mes Table Bin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raw a 3 x 2 gr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lace some numbers into your grid. See if your times table gets called ou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547640" y="2492280"/>
          <a:ext cx="6193080" cy="1800360"/>
        </p:xfrm>
        <a:graphic>
          <a:graphicData uri="http://schemas.openxmlformats.org/drawingml/2006/table">
            <a:tbl>
              <a:tblPr/>
              <a:tblGrid>
                <a:gridCol w="2063880"/>
                <a:gridCol w="2065320"/>
                <a:gridCol w="2063880"/>
              </a:tblGrid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2" name="TextBox 4"/>
          <p:cNvSpPr/>
          <p:nvPr/>
        </p:nvSpPr>
        <p:spPr>
          <a:xfrm>
            <a:off x="539640" y="5805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numbers are the best to pick?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onday - Plen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is three times three added to four times fou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KS2 2003 Mental test level 3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395280" y="436572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ircle all the multiples of 8 in this list of numbe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8      32       56       68       7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KS2 2002 Paper A level 4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onday - Plen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599840"/>
            <a:ext cx="303516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w does this picture relate to what we have been doing tod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y do we need to know our times tab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image.made-in-china.com/2f0j00kecEYQBouGrf/Plastic-Egg-Box-Egg-Tray.jpg"/>
          <p:cNvPicPr/>
          <p:nvPr/>
        </p:nvPicPr>
        <p:blipFill>
          <a:blip r:embed="rId1"/>
          <a:stretch/>
        </p:blipFill>
        <p:spPr>
          <a:xfrm>
            <a:off x="3635280" y="1596960"/>
            <a:ext cx="52516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uesday – Mental Mat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raw a 4 x 2 grid on your whiteboard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 will place a number between 1 and 20 into each box. Can you work out the number bond to 20 and place it in the same box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00000" y="2565360"/>
          <a:ext cx="6912000" cy="1800360"/>
        </p:xfrm>
        <a:graphic>
          <a:graphicData uri="http://schemas.openxmlformats.org/drawingml/2006/table">
            <a:tbl>
              <a:tblPr/>
              <a:tblGrid>
                <a:gridCol w="1727280"/>
                <a:gridCol w="1728720"/>
                <a:gridCol w="1728720"/>
                <a:gridCol w="1727280"/>
              </a:tblGrid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uesday – Main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L.I. To be able to read and write numbers up to 100 000 in figures and wo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could the SC b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L.I. To be able to read and write numbers up to 100 000 in figures and wo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do we know about this number? How can we read it accuratel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8T17:15:48Z</dcterms:created>
  <dc:creator>User</dc:creator>
  <dc:description/>
  <dc:language>en-US</dc:language>
  <cp:lastModifiedBy>User</cp:lastModifiedBy>
  <dcterms:modified xsi:type="dcterms:W3CDTF">2013-09-08T19:40:42Z</dcterms:modified>
  <cp:revision>21</cp:revision>
  <dc:subject/>
  <dc:title>Week 1</dc:title>
</cp:coreProperties>
</file>