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1C57-0A4D-4DD2-B22E-973875A8AC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8145-182C-44C5-A51E-65248C3F7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D7E1D-05D2-4D73-872E-4345BA580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D7CFE-FDAC-41F7-9748-159BABA55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1140E-3392-4BF7-B240-F710A60FA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F28F-3D36-46A0-B4A8-3C280500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5EA52-FEA4-4ADD-8AE3-8049B86E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5FF44-4E08-4048-9C98-F4FD3E1E8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494D-2F2E-4020-ABF9-53B672739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D041-CABA-4583-954B-35EC2C0AF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4F3A9-4746-40BD-953E-AE59D0196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4269A-3E9E-49E0-BCC2-B89C86AC1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2E983-05C0-4EBF-BE6F-E79010E750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4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419640" y="5300640"/>
            <a:ext cx="208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4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4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268360" y="2781360"/>
            <a:ext cx="10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68360" y="3500280"/>
            <a:ext cx="10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40:32Z</dcterms:modified>
  <cp:revision>10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20334689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