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D17-FC03-4108-AB4D-D9F3B42E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0CD-80AC-4D3D-B13B-B1A8594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541-1002-47EF-B678-F6F5E408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AB5-EA0E-4C30-9BC9-E1AB42E9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3082B-4525-4A91-B7FF-D3FF2D5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0CC27-DBCD-43E7-8F64-F1FB9DD1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070B6-BF5E-43B7-B80F-91DE321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0EF1C-1FFE-4F84-8B5A-6B4622D1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0B401-57CB-464A-B679-2ED8E9D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5040-79FD-4B14-835D-C988997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ECD6-D950-461A-A173-944FF9D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13C-82D7-4A31-9AE4-73D7096D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8767F-5CC2-4533-B21D-C95E231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E9B5F-9831-4379-9ABE-2D44BD1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54AD-A10C-41C3-B9BB-EB794719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F5D72-97AF-4821-9821-837E2F1B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09410-C950-4AF6-A459-C4EC5D1A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3BE-4594-485E-B885-0B7A12A8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18D-328A-495D-A8C4-F14F227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933-67F5-4AC7-8051-2F1B867A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96A-6F41-47ED-8462-ED4FCD2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0E8-1219-4417-8A2D-010ECEF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5B3-7F9F-406C-8AE3-9696751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157-232F-48E7-837B-73F9A77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114-BC94-47D7-A685-FE53833CB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8AD-A094-4B44-BF37-DB48E14CE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id the famil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eel they had los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cause of Gran'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eath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ere th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oing to cope in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future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ould Gran still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 there for th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flec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o reflect on loss and sadness in our own lives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15920"/>
            <a:ext cx="81388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ometimes …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people we love ...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move away .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o into hospital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or die.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is causes a sense or a feeling within us - of loss and sadness in our live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Here are some pictures of people I have lost in my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ey show me as a young boy, about your age, with my sister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my Nan and also my da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8760" y="0"/>
            <a:ext cx="39816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 with my Nan and s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 picture of me with my Nan ( Dolly ) and my sister Debbie. I was about 8 or 9 years old in this pic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fortunately, my Nan died not long after my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irthday. The last time I saw her was actually on my birthday, in the hospital she was in. She gave me a love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rthday card and laughed as she hugged me and said “Happy Birthday son!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 sister Debbie, is now married to Mike. They live on the Isle of Wight near Portsmouth, so I don’t get to see her that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442880"/>
            <a:ext cx="676944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This is another picture from the same day, only this time my dad is standing behind me. My dad died on a memorable day Palm Sunday - April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aaBookHmkBold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He was 63 years old and had been sick for quite some 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I still miss him very much and think about him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9200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s is quite a difficult time for 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us. Even when we are grown up 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dults, it can be very hard to co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. But there are always peopl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ends and family who can help 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e at these sad mo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focus on these times – tak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w minutes to think about these 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5920"/>
            <a:ext cx="81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have established that sometimes people we love very mu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 away, go into hospital or di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that I have shared some of my family history, has anyone you love had to move away, or go into hospit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s anyone you love die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can be a fami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er, friends or ev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s or pet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 feel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did you d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you sometimes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ink or tal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out them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r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fe chang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n what ways are they still ‘there’ for you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28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on our Wipe boards, we are going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some words that say how we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the loss of someone we love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dear to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sad, lonely, worried, los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ghtened or si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also thinking about the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e loved them and why they are st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ve within us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they may have spent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us, maybe they were kind or fun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going to include these word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class dis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ass Memory Bask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 we are discussing the people 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ts we may have lost in our lives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y and select someone who w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ecially close to you and wri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ir name on one of the mem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ds you have been given. At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the lesson we will collect thes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put them in our Memory Bask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9152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uccotashHmkBold"/>
              </a:rPr>
              <a:t>Let us consider some of our possible feelings and emotions we may go through when we lose something precious to us….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Gran’s 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ere on our way to Gran’s hous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e of us spoke very mu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 had died two weeks ago and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re going to her house for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time to clear it ou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557360"/>
            <a:ext cx="5616720" cy="42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</p:spTree>
  </p:cSld>
  <p:transition spd="slow">
    <p:pull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 rot="553200">
            <a:off x="2123640" y="1916280"/>
            <a:ext cx="489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1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389600">
            <a:off x="971280" y="1628640"/>
            <a:ext cx="7056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 rot="21195000">
            <a:off x="826920" y="1647360"/>
            <a:ext cx="7305840" cy="443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60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2133720"/>
            <a:ext cx="6265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2133720"/>
            <a:ext cx="741672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945600">
            <a:off x="611280" y="1268280"/>
            <a:ext cx="17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138" name=""/>
          <p:cNvSpPr txBox="1"/>
          <p:nvPr/>
        </p:nvSpPr>
        <p:spPr>
          <a:xfrm rot="21303000">
            <a:off x="5292720" y="1484280"/>
            <a:ext cx="2602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 rot="21100800">
            <a:off x="971640" y="2781000"/>
            <a:ext cx="338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 rot="21195000">
            <a:off x="320400" y="4253040"/>
            <a:ext cx="345744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3640" y="3068640"/>
            <a:ext cx="35308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 rot="413400">
            <a:off x="4284720" y="5084280"/>
            <a:ext cx="43210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8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5 -0.033 -0.06129 -0.027 -0.09993 C -0.024 -0.11325 -0.02 -0.12658 -0.014 -0.13724 C -0.01 -0.10659 0.004 -0.07861 0.025 -0.06129 C 0.025 -0.0986 0.041 -0.13457 0.068 -0.15056 C 0.077 -0.15722 0.087 -0.15989 0.097 -0.16122 C 0.082 -0.13857 0.074 -0.10659 0.077 -0.07328 C 0.099 -0.09727 0.13 -0.1026 0.157 -0.08527 C 0.166 -0.07994 0.175 -0.07062 0.181 -0.06129 C 0.158 -0.06396 0.134 -0.05196 0.117 -0.02798 C 0.144 -0.01999 0.167 0.00799 0.174 0.04663 C 0.176 0.05996 0.176 0.07328 0.174 0.08661 C 0.161 0.06129 0.139 0.04397 0.115 0.0413 C 0.127 0.07461 0.124 0.11592 0.106 0.14656 C 0.099 0.15722 0.091 0.16655 0.082 0.17188 C 0.089 0.14257 0.085 0.10926 0.072 0.08261 C 0.06 0.11592 0.034 0.13857 0.004 0.13857 C -0.007 0.13857 -0.017 0.13591 -0.026 0.13058 C -0.004 0.11992 0.013 0.0946 0.021 0.06396 C -0.007 0.07195 -0.036 0.05996 -0.055 0.02931 C -0.062 0.01732 -0.066 0.00533 -0.069 -0.00799 C -0.049 0.00933 -0.023 0.01199 0 0 Z">
                                      <p:cBhvr>
                                        <p:cTn id="4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48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92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7 L 0.177 -0.09727 L 0.25 0 L 0.25 0.13857 L 0.177 0.23584 L 0.073 0.23584 L 0 0.13857 L 0 0 Z">
                                      <p:cBhvr>
                                        <p:cTn id="4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0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8 L 0.075 0.06529 C 0.08 0.07328 0.088 0.07728 0.098 0.07728 C 0.112 0.07728 0.124 0.06662 0.125 0.05063 C 0.124 0.03731 0.112 0.02532 0.098 0.02532 C 0.088 0.02532 0.08 0.03065 0.075 0.03731 L 0.052 0.07461 C 0.042 0.0906 0.023 0.10126 0 0.1026 C -0.023 0.10126 -0.042 0.0906 -0.052 0.07461 L -0.075 0.03731 C -0.08 0.03065 -0.088 0.02532 -0.098 0.02532 C -0.112 0.02532 -0.124 0.03731 -0.125 0.05063 C -0.124 0.06662 -0.112 0.07728 -0.098 0.07728 C -0.088 0.07728 -0.08 0.07328 -0.075 0.06529 L -0.052 0.02798 C -0.042 0.01199 -0.023 0.00133 0 0 Z">
                                      <p:cBhvr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76120"/>
            <a:ext cx="70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uccotashHmkBlack"/>
              </a:rPr>
              <a:t>But</a:t>
            </a:r>
            <a:r>
              <a:rPr b="0" lang="en-US" sz="9600" spc="-1" strike="noStrike">
                <a:solidFill>
                  <a:srgbClr val="ffffff"/>
                </a:solidFill>
                <a:latin typeface="SuccotashHmkBlack"/>
              </a:rPr>
              <a:t> ……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1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chel thought of the journeys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’s house for holidays. She lik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s old furniture and sec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pboards. Simon thought of Gran’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oking. No one could make apple pi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her. She’d always bake somet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for them too and save 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piece for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8640" y="4581360"/>
            <a:ext cx="83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Empty Inside - Like a shell …………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95360"/>
            <a:ext cx="98409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atever we were to each other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at we still ar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peak to me in the easy way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ich you always used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augh as we always laughed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t the little jokes we enjoyed togeth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my name be ever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 household word - that it always was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t is the same as it ever was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re is unbroken continuity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y should I be out of mind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Because I am out of sight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omewhere very near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Just around the corn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                 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ll is well…………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828720" y="0"/>
            <a:ext cx="8445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aBookHmkBold"/>
              </a:rPr>
              <a:t>      </a:t>
            </a: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8640720" cy="68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atever we were to each other, that we still ar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peak to me in the easy way, which you always used.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augh as we always laughed, at the little jokes we enjoyed togeth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my name be ever the household word that it always was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t is the same as it ever was; there is unbroken continuity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y should I be out of mind because I am out of sight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omewhere very near, just around the corn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All is well. </a:t>
            </a:r>
            <a:r>
              <a:rPr b="1" lang="en-US" sz="1800" spc="-1" strike="noStrike">
                <a:solidFill>
                  <a:srgbClr val="ffffff"/>
                </a:solidFill>
                <a:latin typeface="BaaBookHmkBold"/>
              </a:rPr>
              <a:t>                       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Comic Sans MS"/>
              </a:rPr>
              <a:t>Canon Henry Scott Holland of St. Paul's Cathedral</a:t>
            </a:r>
            <a:r>
              <a:rPr b="1" lang="en-US" sz="700" spc="-1" strike="noStrike">
                <a:solidFill>
                  <a:srgbClr val="ff3300"/>
                </a:solidFill>
                <a:latin typeface="Tahoma"/>
              </a:rPr>
              <a:t>  -  </a:t>
            </a:r>
            <a:r>
              <a:rPr b="1" lang="en-US" sz="1200" spc="-1" strike="noStrike">
                <a:solidFill>
                  <a:srgbClr val="ff3300"/>
                </a:solidFill>
                <a:latin typeface="Comic Sans MS"/>
              </a:rPr>
              <a:t>1847-1918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3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Final Prayer – Eternal 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91659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aBookHmkBold"/>
              </a:rPr>
              <a:t>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Eternal rest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Give on to them Oh Lor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nd let perpetual ligh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Shine upon the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May they rest in pe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m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3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3213000"/>
            <a:ext cx="968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Franklin Gothic Heavy"/>
              </a:rPr>
              <a:t>St. Francis of Assisi – Mission Statement 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At St. Francis school, we love and grow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live and learn i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build and shar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28083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5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m thought of going back to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use for the last time, the h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she’d grown up. How strange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be not to see her Mum sit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her chair by the side of the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Mum had coped with ye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loneliness without her Dad an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complained. She’d always be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h e r 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, as he drove along, was thinking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tle old lady that he’d come to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years. And I thought of Gr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me to knit and to make pas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ought of Gran working in her ga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Gran and I walking to the shops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tarted to c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missed my Gran so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day, we each f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to take home from Gra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se to treasure. I chose Gran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ket where she kept her se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ads and silks. Mum was deligh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chosen that. She felt sure G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have wanted it that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we’d finished sorting out,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t was filled with boxes. When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ft Gran’s house for the last tim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knew that someone else wou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to live here and that we woul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journey to Gran’s house ag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1760" y="189000"/>
            <a:ext cx="9012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Gran’s House - Key ques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34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o you know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bout Gran from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story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5:09Z</dcterms:created>
  <dc:creator>Manager</dc:creator>
  <dc:description/>
  <dc:language>en-US</dc:language>
  <cp:lastModifiedBy>Manager</cp:lastModifiedBy>
  <dcterms:modified xsi:type="dcterms:W3CDTF">2011-03-07T16:01:04Z</dcterms:modified>
  <cp:revision>16</cp:revision>
  <dc:subject/>
  <dc:title>Death / New Life</dc:title>
</cp:coreProperties>
</file>