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003-4489-47D9-A3FF-FA8A6505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8D9-E1FA-4617-97D3-9C4408BF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F93-0140-40CA-BA3D-69A40963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180-17F1-447F-8A5B-6190FB7C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341-7C8A-489A-AC04-50C9E89E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1F8-FA45-4F03-8D12-2DD96C53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741-3A76-4392-90FA-343E0B39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177-B671-449C-B214-A31F478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89A-0FFC-4E7E-9DD7-3735A9F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4CF-DFEA-416E-A9CE-4DE35E8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21A-18CB-448E-ACC2-E0F343A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267-26D8-4AE0-8DD5-78E3055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251-BFD2-4021-809C-C0DEEDC0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set myself a goal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97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need to work with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of someone famous you admi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questions to help you share what you know about th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the person achie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you respect them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stacles were in their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they overcome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elped them achieve their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think the person said / did when they felt li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giving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the person has done in achieving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goals that you think they should not have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qualities or attributes does the person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list 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ies might insp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chie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a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s one per cent inspiration and ninety-nine per cent perspir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6T14:57:43Z</dcterms:modified>
  <cp:revision>10</cp:revision>
  <dc:subject/>
  <dc:title>BASEAL</dc:title>
</cp:coreProperties>
</file>