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39DEB-8153-4E02-B7BD-F3081C63F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74CA7-AC21-447C-A2FE-926053FCC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52787-31B7-4A7A-9B58-1FE73DCA0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B5BEB-CF34-4D87-815A-BF4541EC3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795B1-2E7C-47BA-9033-B83DF43E4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25F89-B996-42E8-9FFD-C93468693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2440B-405B-46B1-940A-3A3C9B477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CCC06-2397-4550-B92F-E47C4F40D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7C7AB-77EA-4409-9A1B-DA09F3EE7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75B7A-2730-41EB-843A-AFA6341D1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2822C-BD1C-44C7-8D3E-C828D5FCA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9A1C1-2F1A-468C-BA17-3FD2CFD08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C1B5D-A8F8-454A-97F1-EDB2B16685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76280"/>
            <a:ext cx="7772400" cy="5689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ASEAL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Going for Goals!  -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.O.1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know the skills and attributes of an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ffective learn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.O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try to develop these skil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ircle time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uess the m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ne person uses the object in the centre of th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ircle to mime an everyday activity. Whoever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uesses the activity gets a “Well don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failed guess gets a “Good tr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nk about how you feel when you are told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ell done” or “Good tr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ss these round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en I guessed the action correctly I felt…….  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en I got the answer wrong I felt …… but when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……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id  “Good try”  I felt …….. 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1557360"/>
            <a:ext cx="784836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e are going to read a story called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              “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The Fourth Son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nk carefully while we are reading 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324000" y="333360"/>
            <a:ext cx="8496000" cy="6120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68360" y="409680"/>
            <a:ext cx="8207280" cy="582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6121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539640" y="404640"/>
            <a:ext cx="8136000" cy="583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229600" cy="6264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333360"/>
            <a:ext cx="8064360" cy="58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onsider these questi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What happened in the stor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Which son would you like to be best? Wh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Which son had been given the most useful present fro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he spirit?  Wh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What might have been written on the six pebbl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What did the fourth son do and what skills did he use as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 good learne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229600" cy="6264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627280" y="333360"/>
            <a:ext cx="5905440" cy="6120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611280" y="1989000"/>
            <a:ext cx="2160360" cy="28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at are the six most important skills involved in learning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e can put each one we agree with on a separate peb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31T09:45:52Z</dcterms:created>
  <dc:creator>freddaynes</dc:creator>
  <dc:description/>
  <dc:language>en-US</dc:language>
  <cp:lastModifiedBy>Nicky D</cp:lastModifiedBy>
  <dcterms:modified xsi:type="dcterms:W3CDTF">2006-12-15T19:50:16Z</dcterms:modified>
  <cp:revision>8</cp:revision>
  <dc:subject/>
  <dc:title>BASEAL</dc:title>
</cp:coreProperties>
</file>