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38CF-948A-4989-9E0D-D2766CA0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488D-B0AC-41AF-AC94-3F83204D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460B-E783-4018-8A96-2BC526F5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07EC-A7C8-441F-82EB-0A487EBE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05A-D318-4E1C-ABDA-0E42CE43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074B-A452-499A-AB29-9D61A88C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96B5-05E3-4DEC-B8AC-8BC48ADF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9FA9-15E3-4B4F-89C6-06BF4106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3F9-F5CB-42AF-A589-CFD58263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4FBF-EB0E-4C9C-9611-817667C4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9F6-C1B4-4221-BC62-FF72B531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958-CFE2-4739-A7B7-815FF615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27E7-0D87-47AF-87A8-4BEF341F0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Going for Goals! 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it down with your partner and hav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effective you were as a teacher an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effective you were as a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know the skills and attributes of a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ive lear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be a critical friend to others and to my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 will need to be prepared to teach something new to some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the class. You may need to use something we have in school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mething you have brought in to help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might consider some of the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9900"/>
                </a:solidFill>
                <a:latin typeface="Arial"/>
              </a:rPr>
              <a:t>Counting to 10 in a different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Braiding 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90099"/>
                </a:solidFill>
                <a:latin typeface="Arial"/>
              </a:rPr>
              <a:t>Using fingers to learn the 9x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Communicating through sign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king friendship brace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9900"/>
                </a:solidFill>
                <a:latin typeface="Arial"/>
              </a:rPr>
              <a:t>Rollerbl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90099"/>
                </a:solidFill>
                <a:latin typeface="Arial"/>
              </a:rPr>
              <a:t>Hula-hoo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66cc"/>
                </a:solidFill>
                <a:latin typeface="Arial"/>
              </a:rPr>
              <a:t>A magic tr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cc00"/>
                </a:solidFill>
                <a:latin typeface="Arial"/>
              </a:rPr>
              <a:t>A football technique or tr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 s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Arial"/>
              </a:rPr>
              <a:t>A tune or rhythm on a musical instr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ing a cat’s cra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will need to make a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will you te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What is their learning style? 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How will you teach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What will you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How long will it ta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How will you know you’ve succeed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sty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ing someone a skill isn’t as easy as you might th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next slide are examples of learning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ere is a grid for you to fill in so that whoev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rying to teach you will know ho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arn b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ne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 some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your own preferred learning styl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7760" y="0"/>
            <a:ext cx="898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at you have an idea of the way your “pupil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s they learn best you may begin to tea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prepared to explain to the cla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taught (or learned)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questions you might ask - or be asked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wards are on the next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 it hard to lea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ld you do it straight a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id you feel if you couldn’t do it very we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d you get better quickly and if so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help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 you feel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 it easy to tea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id you help  …….  to do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seemed the best approach to teach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9:45:52Z</dcterms:created>
  <dc:creator>freddaynes</dc:creator>
  <dc:description/>
  <dc:language>en-US</dc:language>
  <cp:lastModifiedBy>Pitchford</cp:lastModifiedBy>
  <dcterms:modified xsi:type="dcterms:W3CDTF">2007-01-11T09:33:09Z</dcterms:modified>
  <cp:revision>11</cp:revision>
  <dc:subject/>
  <dc:title>BASEAL</dc:title>
</cp:coreProperties>
</file>