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9DC-B940-4711-A417-18DC0BB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EF-2422-4A8B-ACA3-4A4C4220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A3B-F4CC-485E-95BE-6B38246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165-B552-47AA-97F8-6F3802A4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0EE-54E7-46E1-A4BE-1005F262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7DA-A8B0-4417-8130-F7221186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F18-4DD7-4C33-98D0-115D4A0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F75-FC33-4B0C-86FA-BA970A8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D01-86FE-4F93-986B-2AAA4DE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26D-EBBB-44DC-B049-5AEE288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6AE-AD39-4482-97CD-6D00715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58-9C35-40D8-9480-1FF9608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24E-656B-43AF-A298-7CFC8716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apply what I have lea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what I need to learn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need to identify and record what has be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ed in this theme “Going for Goal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have done that we will split into groups and each grou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giv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hings we have identified to discu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ill need to think how we can apply what has been learne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ready to present their conclusions to the rest of the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lass we will then choo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ursue and we’ll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how to do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f the things you might think about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ir own goals for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dentify their own strengths and set a goal for how they are going to impro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take on extended pieces of work and plan how they are to keep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mselves time targets for some pieces of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class to set attendance, punctuality or behaviour targets and plan how to achie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consider and agree their own rewards for meeting goals and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76280"/>
            <a:ext cx="187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dentify ways you can pass on you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s in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begin a new piece of work think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pebble’ you might need for that particular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work is finished think how well you used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you identifi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think about these th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hould you set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appen if you didn’t have a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you always know what you want to achieve before you st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etter : to set a difficult goal and fail to r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n easy goal and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O.K. to change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o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you set yourself any goals in other areas of the curriculum or at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ould you have made it easier to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5:01:04Z</dcterms:modified>
  <cp:revision>10</cp:revision>
  <dc:subject/>
  <dc:title>BASEAL</dc:title>
</cp:coreProperties>
</file>