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1FE2-6E0A-4C5B-AF1D-DC540F50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827-5427-4DBA-BADE-828B2D6F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140-7733-4E13-9017-C9746132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244-5090-4D90-B5FD-DDC5690D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E2C0-9F13-4FB4-91C3-1457CF96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1CCE-6E83-405F-B984-5F77045E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907-963C-48D1-AE2E-AC23D53B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7C0-6EA2-4DAC-8CE2-5D8E9829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BD1-5EE4-479C-A911-8CDBAA4C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063-791B-4BA3-9FC6-76017C11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341C-B562-462F-994A-AED4CEEB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B27-BFA9-4D2C-948F-B44B0967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3262-BADA-45D3-B7BA-09B80C882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Good to be me 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use some strategies to help me when I 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less or inadequ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O.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can feel positive even when things are going w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he manner of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identify and list some of the ways we feel about doing things. We shall use our list in a mo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for star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ea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sera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happ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aw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ri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u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ircle time!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Guess the fe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k with a partner. Agree an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e of you will perform the activity in a way which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certain feel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partn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must try to gues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the feelin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are trying to show.  Later you will swap r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me suggested activities are on the next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suggested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the 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a car / bicycle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how to make a cup of 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a light bu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on a shirt / bl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the bedding in a rabbit’s c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off a fir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a dishwa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g a song / recite a p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ll a j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you can think of your own activ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ou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feel good when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feel frustrated when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may pass if you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ant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 you think mouse was feeling at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ginn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at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assembly 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any of these words f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adequ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u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ever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rav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ccessfu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mouse goes and hides in the hole she meets Vole. Mouse says to Vole “I’m a useless mouse who is no good at anything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a partner to think of strategies that Vole might suggest to help Mouse feel better about hersel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ill collect your strategies and show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strateg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9:00:18Z</dcterms:created>
  <dc:creator>Nicky D</dc:creator>
  <dc:description/>
  <dc:language>en-US</dc:language>
  <cp:lastModifiedBy>Nicky D</cp:lastModifiedBy>
  <dcterms:modified xsi:type="dcterms:W3CDTF">2006-12-21T09:59:42Z</dcterms:modified>
  <cp:revision>2</cp:revision>
  <dc:subject/>
  <dc:title>BASEAL   Good to be me  -1</dc:title>
</cp:coreProperties>
</file>