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75F-5B79-4CD6-9283-29BCEE05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FDE-C2D9-4718-90F8-35FA075E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733-0918-47B3-859D-1765FB52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39C-5345-42CC-AA19-F94ADEEB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812-BD19-4DEC-B3E0-EA3D97E6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30F-8A17-4F97-B9AC-46A30094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206-89D5-4CCA-AC8F-D117EB3F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ED0-904A-4CD7-88FE-F47D99A8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547-A24B-4CA5-B569-D9554F6D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2BE-A5BE-441F-B102-D508C1E6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BBA-B3F9-495F-91B5-3506C27E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FEB-0D78-418E-80A9-0A7E2307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1589-5130-42BA-9902-B5217EDEA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Good to be me 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disagree with someone without falling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cope when someone disagrees with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gree… or….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work with the person next to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be an “agree” pair or a “disagree”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ll read you some statements and you mus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e up with reasons why you agree 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agree with each statemen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gin your answer either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gree because…”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disagree because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bbits make better pets than do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rls work harder than bo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evision is bad fo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ren should wear school uni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rls should not be allowed to wear make up before they are 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hers should stay at home and look after thei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ys and men should not c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ren should have more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ren should be paid to come to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ing animals appear in circuses is cru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one should eat some fruit for breakf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one should have Sunday tea at 5 o’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Donald’s burgers should be ban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ren should walk to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going to play you some mus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ay wander round the room while it is pla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it stops I will read out one of the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must find one person 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sagre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your 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ut th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you’ve found them you should each talk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views and try to convince the o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 that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es it feel to disag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can you disagree with some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hurting their feel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6-12-22T21:59:38Z</dcterms:modified>
  <cp:revision>5</cp:revision>
  <dc:subject/>
  <dc:title>BASEAL   Good to be me  -1</dc:title>
</cp:coreProperties>
</file>