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2C0-3F63-4C3D-951E-90B4ABF5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7DE-1657-4FEA-8943-67239B5E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28D-F404-44ED-94E4-7B213D11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3CB-FAF0-4C64-A485-8420DD60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9CB-8A05-4C71-82C0-E2F54F10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DD7-C0B7-45A3-A9B6-9B357A34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FFC-295C-4A2D-A6E6-BA4E147F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6F7F-15FD-4526-A9BD-B9EAB4A2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8EF-E4D1-4A22-A6E8-FA96970B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5CC-AB16-47B3-945E-47A52EEB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864-DAFB-4C9F-BD15-639F4213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BF7-D8F5-4E00-9FCB-BE9FEDAA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8997-03D0-4D21-A550-DCE6B4842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Good to be me 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make a judgment about whether or not to take a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820908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aking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a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takes ris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rybody takes risks at so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risks an everyday occur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we try to minimise ris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t a risk to put up your hand if you think you know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t a risk to climb to the top of the climbing fr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t a risk to get up in the mo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07280" cy="604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some risks that people t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ill need to record your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we have enough we will put them in order of how risky we think they are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218440" cy="590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 of risks might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limbed on the roof of the old shed as a d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limbed the drainpipe to rescue my c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rote our own play for the class assem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alked across a wire fence between two t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ent into my test without revi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rote a poem instead of a story for my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old my teacher I disagreed with her about what should go into my pa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hose a very complicated piece of music to play in assem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sked my friend for help with my maths when everyone else was being qu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because something is risky it doesn’t mean it isn’t worth doing….standing up for a friend who is being bullied is an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think of any worthwhile ris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 us look at the order we put our risk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tuations 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ill change th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ery worthwhi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not worthwh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the order stay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you taken any risks with your learning that have had positive outcomes e.g. working in a new medium in art or trying something new and difficult in ma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re anything that helped you to take ris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re anything the teacher or other children did that made it feel O.K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there any risks you could take with your learning that you haven’t tried y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 partner discuss something you might try that involves taking a bit of a risk in order to extend your skills or improve you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ganise your thoughts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m I going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worst that can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re the benefits if I am success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Nicky D</cp:lastModifiedBy>
  <dcterms:modified xsi:type="dcterms:W3CDTF">2006-12-22T21:27:52Z</dcterms:modified>
  <cp:revision>7</cp:revision>
  <dc:subject/>
  <dc:title>BASEAL   Good to be me  -1</dc:title>
</cp:coreProperties>
</file>