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9FE-1D93-4E7B-A482-F83B2C5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BD2-DF1E-43F1-BCFA-664AE998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600-2A8D-437B-9007-8F4D7F89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6EA-2264-417B-A16C-AD4A9090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C87-6691-4559-AE87-61ABB26D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DA9-1D8C-4D9D-861D-A25FF528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BE0-19CB-4CE6-9B14-539E3B1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2A0-78FE-48BA-9709-F4E2F27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4D9-1953-4E2B-9B42-B3070E4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813-7EAE-4604-9ED4-CFE6B636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B3A-E85E-460F-AE85-DEB4984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AB9-302F-409D-89A3-727F6173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BBF2-60CF-4537-947F-DD11617D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032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975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mbarras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eople often feel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P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GRY …………….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at themselves or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A LOSS…….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they don’t know what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UNCOMFORTABLE …………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(inside 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ll as “hot and bothered” on the outs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hap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ecognise some of these feelings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it that influences just how embarrassing we find a particula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’s list some idea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ually ou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mbarrass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influenc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is there or who sees and how much we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ir opin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ther what we did was intent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bad we think what we have done i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we “let ourselves down”? –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can this apply even if no-one kn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you think of some embarr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uations that we can rate on the ‘blushometer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GB" sz="500" spc="-1" strike="noStrike">
                <a:solidFill>
                  <a:srgbClr val="000000"/>
                </a:solidFill>
                <a:latin typeface="Arial"/>
              </a:rPr>
              <a:t>Type list for slide 35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even more clos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t these                                       feel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mbarrassmen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f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’ve   read                             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xt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tell you about a time I was embarrassed and what it felt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know some things to do when I am embarrassed that will no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ake things w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use a problem-solving approach to sort out 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barrassing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can think about what embarrasses me and learn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out me that I didn’t know bef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.O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have helped someone who felt embarra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25636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046160"/>
            <a:ext cx="7129440" cy="4719600"/>
          </a:xfrm>
          <a:prstGeom prst="rect">
            <a:avLst/>
          </a:prstGeom>
          <a:ln w="7632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913800" cy="5329440"/>
          </a:xfrm>
          <a:prstGeom prst="rect">
            <a:avLst/>
          </a:prstGeom>
          <a:ln w="57240">
            <a:solidFill>
              <a:srgbClr val="e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people find it embarrassing to be praised out loud in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are going to stand somewhere on an imaginary line on the floor depending on how embarrassed we feel about the following stat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mbarrassment levels are from “not at all” to “very muc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atemen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your par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the cla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in front of a few close frien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ing praised for work in a favourit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d you notice any patterns or gend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ces in where people st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is it embarrassing to be p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some situations and not i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is it embarrassing to be p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doing good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Insert magazin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or newspaper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article or video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clip re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ff0000"/>
                </a:solidFill>
                <a:latin typeface="Arial"/>
              </a:rPr>
              <a:t>embarrassmen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In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pairs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discuss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What can you or other people do when you feel   embarrassed?  What helps?  What makes it wo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a) at the time (when you are feeling the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physical effects of embarrassm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Arial"/>
              </a:rPr>
              <a:t>b) later on, when you are able to problem-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You might consider describing or acting out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 strategies that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 strategies that might be useful </a:t>
            </a:r>
            <a:r>
              <a:rPr b="1" lang="en-GB" sz="1800" spc="-1" strike="noStrike" u="sng">
                <a:solidFill>
                  <a:srgbClr val="3366cc"/>
                </a:solidFill>
                <a:uFillTx/>
                <a:latin typeface="Arial"/>
              </a:rPr>
              <a:t>at the time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of your embarrassment might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one noticing your situation and distracting others by do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omething that takes the spotlight off yo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hrugging your shoulders and laughing (at yoursel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Thinking “well everyone gets embarrassed about something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Deep breath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mil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Ignoring it and walking a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Saying something funny b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Acknowledging that you feel embarra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Some strategies that might be useful </a:t>
            </a:r>
            <a:r>
              <a:rPr b="1" lang="en-GB" sz="2000" spc="-1" strike="noStrike" u="sng">
                <a:solidFill>
                  <a:srgbClr val="3366cc"/>
                </a:solidFill>
                <a:uFillTx/>
                <a:latin typeface="Arial"/>
              </a:rPr>
              <a:t>later on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using the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     problem-solving process might b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Ask someone not to do or say something as you find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embarrassing (when it is not done or said intentionall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When you are embarrassed because you have let yourself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others down, admit that what you have done is wro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Arial"/>
              </a:rPr>
              <a:t>apologise and make am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do we feel if we are embarra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barrassment can have both </a:t>
            </a:r>
            <a:r>
              <a:rPr b="1" lang="en-GB" sz="2800" spc="-1" strike="noStrike">
                <a:solidFill>
                  <a:srgbClr val="ea0000"/>
                </a:solidFill>
                <a:latin typeface="Arial"/>
              </a:rPr>
              <a:t>emotiona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ea0000"/>
                </a:solidFill>
                <a:latin typeface="Arial"/>
              </a:rPr>
              <a:t>physica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ffects on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 us try to list 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can then make a “blushomet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Embarrassment is so horrible that sometimes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we will do anything to avoid feeling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embarr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his means that we are vulnerable to being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bull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How could we avoid this happe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en we are embarrassed it is difficult to thin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sensibly and problem-s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Remember the work we did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“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fight” and “flight” res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and the threats we sometimes f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en we have been overwhelmed by 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feelings it is sometimes difficult to think stra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What behaviour might embarrassment lead us to u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907920"/>
            <a:ext cx="5040360" cy="5580360"/>
          </a:xfrm>
          <a:prstGeom prst="rect">
            <a:avLst/>
          </a:prstGeom>
          <a:noFill/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Remember:     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Feelings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influence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our    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6000" spc="-1" strike="noStrike">
                <a:solidFill>
                  <a:srgbClr val="3366cc"/>
                </a:solidFill>
                <a:latin typeface="Arial"/>
              </a:rPr>
              <a:t>behavio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68836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Let us look at the list of embarrassin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situations you identified earlier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hey are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With a partner discuss how people migh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             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react to those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Be prepared to explain your fi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to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33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Arial"/>
              </a:rPr>
              <a:t>Embarrassing situations you identified earl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Work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Tell your partner something embarrassing that has happened to you or to someone you know. Then share your stories with another p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76280"/>
            <a:ext cx="8064720" cy="563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s a group choose one story and make a ‘freeze frame’ and a headline or caption to go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ach character should say what they are thin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Be prepared to share your work – perhaps in a ‘hot –seat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he rest of the class will try to guess what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y did the embarrassed person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 behave as they d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as their motive a ‘fight’ or a ‘flight’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  response to a thr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One of you will play the part of a person who helps the embarrassed person to feel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need to notice how the embarrassed person responds to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at dangers are there in trying to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hen you go home tonight ask mum or dad      about their most embarrassing mo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Phys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gns of embarra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b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ushing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king…    stamm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We could help someone who is in an embarrassing situation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Role-playing a scene from a morning tele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programme discussing what the person could 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reating a written response, in the style of an ag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aunt or unc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reating a self-help sheet for someone fe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mbarrassed - what can people say or do to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themselves when they are in this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set up a class book of embarrass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ach of you can write or draw about an embarrassing moment you or someone you know has h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collect your ideas and put them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a book for the class to look 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In what way do adults inadvertently embarrass child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could consider writing an open letter to all adults ‘advising’ them on what children find embarrassing and suggesting what adults should do inst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could consider such a letter to the boys in this class – or the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5721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We will make a display of descriptions of 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mbarrassment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wanted the ground to open up and swallow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blushed as red as a beet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could have die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didn’t know where to put my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I could have kicked myself.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work in a small group to regi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GB" sz="3200" spc="-1" strike="noStrike">
                <a:solidFill>
                  <a:srgbClr val="ea0000"/>
                </a:solidFill>
                <a:latin typeface="Arial"/>
              </a:rPr>
              <a:t>emotio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action to the statement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“Blushometer” on the next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319280" cy="61927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549360"/>
            <a:ext cx="3313080" cy="2300040"/>
          </a:xfrm>
          <a:prstGeom prst="rect">
            <a:avLst/>
          </a:prstGeom>
          <a:noFill/>
          <a:ln w="7632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Embarr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’ll colour each statement in shades of red to show how embarrassing i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arker the red the more embarrass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ok more clos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          these                      feelings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mbarras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                 we look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21760" cy="58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Pitchford</cp:lastModifiedBy>
  <dcterms:modified xsi:type="dcterms:W3CDTF">2007-02-09T10:41:47Z</dcterms:modified>
  <cp:revision>14</cp:revision>
  <dc:subject/>
  <dc:title>BASEAL   Good to be me  -1</dc:title>
</cp:coreProperties>
</file>