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E0DC3-44AC-496A-89D3-6BB6AC8B0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E5DA1-65A5-4FCD-B146-A8897CB37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CC648-A7C1-4DB1-9759-F71607D9B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60C64-D78F-4E05-BEA7-85E71697F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62020-A643-4145-AEB4-50039F85C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9E510-E73D-4D89-B1DB-D4C303842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A6FF3-151E-4AFD-A4A5-483586EE7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3E9E8-8202-4D14-9833-05D13829D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5DA54-A53D-42D1-AFB6-3AA585BA6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6037A-E9E7-4E1F-80FF-570025AC1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C30E2-DAAA-4E41-9F4A-A4233F184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50828-E20F-4020-A790-411BE0237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79011-CEDA-4246-8A30-714C5DE1F4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76280"/>
            <a:ext cx="7772400" cy="5689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BASEAL</a:t>
            </a:r>
            <a:br>
              <a:rPr sz="4000"/>
            </a:br>
            <a:br>
              <a:rPr sz="4000"/>
            </a:b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 Relationships  -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.O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 can find out about people who are important to 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.O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 can give and receive a compli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6840" y="404640"/>
            <a:ext cx="8218440" cy="5904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e are going to play “I don’t get it!” in a circ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fterwards w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ill pass round the though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en I make a mistake I feel ….  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We will play a name game. On the slip you pull out of the bag you will find the name of a person in this class. You will make a card about why the person is importa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Your card will be given to the person who will say “thank you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21T09:00:18Z</dcterms:created>
  <dc:creator>Nicky D</dc:creator>
  <dc:description/>
  <dc:language>en-US</dc:language>
  <cp:lastModifiedBy>Nicky D</cp:lastModifiedBy>
  <dcterms:modified xsi:type="dcterms:W3CDTF">2007-01-15T21:05:18Z</dcterms:modified>
  <cp:revision>8</cp:revision>
  <dc:subject/>
  <dc:title>BASEAL   Good to be me  -1</dc:title>
</cp:coreProperties>
</file>