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3738-810D-4599-9B0E-1C67D750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66BB-4F27-4CBF-9D0C-2C1DE97E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E527-A922-4DE6-B1CD-88E935A5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B975-0FCF-4FE4-921E-BCCFB287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B4E9-C2CD-44D0-A272-EF896553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BF16-B524-4192-8350-2C37A758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604-85C5-432D-BCC6-9D5BA7A2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C29-A743-4E12-8D27-FB68F087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D8F2-71C7-4FBC-8328-8931C1BD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EE30-6E20-46AE-A9CA-CF623BFB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FB05-419A-40FF-8712-DF1154FF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3D1F-0C97-4CF8-8F18-366D0C35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DCAA-D865-477C-AF46-50F4CD262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Relationships 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could you make the girl feel better about herself by doing and saying kind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we can think of enough we may be able to put the girl back together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e put-downs necessa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e they kind to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can be racist or homophob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are a major source of confli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know how to make people feel good abou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recognise when I am using a put-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t’s list some of the things that peopl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t make us feel g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these are often called compli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04640"/>
            <a:ext cx="820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t’s list some of the things that people say that make us feel b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these are often called put-dow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t-downs migh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ying or texting something nasty or unkind about the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ying something about the person’s family or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me-c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ughing at someone or making fun of someone (imitating th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aving someone out or not responding to someone when they talk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lling eyes etc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have a model and are going to read the story “Pick me up don’t put me down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time there is a “put-down” or something happens which makes the girl feel bad about herself we will remove one piece of the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 we read the story you should notice the everyday ways we put people down and the effect it has on 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9:00:18Z</dcterms:created>
  <dc:creator>Nicky D</dc:creator>
  <dc:description/>
  <dc:language>en-US</dc:language>
  <cp:lastModifiedBy>freddaynes</cp:lastModifiedBy>
  <dcterms:modified xsi:type="dcterms:W3CDTF">2007-01-23T11:26:53Z</dcterms:modified>
  <cp:revision>12</cp:revision>
  <dc:subject/>
  <dc:title>BASEAL   Good to be me  -1</dc:title>
</cp:coreProperties>
</file>