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8C8-F617-4CC6-8266-67D1BE0E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187-5FF3-4F98-B2EB-6AA1C687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555-AE7E-4F7A-8BB5-A97A4F01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25D-6170-427D-87CF-087F87CD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053-0152-4E7F-AA45-4A4C4689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3BF-54E1-452D-A502-75A0188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28-2C2D-44F1-A514-465C9A7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EB6-228F-4680-804C-E244C2D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37F-6995-47CB-AF64-E3CDED4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9A3-2A1D-430B-B924-461C93C9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D8A-334B-4DA7-9E5D-CD76B04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3D1-48C1-4381-99E4-E8C7A11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802-26B9-410C-88EC-4CA26983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ange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uld be interesting if you could disco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your family has lived in th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ight be able to make a map to sh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y have moved, to find some phot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s, similarities and difference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them and why they 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a small group of others to design a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and How to Survive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should include some way of showing how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feels and also some strategies for surv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make a “Problem Box” where you may put a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you can think of to do with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have enough some of you could gi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s using the problem-solving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you are doing this don’t forg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ing together self-review 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you could complete at 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040" y="317520"/>
            <a:ext cx="781848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hink abou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things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ve you learned from thinking abou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life and how you cope with difficul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s what you’ve learned changed the w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think about or understand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765000"/>
            <a:ext cx="8713800" cy="512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this theme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how you would feel if a change that you didn’t want to happe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ed on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of the reasons that change can feel uncomfortable and sc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how it feels to belong to a group and know it is important for ever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that what we feel and think affects what we do (how we beha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y you behave as you do when you are finding a change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understand why other people are behaving as they do w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finding a change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ways of dealing with the feelings that sometimes arise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9720" y="476280"/>
            <a:ext cx="7864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ow that what we feel and think affects what we do (how we beha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tell you why I behave as I do when I am finding a chang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sometimes understand why other people are behaving as they are when they are finding a chang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ow some ways of dealing with the feelings that sometimes arise from chang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ememb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a link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e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E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how we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BE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f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omfor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becaus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behave in 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O.K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LL FEELINGS ARE O.K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ALL BEHAVIOURS ARE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155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5440" y="189000"/>
            <a:ext cx="7953120" cy="633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……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..   Let’s do this 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things we can do to cope wit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mfortable feel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may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change our outward appearance like chameleons can, 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ed with chan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do several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83664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what will stay the s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n a house move the family is usually the same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family reorganisation school friends wil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e a stable part of lif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of opportunities or possible advantages th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might of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friend moves away you will probably get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or letters and maybe somewhere you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 holiday to see th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76500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ourselves that all change is difficult but that yo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urvived change in the past and can do i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things one day at a time and focus on reward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self  for small successes and any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roblem-solving strate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with others in a similar posi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feelin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ays to relax and calm your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7-12-30T12:23:46Z</dcterms:modified>
  <cp:revision>21</cp:revision>
  <dc:subject/>
  <dc:title>BASEAL</dc:title>
</cp:coreProperties>
</file>