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C7E-741E-44EC-878C-6C4AAFBC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86B-80FC-43CE-AD9C-DFD93D68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51D-22CF-40E0-BC35-E73804CF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87C-1B31-46AF-A4C8-67E1183C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F26-A471-4C3E-B637-6C5B8F17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5C5-EA8D-4D65-B503-AF992C73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78B-FD69-48D2-8EC8-D08C014E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989-2EAB-4F61-B5AB-D0F19956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541-AD7C-42AE-B2E7-F118075B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7A0-4D22-4AD0-AF46-7F547C7A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0A4-5141-474C-A87A-9A8DA56E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4F9-DB21-418B-9091-8CDD1B64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7894-C59A-4FD3-BE3A-20B7332DC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2880" y="4046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rd’s 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72160" y="1197000"/>
            <a:ext cx="5766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ur Fa-ther who art in hea-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al-lowed be thy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y king-dom c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y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will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b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d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 earth as it is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i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hea-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 us this day our dai-ly bre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fo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give us our tres-pass-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 we for-give those who tres-pass a-gainst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lead us not in-to temp-ta-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ut de-liv-er us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fro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e-vi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thine is the King-do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the pow’r, and the glor-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ver and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v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-men, A-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9:39:37Z</dcterms:created>
  <dc:creator>LFT</dc:creator>
  <dc:description/>
  <dc:language>en-US</dc:language>
  <cp:lastModifiedBy> </cp:lastModifiedBy>
  <dcterms:modified xsi:type="dcterms:W3CDTF">2011-06-12T13:48:38Z</dcterms:modified>
  <cp:revision>7</cp:revision>
  <dc:subject/>
  <dc:title>Slide 1</dc:title>
</cp:coreProperties>
</file>