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710-08B7-469E-BAF7-5B046B45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D89-0705-4033-A79A-14F3E2E8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536B-7D73-41C4-A793-223E1023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2C1-D96C-464F-805B-F4CDA320F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A092-6A97-4CAB-931E-1EBFB188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6D99-D3A6-485C-B9F7-B874C977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2AB3-BD96-44CE-BD0D-0A4D5082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1D9-4D40-48EE-BD63-A7ECA1B0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A43D-8B5D-4904-ABE3-92035AEB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1C44-E512-4FE0-977A-CF63DC16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510-71D6-4C1D-8400-E6B31268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CF11-8660-4B73-ACD5-F95A6944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426E-FC3F-45AE-8552-7DFBE73A0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hoic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 are learn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xplore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develop an understanding of 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e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ulam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t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87640" y="260280"/>
            <a:ext cx="3627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ban’s cho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3" idx="0"/>
            <a:endCxn id="53" idx="0"/>
          </p:cNvCxnSpPr>
          <p:nvPr/>
        </p:nvCxnSpPr>
        <p:spPr>
          <a:xfrm>
            <a:off x="4571640" y="1599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 flipH="1">
            <a:off x="3132000" y="1700280"/>
            <a:ext cx="1368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00720" y="1700280"/>
            <a:ext cx="1150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2924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up your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8160" y="292428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ep your fa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00360" y="3284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328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3440" y="4797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6880" y="558972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untrue to what you 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2880" y="4653000"/>
            <a:ext cx="5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5960" y="551664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true to you what you 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7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y choic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68" idx="0"/>
            <a:endCxn id="68" idx="0"/>
          </p:cNvCxnSpPr>
          <p:nvPr/>
        </p:nvCxnSpPr>
        <p:spPr>
          <a:xfrm>
            <a:off x="4571640" y="1599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 flipH="1">
            <a:off x="3132000" y="1700280"/>
            <a:ext cx="1368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1700280"/>
            <a:ext cx="11509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00360" y="3284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328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6880" y="558972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untrue to what you 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35960" y="551664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true to you what you beli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27640" y="5013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5440" y="2708280"/>
            <a:ext cx="31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ick to what I believe is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75480" y="265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37200" y="270828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something that I don’t think is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8fa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84836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1:06:54Z</dcterms:created>
  <dc:creator>oneillg</dc:creator>
  <dc:description/>
  <dc:language>en-US</dc:language>
  <cp:lastModifiedBy>oneillg</cp:lastModifiedBy>
  <dcterms:modified xsi:type="dcterms:W3CDTF">2006-11-01T11:50:27Z</dcterms:modified>
  <cp:revision>5</cp:revision>
  <dc:subject/>
  <dc:title>Choices</dc:title>
</cp:coreProperties>
</file>