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50A3-291F-4941-BEE1-F02888B86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A050-AF23-4E72-9B61-D8BF285C8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7BD5-E3C4-4133-8C38-835D68112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958C-CC65-46F6-A9E5-8648A6932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0BBC-5043-4C4D-BCD3-31547160D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31E6-01B4-4243-96BB-578339B1F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F115-73F1-41E7-869B-3B4590C81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F383-F81B-4B51-9B56-13F6A28BD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A2A7-90B8-4420-89CA-07C6D7359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7CAE-8350-446F-97EB-D042773CA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E807-8C6E-4569-8DDA-286B25789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43CF-274C-4F85-A72B-D81272B39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6073D-9DE0-46B9-9561-18301CA985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audio" Target="file:///tmp/home/.config/libreoffice/4/user/gallery/j0214098.wav" TargetMode="External"/><Relationship Id="rId4" Type="http://schemas.microsoft.com/office/2007/relationships/media" Target="file:///tmp/home/.config/libreoffice/4/user/gallery/j0214098.wav" TargetMode="External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24000" y="631800"/>
            <a:ext cx="8640720" cy="55022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011400" y="836640"/>
            <a:ext cx="3289320" cy="51116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" dur="4745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3"/>
                </p:tgtEl>
              </p:cMediaNode>
            </p:audio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95280" y="189000"/>
            <a:ext cx="2736720" cy="12398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419640" y="189000"/>
            <a:ext cx="5256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Here are the scores u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to the Quarter Fin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076720" y="1844640"/>
            <a:ext cx="2664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ok at the first sc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 flipV="1">
            <a:off x="2411280" y="1699920"/>
            <a:ext cx="2664000" cy="360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564000" y="2492280"/>
            <a:ext cx="45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number next to each country is the number of goals they scored in that ma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708360" y="3429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, Russia scored 2 goals in that match and Sweden didn’t score an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51280" y="4437000"/>
            <a:ext cx="39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o can tell me how many goals Greece scored against Spai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267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ssia 2-0 Swed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ce 1-2 Sp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ance 0-2 Ita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lland 2-0 Rom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stria 0-1 Germ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and 0-1 Croat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rkey 3-2 Czech R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itzerland 2-0 Portug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ce 0-1 Rus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eden 1-2 Sp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lland 4-1 F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aly 1-1 Rom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stria 1-1 Po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atia 2-1 Germ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itzerland 1-2 Turk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zech Rep 1-3 Portug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ce 0-2 Swed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in 4-1 Rus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lland 3-0 Ita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ia 0-0 F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rmany 2-0 Po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stria 0-1 Croat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rtugal 2-0 Turk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253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ssia 2-0 Swed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ce 1-2 Sp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ance 0-2 Ita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lland 2-0 Rom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stria 0-1 Germ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and 0-1 Croat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rkey 3-2 Czech R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itzerland 2-0 Portug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ce 0-1 Rus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eden 1-2 Sp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lland 4-1 F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aly 1-1 Rom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stria 1-1 Po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atia 2-1 Germ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itzerland 1-2 Turk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zech Rep 1-3 Portug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ce 0-2 Swed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in 4-1 Rus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lland 3-0 Ita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ia 0-0 F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rmany 2-0 Po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stria 0-1 Croat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rtugal 2-0 Turk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39640" y="189000"/>
            <a:ext cx="2376720" cy="12049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203640" y="260280"/>
            <a:ext cx="54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nvestigate the score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356000" y="1484280"/>
            <a:ext cx="309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 can we handle this data to find out who scored wha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284720" y="292428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at do we need to know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356000" y="3573360"/>
            <a:ext cx="28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ow can we find ou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56000" y="429264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at do we need to d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253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ssia 2-0 Swed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ce 1-2 Sp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ance 0-2 Ita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lland 2-0 Rom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stria 0-1 Germ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and 0-1 Croat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rkey 3-2 Czech R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itzerland 2-0 Portug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ce 0-1 Rus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eden 1-2 Sp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lland 4-1 F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aly 1-1 Rom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stria 1-1 Po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atia 2-1 Germ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itzerland 1-2 Turk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zech Rep 1-3 Portug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ce 0-2 Swed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in 4-1 Rus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lland 3-0 Ita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ia 0-0 F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rmany 2-0 Po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stria 0-1 Croat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rtugal 2-0 Turk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39640" y="189000"/>
            <a:ext cx="2376720" cy="12049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708360" y="260280"/>
            <a:ext cx="511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Organising our 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92360" y="1341360"/>
            <a:ext cx="30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ich countries compet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020000" y="1052640"/>
            <a:ext cx="345744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3059280" y="1844640"/>
          <a:ext cx="4038480" cy="4405320"/>
        </p:xfrm>
        <a:graphic>
          <a:graphicData uri="http://schemas.openxmlformats.org/drawingml/2006/table">
            <a:tbl>
              <a:tblPr/>
              <a:tblGrid>
                <a:gridCol w="1511280"/>
                <a:gridCol w="2527200"/>
              </a:tblGrid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witzerland Portug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zech Re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urke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roat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ola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ustr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erman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ra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ta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oman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olla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uss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weden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pa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ree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6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7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2459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ssia 2-0 Swed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ce 1-2 Sp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ance 0-2 Ita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lland 2-0 Rom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stria 0-1 Germ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and 0-1 Croat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rkey 3-2 Czech R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itzerland 2-0 Portug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ce 0-1 Rus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eden 1-2 Sp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lland 4-1 F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aly 1-1 Rom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stria 1-1 Po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atia 2-1 Germ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itzerland 1-2 Turk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zech Rep 1-3 Portug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ce 0-2 Swed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in 4-1 Rus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lland 3-0 Ita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ia 0-0 F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rmany 2-0 Po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stria 0-1 Croat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rtugal 2-0 Turk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39640" y="189000"/>
            <a:ext cx="2376720" cy="12049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708360" y="260280"/>
            <a:ext cx="51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Creating a Tally Cha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59280" y="1197000"/>
            <a:ext cx="46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ok at the matches Switzerland were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20000" y="1052640"/>
            <a:ext cx="345744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3059280" y="1844640"/>
          <a:ext cx="4038480" cy="4405320"/>
        </p:xfrm>
        <a:graphic>
          <a:graphicData uri="http://schemas.openxmlformats.org/drawingml/2006/table">
            <a:tbl>
              <a:tblPr/>
              <a:tblGrid>
                <a:gridCol w="1511280"/>
                <a:gridCol w="2527200"/>
              </a:tblGrid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witzerland Portug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zech Re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urke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roat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ola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ustr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erman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ra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ta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oman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olla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uss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weden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pa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ree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" name=""/>
          <p:cNvSpPr/>
          <p:nvPr/>
        </p:nvSpPr>
        <p:spPr>
          <a:xfrm>
            <a:off x="7236000" y="2060640"/>
            <a:ext cx="1223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ow many goals did they scor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380360" y="3789360"/>
            <a:ext cx="1152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rk them in a tally, one match at a ti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4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9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3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3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0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5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39640" y="189000"/>
            <a:ext cx="2376720" cy="12049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276720" y="333360"/>
            <a:ext cx="54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nvestigate the score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5280" y="1341360"/>
            <a:ext cx="698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ing the sheet with the scores from the matches, see if you can answer these ques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55640" y="2349360"/>
            <a:ext cx="5256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Which team or teams scored the most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Which team or teams scored the least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What was the mode scor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Make a bar chart showing the goals for all 16 countries – you will need 16 columns - start a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What was the median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Can you find the mea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26920" y="4508640"/>
            <a:ext cx="5040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Extens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Which team had the most goals scored against the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Which team had the least goals scored against the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What was the highest numbers of goals scored in any match from these scor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rot="2659200">
            <a:off x="6144840" y="2711520"/>
            <a:ext cx="1722600" cy="1571400"/>
          </a:xfrm>
          <a:prstGeom prst="wedgeEllipseCallout">
            <a:avLst>
              <a:gd name="adj1" fmla="val -40106"/>
              <a:gd name="adj2" fmla="val 1300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300720" y="3141720"/>
            <a:ext cx="1871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at do I 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f I finish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3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3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4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5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0" dur="250" autoRev="1" fill="hold"/>
                                        <p:tgtEl>
                                          <p:spTgt spid="7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39640" y="189000"/>
            <a:ext cx="2376720" cy="12049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3924360" y="333360"/>
            <a:ext cx="417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he End Result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1341360"/>
            <a:ext cx="64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oes your bar chart look something like thi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826920" y="1773360"/>
          <a:ext cx="7367760" cy="4851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26920" y="1773360"/>
                    <a:ext cx="7367760" cy="485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9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9T07:40:09Z</dcterms:created>
  <dc:creator> </dc:creator>
  <dc:description/>
  <dc:language>en-US</dc:language>
  <cp:lastModifiedBy> </cp:lastModifiedBy>
  <dcterms:modified xsi:type="dcterms:W3CDTF">2008-06-29T11:19:02Z</dcterms:modified>
  <cp:revision>7</cp:revision>
  <dc:subject/>
  <dc:title>Slide 1</dc:title>
</cp:coreProperties>
</file>