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9E4-14DD-4AD2-A432-E4A0B009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0F0-EF3B-4D94-8DEE-20AB8C94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9B1-3915-4537-B3DF-2AF0BE4D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B6D-B228-4E4B-ABDF-3EB9F5E3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A9A-98E4-40FE-A24D-8BEDE13C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E4F-309D-41F9-B684-6C4EE22B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1DC-E85B-437A-9FD1-67331BFB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DF5-9864-4E1A-B2C7-A8D8806A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FB9-9933-4876-9754-E6877081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D5E-080B-4E8D-A575-E10AA65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4B3-DFD7-4AAC-B65C-1EB0DC0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444-6E23-4226-9E3B-E5C1CB7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843F-6DAC-43B1-9589-F167BC144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use some strategies to help me when I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less or inadequ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feel positive even when things are going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he manner of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identify and list some of the ways we feel about doing things. We shall use our list in a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for sta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er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happ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aw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ri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u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rcle time!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Guess the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 with a partner. Agree an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 of you will perform the activity in a way which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certain fee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partn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ust try to gues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the feel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are trying to show.  Later you will swap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suggested activities are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uggested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the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a car / bicycle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how to make a cup of 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a light bu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on a shirt / bl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the bedding in a rabbit’s c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f a fir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a dishwa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 a song / recite a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l a j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you can think of your own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ou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el good wh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el frustrated wh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pass if you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ant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think mouse was feeling a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at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assembly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any of these words f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adequ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u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ver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ra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fu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mouse goes and hides in the hole she meets Vole. Mouse says to Vole “I’m a useless mouse who is no good at anything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a partner to think of strategies that Vole might suggest to help Mouse feel better about her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ollect your strategies and show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strate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1T09:59:42Z</dcterms:modified>
  <cp:revision>2</cp:revision>
  <dc:subject/>
  <dc:title>BASEAL   Good to be me  -1</dc:title>
</cp:coreProperties>
</file>