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BC102-FD6E-441D-8652-30332551E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B5778-FFAD-411E-9FA3-9D0453B28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AE4F6-C38F-4F29-835D-73438C202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03502-85E8-473B-8DC7-7E0D9E466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2BF9E-730B-4F4F-AA9A-3C6DFCCA8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2A045-C905-4497-90DC-8124DD548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3A64A-76D9-40F4-B298-BC390111B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8313D-EAF1-4B57-881F-536AE26A1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11FF6-72C6-4E54-853F-32BE7E01D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53968-56DA-49F5-A641-5A5F650E7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EEEDB-BA1A-482D-9EBB-53198BE70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2F87D-3FC3-4199-A3C0-E94654B47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24B0-BF3A-4AAC-BACB-9CAFE0D699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Good to be me  -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This i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orking togeth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lf-review checkli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ll use it to see h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ou felt about work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 the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4211640" y="620640"/>
            <a:ext cx="4464000" cy="547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tell the difference between showing I am prou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and boasting.</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2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I know that boasting can make other peop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feel inadequate or use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50920" y="549000"/>
            <a:ext cx="864216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oasting….or just being proud of an achiev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2400" spc="-1" strike="noStrike">
                <a:solidFill>
                  <a:srgbClr val="000000"/>
                </a:solidFill>
                <a:latin typeface="Arial"/>
              </a:rPr>
              <a:t>Sometimes people talk about things they own or things they have done (or say they have done) in a boastful wa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may be done to make other people feel jealous, to make people admire them or to make them feel better about themselv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the next slide you will see some examples of people and their achievements. You will need to think whether or not someone is boasting or is just being proud of their achiev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oy has worked really hard at writing and his teacher gives him a certificate in assembly. He takes it home and shows it to his mum and her friend, telling them how pleased he i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oy comes to school and tells everyone that his family has won the lottery. He spends all playtime and lunchtime telling everyone what sort of car, house, swimming pool, holidays and toys he is going to have from now on.</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irl comes in wearing all the medals she has won for swimming at the weekend and walks around the playground telling everyone how well she has done and how she is probably going to be in the junior olympic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other girl brings a medal she has won at the weekend for gymnastics – she shows her best friend and answers all her questions. She feels really happy inside that she has won and enjoys sharing her good feeling with her fri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1" lang="en-GB" sz="2800" spc="-1" strike="noStrike">
                <a:solidFill>
                  <a:srgbClr val="333399"/>
                </a:solidFill>
                <a:latin typeface="Arial"/>
              </a:rPr>
              <a:t>Work in 2’s or 3’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	</a:t>
            </a:r>
            <a:r>
              <a:rPr b="1" lang="en-GB" sz="2800" spc="-1" strike="noStrike">
                <a:solidFill>
                  <a:srgbClr val="333399"/>
                </a:solidFill>
                <a:latin typeface="Arial"/>
              </a:rPr>
              <a:t>Think of two situations – one which shows boastful behaviour and one which does not – and work out a role-play for e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	</a:t>
            </a:r>
            <a:r>
              <a:rPr b="1" lang="en-GB" sz="2800" spc="-1" strike="noStrike">
                <a:solidFill>
                  <a:srgbClr val="333399"/>
                </a:solidFill>
                <a:latin typeface="Arial"/>
              </a:rPr>
              <a:t>Be prepared to explain what you are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t’s think about these ques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Why do people bo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ould boasting give you a comfortable feel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ow does hearing someone boast make other people feel?  How might they beha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can we do if someone boasts a lot? (Can we use the problem – solving process to decide on a range of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ith a partner write the assembly sto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from the mouse’s point of 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ry to make one version which shows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mouse is boasting and the other to sho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at she is proud.</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You might read or act out your story f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thers to guess which version is whi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4427640" y="620640"/>
            <a:ext cx="4248000" cy="5472360"/>
          </a:xfrm>
          <a:prstGeom prst="rect">
            <a:avLst/>
          </a:prstGeom>
          <a:ln w="0">
            <a:noFill/>
          </a:ln>
        </p:spPr>
      </p:pic>
      <p:sp>
        <p:nvSpPr>
          <p:cNvPr id="50" name=""/>
          <p:cNvSpPr/>
          <p:nvPr/>
        </p:nvSpPr>
        <p:spPr>
          <a:xfrm>
            <a:off x="611280" y="692280"/>
            <a:ext cx="3168720" cy="526572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Jealousy</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versation on the other half of the screen shows the “Yes, but…” challenge to someone who might be boastin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 if we are not boasting, are there situations when we may choose not talk about something we have done because it might make other people feel jealous or sa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will do this ta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t is important to </a:t>
            </a:r>
            <a:r>
              <a:rPr b="1" lang="en-GB" sz="2800" spc="-1" strike="noStrike">
                <a:solidFill>
                  <a:srgbClr val="000000"/>
                </a:solidFill>
                <a:latin typeface="Arial"/>
              </a:rPr>
              <a:t>work together</a:t>
            </a:r>
            <a:r>
              <a:rPr b="0" lang="en-GB" sz="2800" spc="-1" strike="noStrike">
                <a:solidFill>
                  <a:srgbClr val="000000"/>
                </a:solidFill>
                <a:latin typeface="Arial"/>
              </a:rPr>
              <a:t> in a grou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articularly making decisions toget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When the task has been completed we wi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use the checklist on the next slide to exa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your feel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Nicky D</cp:lastModifiedBy>
  <dcterms:modified xsi:type="dcterms:W3CDTF">2006-12-22T12:25:22Z</dcterms:modified>
  <cp:revision>6</cp:revision>
  <dc:subject/>
  <dc:title>BASEAL   Good to be me  -1</dc:title>
</cp:coreProperties>
</file>