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56B3-FFEB-4EE7-95B1-6776D6BB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D994-E766-4D17-97FB-8F6A0031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3B5F-CD58-4D8E-8476-271DE61F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5A93-CDBD-4241-9F00-99A33170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8205-4677-482F-B7AE-BC493BA5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DD99-C67B-4DD3-86DD-F8BA3797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5BA1-39EA-4838-B6EB-82EA795F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A559-D992-4365-9B8C-C3DB2AE9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0348-4D1B-4568-B4A9-83856A6C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5088-42D2-489A-AA98-34EE0572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DB62-FE3C-4910-8C89-D7FE6362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9A25-552C-4717-AF7B-14EBEC57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721F-6694-4F92-B7D7-02EFCA041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Good to be me  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579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can make a judgment about whether or not to take a r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820908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aking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a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takes ris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body takes risks at so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risks an everyday occurr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we try to minimise ris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it a risk to put up your hand if you think you know th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it a risk to climb to the top of the climbing fr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it a risk to get up in the mor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07280" cy="604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think of some risks that people t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will need to record your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we have enough we will put them in order of how risky we think they are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000" y="404640"/>
            <a:ext cx="8218440" cy="590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s of risks might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limbed on the roof of the old shed as a d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limbed the drainpipe to rescue my c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rote our own play for the class assemb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alked across a wire fence between two t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ent into my test without revi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rote a poem instead of a story for my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old my teacher I disagreed with her about what should go into my pain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hose a very complicated piece of music to play in assemb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sked my friend for help with my maths when everyone else was being qu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because something is risky it doesn’t mean it isn’t worth doing….standing up for a friend who is being bullied is an ex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think of any worthwhile risk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 us look at the order we put our risk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tuations 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will change th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ery worthwhil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not worthwhi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the order stay the s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you taken any risks with your learning that have had positive outcomes e.g. working in a new medium in art or trying something new and difficult in ma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ere anything that helped you to take ris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ere anything the teacher or other children did that made it feel O.K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there any risks you could take with your learning that you haven’t tried y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a partner discuss something you might try that involves taking a bit of a risk in order to extend your skills or improve your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ganise your thoughts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m I going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e worst that can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re the benefits if I am success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09:00:18Z</dcterms:created>
  <dc:creator>Nicky D</dc:creator>
  <dc:description/>
  <dc:language>en-US</dc:language>
  <cp:lastModifiedBy>Nicky D</cp:lastModifiedBy>
  <dcterms:modified xsi:type="dcterms:W3CDTF">2006-12-22T21:27:52Z</dcterms:modified>
  <cp:revision>7</cp:revision>
  <dc:subject/>
  <dc:title>BASEAL   Good to be me  -1</dc:title>
</cp:coreProperties>
</file>