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A29-9B82-4BD4-A509-0E1D9DBF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465-2CA3-4B09-B421-59786A4D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055-DE81-4BE2-9562-BB3316E2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D67-BD9E-4EEB-B833-F842603A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B4B-E059-4BF5-898D-AD3E8A89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B23-6385-4029-808E-E68B34D1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372-9D4E-47FC-B7A2-AEC2263B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37D-E03A-4F3C-8B68-DF2DCE0E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4B3-CBF9-429B-9D1A-C4654481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666-14E7-41F9-BB13-D822FA17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C09-4F84-4680-BD4B-D26BC27E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BB9-6116-4D7F-8B7A-3430C13C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623E-6C61-42ED-AD28-510DC0DCC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disagree with someone without fall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cope when someone disagrees with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gree… or….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work with the person next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an “agree” pair or a “disagree”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read you some statements and you mus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 up with reasons why you agree 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agree with each statemen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 your answer either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ree because…”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isagree becaus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bbits make better pets than do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work harder than b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evision is bad fo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wear school uni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should not be allowed to wear make up before they are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s should stay at home and look after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ys and men should not c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have more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be paid to come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ing animals appear in circuses is cr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should eat some fruit for break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should have Sunday tea at 5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Donald’s burgers should be ba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walk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play you some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ay wander round the room while it is pl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t stops I will read out one of the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ust find one person 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agre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your 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u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’ve found them you should each talk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views and try to convince the o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 that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es it feel to disag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an you disagree with some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hurting their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2T21:59:38Z</dcterms:modified>
  <cp:revision>5</cp:revision>
  <dc:subject/>
  <dc:title>BASEAL   Good to be me  -1</dc:title>
</cp:coreProperties>
</file>