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F9D7-91E0-4310-BEAB-0B7A594DB9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D9B3-4748-4FE5-9F66-8BC9BEBD0B9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3950-2471-4588-B6DE-5B8C4327DC3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37443-D4ED-4110-AC4F-8AC7CE80EC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46763-5677-4FFF-84DE-2897353E45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8AC0-C6DE-44A9-B3C5-A4D18D27D6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D705-69B8-494D-A54C-C1ECBC5C8E4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5615-6848-4755-8276-BC5BFF9D3C3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726AC-2E23-4EB5-A7C9-D046CF13D9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C4CF-D2C5-4063-9B3D-6EA814C577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0305-42D1-455C-80D0-00E7598162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E6F0C-F4C1-44D0-BF02-F6FDC99F61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EB7E-2F85-4822-8033-FE8B01843C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99E7-90B3-447C-B560-A2A18978EF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0BDD-1DF0-4261-ABDE-E9F13F7F624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72D8-BD14-4933-8F93-7964FA4754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E26D-E088-4EC6-9E3B-8D1258DD50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01075-A2DF-40F4-AC59-E0E7DD1D3B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4037-B0BA-4A67-953E-A48B9811A8F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9013-F72A-40DC-B046-4ABBC24ED94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BA7E-F6BF-4E0B-A4A7-A79AA30D51D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79162-820B-4186-AA0C-6F8B409A92E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6715-4780-427A-95A2-99DAF67F02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E181-316A-4EE7-889A-ADE768F0CD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FB328-96F5-4295-81E0-D3645F90C8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BAA4-4492-4F6F-AC0F-D7DB1066F10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8407-F4C1-4039-AF60-FDD1227771A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6DD50-4D98-4AB8-AB3D-27E93A0B4B7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3A95-4FF7-499F-9D71-681C59E8EB0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61EB-30E2-46F3-B5AC-5A95A5473D7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8836D-BC4D-4E11-9EFC-6BBAB2279E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0B605-47E1-4EEC-B083-325B4A5B2C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C2D4-AC4E-4B1E-AFD5-8C5D6216064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B817-97AD-4B92-A939-C6635274C8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AF230-B2F4-42EC-A0BC-EC2A114365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B27BD-A359-4356-9260-C89533F200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873D-87BC-4266-9DC3-CD441F15C00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370F-CB62-4779-8FC8-FCDE53BE8A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6A5-8C06-433C-AFAD-35CE1F13D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57A3-C0DA-44F0-8E8B-BB20D506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F11D-81C6-4328-936D-F3AF7332F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E725-4F31-49D1-9AFC-37EF93E63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77EF-06A4-4FB3-BDCA-C2EF28F0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B9B-6579-4D49-8EBE-1E6E48C3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D1B5-12E0-4D68-BD3E-B7C8A515B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C11F-F6EF-49AE-9030-533A190C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EFA4-8191-4F5C-809A-063A7831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4A45-2E2C-4672-ACE0-B2FB28B6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23A7-D8DA-4E66-AAE0-134D4309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7CF0-EC0B-42D1-AA4B-550EC9D0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4054A-04EA-4E8D-A43F-68D4EBC3F16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6"/>
          <p:cNvSpPr/>
          <p:nvPr/>
        </p:nvSpPr>
        <p:spPr>
          <a:xfrm>
            <a:off x="2411280" y="3141720"/>
            <a:ext cx="4321440" cy="57456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2771640" y="1773360"/>
            <a:ext cx="3600720" cy="863640"/>
          </a:xfrm>
          <a:prstGeom prst="rect">
            <a:avLst/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orld War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03280" y="3068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Questions for Mr Hewit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5852-05A6-4F57-9CA1-7CF6C91D5BE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  <a:ea typeface="MS Mincho"/>
              </a:rPr>
              <a:t>How did you entertain yourself outside of work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56568-160F-4C43-92D0-FF6F5811ED1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Did you know of anyone getting married during wartim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AF41-FB2A-4924-AC00-5AB5B3F59D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If so, what were weddings lik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7447-F865-4294-BEFC-EFDAD12A91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Did you worry that our side might not win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E67A-19FF-4CE4-947B-75C984C821C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Did you know anyone who was killed or wounded in the wa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B37B-28F1-4700-9C7E-18C84A9D67B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Tell me about corresponding via letters or otherwise with friends or family in the servi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5C2A-A54B-4EFF-A8CE-86B5C598831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effect did the war have on your health or that of others you knew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558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0ED0A-1775-4F6B-A6DA-74398D18EC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Did you have worthwhile experiences because of the wa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B7EEA-106D-4E86-B309-1992FF6D3CB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was your most memorable experi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02305-0672-4B5E-A9D2-6354CD06CC0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o was your most memorable characte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79C5-8772-49CE-9495-17BB01EF33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How did you feel about the wa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1088B-3A3A-4B11-A30F-714E512B39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was your funniest experien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A179-B8EB-43C8-9D3C-4DABF6DB0E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Have you visited any memorials or participated in any commemorations of the wa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FBF9-8463-4639-91BF-B2AED76CB1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as there a lack of social opportunities and friends because of the war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664C-EB01-46ED-8949-C158702BD22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How did your community respond to the war and civil defence (or other home front) initiativ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ACB5-0DD1-4E59-BDCE-645570968C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Did child care activities change for mother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43738-09D3-47D3-8C50-A2305516FF8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can you tell us about shortages and rationing of food and ga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BCC5E-535E-499D-A539-EB91E69D46D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Did you have a victory garden or other ways to get enough foo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528D-67ED-48AC-B123-351CA5F148C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How did you cope with wartime shortage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99CCE-7285-443B-84FF-96F5CDF868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can you tell us about recycling during WW2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390E-3B76-4176-BF83-26D28B9AAAE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To what extent was there hoarding or black market activity in your area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E18E-393F-4C64-AE82-2036C5E7377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How old were you when the war was declare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1E87F-4C28-4DF4-A0CB-176C92A15DC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How did you feel about war news from newsreels or radio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30DB9-4EC5-4509-BEE6-591A2D5CC34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How did you feel when the war end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FCF1-1CD7-4BA0-92CE-0955182811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did you do when you heard the new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9A100-E1EF-4607-B05E-538E64AF4BC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ere were you on V-E D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76CA0-7293-4E3A-AC46-B8DFC9ADADE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ere were you on V-J Day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36C4-C9BC-4649-B1A7-08A6BD97E47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How would you describe the ways that the war changed your life and those of other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9301-DF56-4266-B55E-272BAFFCC69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Did you keep your wartime friends or continue other wartime activities after the war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6328-CDEC-448E-B040-A91EDC3DCCC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Is there one thought about your wartime experience that you want to share with future generation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607F-EE08-4923-BD9A-1E38658F7AE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were your family or friends' feeling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CB3C5-695C-401D-A610-754170AE25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Did you live with family, friends, or others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5DEB-5C3E-43C0-A3B9-BD8BECE013E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In what ways did the war change your activities or habi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A50AB-9B9E-47DA-9DDA-8EAAB3B33FD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were some of the first changes in your life after the war started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30CD3-1142-41B9-822E-5D22CB76D4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different responsibilities did you have to take on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C5D4-B9BF-42DB-9FF3-F2DF1978D4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  <a:ea typeface="MS Mincho"/>
              </a:rPr>
              <a:t>What social activities were you involved in at school or after school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6C1C5-3945-4B93-8ABC-759E0B1F06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8T20:57:17Z</dcterms:created>
  <dc:creator>ME</dc:creator>
  <dc:description/>
  <dc:language>en-US</dc:language>
  <cp:lastModifiedBy>Lois</cp:lastModifiedBy>
  <cp:lastPrinted>2011-03-02T20:15:24Z</cp:lastPrinted>
  <dcterms:modified xsi:type="dcterms:W3CDTF">2011-03-02T20:18:33Z</dcterms:modified>
  <cp:revision>7</cp:revision>
  <dc:subject/>
  <dc:title>How did you feel about the war?</dc:title>
</cp:coreProperties>
</file>