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8C4-DB1A-48FF-A0B5-7E2BDF68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F3D-D8C4-425F-ABFE-37BF87C4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A35-8910-43FD-802A-1B186F10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DA1-C1D6-4BDA-8956-D18847F3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1BE-E851-42B7-BC40-D15C838A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937-DD5C-41A6-8289-6F884B3F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8C5-703B-499E-A37B-63ED2DAF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0CE-9934-4A8D-B1E4-26D8793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3D9-5351-479B-82E5-2E780B05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99F-128A-4945-8D90-432A17DC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FF5-49F5-40BA-B3BA-9D2EF16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CBC-BAA7-4C1D-AF22-88D3C2E7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FBDE-547F-4CE9-BC56-5E7646BFBC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idsnumbers.com/times-tables-games.php" TargetMode="External"/><Relationship Id="rId2" Type="http://schemas.openxmlformats.org/officeDocument/2006/relationships/hyperlink" Target="http://resources.woodlands-junior.kent.sch.uk/maths/timestable/interactive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ek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9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September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missgambyswiki.wikispaces.com/file/view/Numeracy.png/80253957/Numeracy.png"/>
          <p:cNvPicPr/>
          <p:nvPr/>
        </p:nvPicPr>
        <p:blipFill>
          <a:blip r:embed="rId1"/>
          <a:stretch/>
        </p:blipFill>
        <p:spPr>
          <a:xfrm>
            <a:off x="755640" y="189000"/>
            <a:ext cx="758196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1600200"/>
          <a:ext cx="8218440" cy="420696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23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117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4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90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9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107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95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7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10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read and write numbers up to 100 000 in figures and wo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dnesday -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ave 3"/>
          <p:cNvSpPr/>
          <p:nvPr/>
        </p:nvSpPr>
        <p:spPr>
          <a:xfrm>
            <a:off x="971640" y="2421000"/>
            <a:ext cx="2808360" cy="1944720"/>
          </a:xfrm>
          <a:custGeom>
            <a:avLst/>
            <a:gdLst>
              <a:gd name="textAreaLeft" fmla="*/ 0 w 2808360"/>
              <a:gd name="textAreaRight" fmla="*/ 2808720 w 28083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Wave 5"/>
          <p:cNvSpPr/>
          <p:nvPr/>
        </p:nvSpPr>
        <p:spPr>
          <a:xfrm>
            <a:off x="5076720" y="2421000"/>
            <a:ext cx="2808360" cy="1944720"/>
          </a:xfrm>
          <a:custGeom>
            <a:avLst/>
            <a:gdLst>
              <a:gd name="textAreaLeft" fmla="*/ 0 w 2808360"/>
              <a:gd name="textAreaRight" fmla="*/ 2808720 w 28083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11280" y="465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nt back in 2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858920" y="4653000"/>
            <a:ext cx="35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nt forward in 2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835280" y="5732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tarting Number = ____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dnes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will our SC need to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70c0"/>
                </a:solidFill>
                <a:latin typeface="Calibri"/>
              </a:rPr>
              <a:t>six thousand, eight hundred and sixty-f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ow many digits does this number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Can you write it in dig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ow can we check if we are rig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Nineteen thousand, three hundred and ninety-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could this number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there anything special about this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ing digit cards, generate a number. You can choose how many digits you would like to have (up to 5 digi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44364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71636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05928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4360" y="55897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each digit repres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dnes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you make any palindromic numbers using 5 dig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.g.                               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123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ursday –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you divide these numbers by 2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32000" y="2781360"/>
          <a:ext cx="6095880" cy="21034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2" name="TextBox 4"/>
          <p:cNvSpPr/>
          <p:nvPr/>
        </p:nvSpPr>
        <p:spPr>
          <a:xfrm>
            <a:off x="826920" y="530064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some of your own examples for your partne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urs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partition 4-digit numbers into Th, H, T and 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could our SC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partition 4-digit numbers into Th, H, T and 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mg.docstoccdn.com/thumb/orig/24835078.png"/>
          <p:cNvPicPr/>
          <p:nvPr/>
        </p:nvPicPr>
        <p:blipFill>
          <a:blip r:embed="rId1"/>
          <a:stretch/>
        </p:blipFill>
        <p:spPr>
          <a:xfrm>
            <a:off x="900000" y="1341360"/>
            <a:ext cx="7321680" cy="5175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4140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4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–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054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digit numb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TextBox 5"/>
          <p:cNvSpPr/>
          <p:nvPr/>
        </p:nvSpPr>
        <p:spPr>
          <a:xfrm>
            <a:off x="1258920" y="5732640"/>
            <a:ext cx="66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ifferent answers can you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an we partition this number? How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54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partition 4-digit numbers into Th, H, T and 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urs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rite in figures the number six thousand and fifty-eigh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KS2 2002 Mental test level 3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re is a number sen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000 +  + 40 + 7 = 384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number goes where the  is to make the sentence true?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riday – Problem Sol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Dan the det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nuttyschildrensparties.co.uk/Detective.jpg"/>
          <p:cNvPicPr/>
          <p:nvPr/>
        </p:nvPicPr>
        <p:blipFill>
          <a:blip r:embed="rId1"/>
          <a:stretch/>
        </p:blipFill>
        <p:spPr>
          <a:xfrm>
            <a:off x="179280" y="1989000"/>
            <a:ext cx="2795760" cy="468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708360" y="1484280"/>
            <a:ext cx="4967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an the detective looked for a number. He found a two-digit number less than 50. The sum of its digits was 12. Their difference was 4. What number did Dan fin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eak down th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n the detective looked for a nu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 found a two-digit number less than 5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um of its digits was 1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difference was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number did Dan fi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n found a two-digit odd number. One of its digits was half the other. The number was greater than 50. What number did Dan fi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nuttyschildrensparties.co.uk/Detective.jpg"/>
          <p:cNvPicPr/>
          <p:nvPr/>
        </p:nvPicPr>
        <p:blipFill>
          <a:blip r:embed="rId1"/>
          <a:stretch/>
        </p:blipFill>
        <p:spPr>
          <a:xfrm>
            <a:off x="179280" y="1989000"/>
            <a:ext cx="2795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skills did you use to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skills did you use to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900000" y="1628640"/>
            <a:ext cx="7417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lve a given problem by organising and interpreting data in a simple tab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Write whole numbers in figures; know what each digit represen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I: To be able to recall multiplication facts up to 10 x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idsnumbers.com/times-tables-games.php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esources.woodlands-junior.kent.sch.uk/maths/timestable/interactive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mes Table Bin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raw a 3 x 2 gr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lace some numbers into your grid. See if your times table gets called ou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47640" y="2492280"/>
          <a:ext cx="6193080" cy="180036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539640" y="580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numbers are the best to pick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three times three added to four times fou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KS2 2003 Mental test level 3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5280" y="436572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ircle all the multiples of 8 in this list of numb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8      32       56       68       7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KS2 2002 Paper A level 4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035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does this picture relate to what we have been doing to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do we need to know our times t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image.made-in-china.com/2f0j00kecEYQBouGrf/Plastic-Egg-Box-Egg-Tray.jpg"/>
          <p:cNvPicPr/>
          <p:nvPr/>
        </p:nvPicPr>
        <p:blipFill>
          <a:blip r:embed="rId1"/>
          <a:stretch/>
        </p:blipFill>
        <p:spPr>
          <a:xfrm>
            <a:off x="3635280" y="1596960"/>
            <a:ext cx="5251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uesday –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raw a 4 x 2 grid on your whiteboar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 will place a number between 1 and 20 into each box. Can you work out the number bond to 20 and place it in the same bo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2565360"/>
          <a:ext cx="6912000" cy="1800360"/>
        </p:xfrm>
        <a:graphic>
          <a:graphicData uri="http://schemas.openxmlformats.org/drawingml/2006/table">
            <a:tbl>
              <a:tblPr/>
              <a:tblGrid>
                <a:gridCol w="1727280"/>
                <a:gridCol w="1728720"/>
                <a:gridCol w="1728720"/>
                <a:gridCol w="172728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ues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read and write numbers up to 100 000 in figures and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could the SC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read and write numbers up to 100 000 in figures and wo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 we know about this number? How can we read it accurate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17:15:48Z</dcterms:created>
  <dc:creator>User</dc:creator>
  <dc:description/>
  <dc:language>en-US</dc:language>
  <cp:lastModifiedBy>User</cp:lastModifiedBy>
  <dcterms:modified xsi:type="dcterms:W3CDTF">2013-09-08T19:40:42Z</dcterms:modified>
  <cp:revision>21</cp:revision>
  <dc:subject/>
  <dc:title>Week 1</dc:title>
</cp:coreProperties>
</file>