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25A-E714-449F-9519-318DDC5B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C69-3D95-4E4A-9F89-113D74B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92E-B3E3-49A5-A03A-01EC376D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32B-A13D-4B23-B4AE-AA24E1B1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347-2C36-4295-A38C-DB9DBE3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321-BB69-4F8B-8A42-AEAF48F0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748-7E08-4E5F-A5FC-ED360B5F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4EF-95C9-4FC3-A4FC-40AE05E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75C-E476-4F59-B1E9-8EDE12CC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416-8173-404D-B978-0CF0AC94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FD4-9419-4535-B96C-8CFD14F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1AC-CB3F-44BB-AF97-78A7069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CEC5-628E-4450-BD6E-5D73677C1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Arial"/>
              </a:rPr>
              <a:t>What the heck does that me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mergent -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comes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47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3236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465300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5128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0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2852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9236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2852640"/>
            <a:ext cx="172692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436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800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56720" y="1125360"/>
            <a:ext cx="86328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1928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8800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47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unts back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1916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8360" y="22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32000" y="393372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4360" y="2349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2400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1844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189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0108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40360" y="306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 flipH="1">
            <a:off x="2340000" y="7461360"/>
            <a:ext cx="1200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1 -0.14613 L 0.58003 -1.45688 E">
                                      <p:cBhvr>
                                        <p:cTn id="812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765000"/>
            <a:ext cx="7561440" cy="561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63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6728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3280" y="3429000"/>
            <a:ext cx="1224000" cy="2409480"/>
            <a:chOff x="2843280" y="3429000"/>
            <a:chExt cx="1224000" cy="2409480"/>
          </a:xfrm>
        </p:grpSpPr>
        <p:grpSp>
          <p:nvGrpSpPr>
            <p:cNvPr id="386" name=""/>
            <p:cNvGrpSpPr/>
            <p:nvPr/>
          </p:nvGrpSpPr>
          <p:grpSpPr>
            <a:xfrm>
              <a:off x="2843280" y="3429000"/>
              <a:ext cx="1224000" cy="2409480"/>
              <a:chOff x="2843280" y="3429000"/>
              <a:chExt cx="1224000" cy="240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43280" y="3429000"/>
                <a:ext cx="1224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000" spc="-1" strike="noStrike">
                    <a:solidFill>
                      <a:srgbClr val="000000"/>
                    </a:solidFill>
                    <a:latin typeface="Arial"/>
                  </a:rPr>
                  <a:t>joi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59280" y="5013360"/>
                <a:ext cx="576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27672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859280" y="3429000"/>
            <a:ext cx="1871280" cy="2409480"/>
            <a:chOff x="4859280" y="3429000"/>
            <a:chExt cx="1871280" cy="2409480"/>
          </a:xfrm>
        </p:grpSpPr>
        <p:grpSp>
          <p:nvGrpSpPr>
            <p:cNvPr id="391" name=""/>
            <p:cNvGrpSpPr/>
            <p:nvPr/>
          </p:nvGrpSpPr>
          <p:grpSpPr>
            <a:xfrm>
              <a:off x="4859280" y="3429000"/>
              <a:ext cx="1871280" cy="2409480"/>
              <a:chOff x="4859280" y="3429000"/>
              <a:chExt cx="1871280" cy="2409480"/>
            </a:xfrm>
          </p:grpSpPr>
          <p:sp>
            <p:nvSpPr>
              <p:cNvPr id="392" name=""/>
              <p:cNvSpPr/>
              <p:nvPr/>
            </p:nvSpPr>
            <p:spPr>
              <a:xfrm>
                <a:off x="4859280" y="3429000"/>
                <a:ext cx="1871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000" spc="-1" strike="noStrike">
                    <a:solidFill>
                      <a:srgbClr val="000000"/>
                    </a:solidFill>
                    <a:latin typeface="Arial"/>
                  </a:rPr>
                  <a:t>makes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89400" y="5013360"/>
                <a:ext cx="88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565164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476360" y="1197000"/>
            <a:ext cx="6481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4364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9966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3528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572000" y="2565360"/>
            <a:ext cx="223200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804000" y="1557360"/>
            <a:ext cx="720720" cy="1870200"/>
            <a:chOff x="6804000" y="1557360"/>
            <a:chExt cx="720720" cy="1870200"/>
          </a:xfrm>
        </p:grpSpPr>
        <p:sp>
          <p:nvSpPr>
            <p:cNvPr id="401" name=""/>
            <p:cNvSpPr/>
            <p:nvPr/>
          </p:nvSpPr>
          <p:spPr>
            <a:xfrm>
              <a:off x="6804000" y="1557360"/>
              <a:ext cx="720720" cy="790560"/>
            </a:xfrm>
            <a:custGeom>
              <a:avLst/>
              <a:gdLst>
                <a:gd name="textAreaLeft" fmla="*/ 169200 w 720720"/>
                <a:gd name="textAreaRight" fmla="*/ 550800 w 72072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04000" y="2637000"/>
              <a:ext cx="720720" cy="790560"/>
            </a:xfrm>
            <a:custGeom>
              <a:avLst/>
              <a:gdLst>
                <a:gd name="textAreaLeft" fmla="*/ 169200 w 720720"/>
                <a:gd name="textAreaRight" fmla="*/ 550800 w 72072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908000" y="1341360"/>
            <a:ext cx="1297080" cy="1941480"/>
            <a:chOff x="1908000" y="1341360"/>
            <a:chExt cx="1297080" cy="1941480"/>
          </a:xfrm>
        </p:grpSpPr>
        <p:sp>
          <p:nvSpPr>
            <p:cNvPr id="404" name=""/>
            <p:cNvSpPr/>
            <p:nvPr/>
          </p:nvSpPr>
          <p:spPr>
            <a:xfrm>
              <a:off x="1908000" y="1341360"/>
              <a:ext cx="721080" cy="790560"/>
            </a:xfrm>
            <a:custGeom>
              <a:avLst/>
              <a:gdLst>
                <a:gd name="textAreaLeft" fmla="*/ 169200 w 721080"/>
                <a:gd name="textAreaRight" fmla="*/ 551160 w 72108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8000" y="2492280"/>
              <a:ext cx="721080" cy="790560"/>
            </a:xfrm>
            <a:custGeom>
              <a:avLst/>
              <a:gdLst>
                <a:gd name="textAreaLeft" fmla="*/ 169200 w 721080"/>
                <a:gd name="textAreaRight" fmla="*/ 551160 w 72108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84360" y="1916280"/>
              <a:ext cx="720720" cy="790560"/>
            </a:xfrm>
            <a:custGeom>
              <a:avLst/>
              <a:gdLst>
                <a:gd name="textAreaLeft" fmla="*/ 169200 w 720720"/>
                <a:gd name="textAreaRight" fmla="*/ 550800 w 72072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dds numbers to 5 with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0" y="3357720"/>
            <a:ext cx="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2637000"/>
            <a:ext cx="1582920" cy="180000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2948E-006 L 0.19688 -3.2948E-006 E">
                                      <p:cBhvr>
                                        <p:cTn id="866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7341E-007 L -0.18126 1.7341E-007 E">
                                      <p:cBhvr>
                                        <p:cTn id="870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68360" y="18900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dds numbers to 5 with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1456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19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1456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67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19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1456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6728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1964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00720" y="1341360"/>
            <a:ext cx="719280" cy="719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1341360"/>
            <a:ext cx="718920" cy="719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01080" y="1341360"/>
            <a:ext cx="718920" cy="719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43640" y="306864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4360" y="306864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393372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4360" y="393372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01080" y="342900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59640" y="501336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573408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24720" y="501336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24720" y="573408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kes away numbers to 5 with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765000"/>
            <a:ext cx="7561440" cy="561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6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728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19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627280" y="3429000"/>
            <a:ext cx="1728000" cy="2409480"/>
            <a:chOff x="2627280" y="3429000"/>
            <a:chExt cx="1728000" cy="2409480"/>
          </a:xfrm>
        </p:grpSpPr>
        <p:grpSp>
          <p:nvGrpSpPr>
            <p:cNvPr id="446" name=""/>
            <p:cNvGrpSpPr/>
            <p:nvPr/>
          </p:nvGrpSpPr>
          <p:grpSpPr>
            <a:xfrm>
              <a:off x="2627280" y="3429000"/>
              <a:ext cx="1728000" cy="2409480"/>
              <a:chOff x="2627280" y="3429000"/>
              <a:chExt cx="1728000" cy="2409480"/>
            </a:xfrm>
          </p:grpSpPr>
          <p:sp>
            <p:nvSpPr>
              <p:cNvPr id="447" name=""/>
              <p:cNvSpPr/>
              <p:nvPr/>
            </p:nvSpPr>
            <p:spPr>
              <a:xfrm>
                <a:off x="2627280" y="3429000"/>
                <a:ext cx="17280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0000"/>
                    </a:solidFill>
                    <a:latin typeface="Arial"/>
                  </a:rPr>
                  <a:t>Take awa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32200" y="5013360"/>
                <a:ext cx="813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23928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59280" y="3429000"/>
            <a:ext cx="1871280" cy="2409480"/>
            <a:chOff x="4859280" y="3429000"/>
            <a:chExt cx="1871280" cy="2409480"/>
          </a:xfrm>
        </p:grpSpPr>
        <p:grpSp>
          <p:nvGrpSpPr>
            <p:cNvPr id="451" name=""/>
            <p:cNvGrpSpPr/>
            <p:nvPr/>
          </p:nvGrpSpPr>
          <p:grpSpPr>
            <a:xfrm>
              <a:off x="4859280" y="3429000"/>
              <a:ext cx="1871280" cy="2409480"/>
              <a:chOff x="4859280" y="3429000"/>
              <a:chExt cx="1871280" cy="24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4859280" y="3429000"/>
                <a:ext cx="187128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0000"/>
                    </a:solidFill>
                    <a:latin typeface="Arial"/>
                  </a:rPr>
                  <a:t>leav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9400" y="5013360"/>
                <a:ext cx="88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65164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476360" y="1197000"/>
            <a:ext cx="6481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3528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4036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4364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8720" y="1844640"/>
            <a:ext cx="1152360" cy="114948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480"/>
              <a:gd name="textAreaBottom" fmla="*/ 721080 h 11494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24000" y="3357720"/>
            <a:ext cx="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076720" y="2637000"/>
            <a:ext cx="158292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32720" y="1844640"/>
            <a:ext cx="1152360" cy="114948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480"/>
              <a:gd name="textAreaBottom" fmla="*/ 721080 h 11494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11640" y="1773360"/>
            <a:ext cx="1152360" cy="114912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120"/>
              <a:gd name="textAreaBottom" fmla="*/ 720720 h 1149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6360" y="1773360"/>
            <a:ext cx="1152360" cy="114912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120"/>
              <a:gd name="textAreaBottom" fmla="*/ 720720 h 1149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92360" y="1773360"/>
            <a:ext cx="1152360" cy="114912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120"/>
              <a:gd name="textAreaBottom" fmla="*/ 720720 h 1149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00720" y="2852640"/>
            <a:ext cx="1223640" cy="1728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468360" y="18900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Subtracts numbers to 5 with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1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63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1456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67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3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1456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7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1456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6728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32720" y="126828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67640" y="126828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2720" y="198900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67640" y="198900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32720" y="314172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08720" y="3645000"/>
            <a:ext cx="648000" cy="718920"/>
          </a:xfrm>
          <a:custGeom>
            <a:avLst/>
            <a:gdLst>
              <a:gd name="textAreaLeft" fmla="*/ 152280 w 648000"/>
              <a:gd name="textAreaRight" fmla="*/ 495360 w 64800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85080" y="400536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885080" y="314172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32720" y="400536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04000" y="5300640"/>
            <a:ext cx="360360" cy="1008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51640" y="5300640"/>
            <a:ext cx="360360" cy="1008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01080" y="5300640"/>
            <a:ext cx="360360" cy="1008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900" spc="-1" strike="noStrike">
                <a:solidFill>
                  <a:srgbClr val="000000"/>
                </a:solidFill>
                <a:latin typeface="Arial"/>
              </a:rPr>
              <a:t>That’s all Folks!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ame: ___________   Year: ___</a:t>
            </a:r>
            <a:br>
              <a:rPr sz="2000"/>
            </a:br>
            <a:br>
              <a:rPr sz="20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Knowledge -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hecking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ads Number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rites Number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unts Groups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kes Groups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tches Sets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th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tches word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th num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rders 0-9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unts Fw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NZ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ames 1 bigger           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Names 1 smaller       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ack Counts                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Adds Numbers to five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btracts Numbers to 5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48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141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0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400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393372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1268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12000" y="148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80360" y="40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unt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4869000"/>
            <a:ext cx="1368360" cy="158436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771640" y="1700280"/>
            <a:ext cx="1368360" cy="1584360"/>
            <a:chOff x="2771640" y="1700280"/>
            <a:chExt cx="1368360" cy="1584360"/>
          </a:xfrm>
        </p:grpSpPr>
        <p:sp>
          <p:nvSpPr>
            <p:cNvPr id="59" name=""/>
            <p:cNvSpPr/>
            <p:nvPr/>
          </p:nvSpPr>
          <p:spPr>
            <a:xfrm>
              <a:off x="2771640" y="1700280"/>
              <a:ext cx="1368360" cy="1584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92360" y="24192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000" y="24192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6360" y="18432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16000" y="476280"/>
            <a:ext cx="1584360" cy="1584360"/>
            <a:chOff x="1116000" y="476280"/>
            <a:chExt cx="1584360" cy="1584360"/>
          </a:xfrm>
        </p:grpSpPr>
        <p:sp>
          <p:nvSpPr>
            <p:cNvPr id="64" name=""/>
            <p:cNvSpPr/>
            <p:nvPr/>
          </p:nvSpPr>
          <p:spPr>
            <a:xfrm>
              <a:off x="1116000" y="476280"/>
              <a:ext cx="1584360" cy="1584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8920" y="765000"/>
              <a:ext cx="431640" cy="4827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63640" y="1484280"/>
              <a:ext cx="432000" cy="4827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3640" y="549360"/>
              <a:ext cx="432000" cy="48240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24000" y="1052640"/>
              <a:ext cx="432000" cy="48240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79280" y="4653000"/>
            <a:ext cx="1656000" cy="1873080"/>
            <a:chOff x="179280" y="4653000"/>
            <a:chExt cx="1656000" cy="1873080"/>
          </a:xfrm>
        </p:grpSpPr>
        <p:sp>
          <p:nvSpPr>
            <p:cNvPr id="70" name=""/>
            <p:cNvSpPr/>
            <p:nvPr/>
          </p:nvSpPr>
          <p:spPr>
            <a:xfrm>
              <a:off x="179280" y="4653000"/>
              <a:ext cx="1656000" cy="187308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7280" y="47970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6000" y="53002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360" y="587664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4360" y="47970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515736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87280" y="587664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4360" y="53002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0" y="2276640"/>
            <a:ext cx="2016000" cy="2160360"/>
            <a:chOff x="0" y="2276640"/>
            <a:chExt cx="2016000" cy="2160360"/>
          </a:xfrm>
        </p:grpSpPr>
        <p:sp>
          <p:nvSpPr>
            <p:cNvPr id="79" name=""/>
            <p:cNvSpPr/>
            <p:nvPr/>
          </p:nvSpPr>
          <p:spPr>
            <a:xfrm>
              <a:off x="0" y="2276640"/>
              <a:ext cx="2016000" cy="2160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80" y="313992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364500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00" y="386064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920" y="364500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3280" y="234792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84000" y="306864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6920" y="256392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8000" y="256392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3280" y="306864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932360" y="1628640"/>
            <a:ext cx="1223640" cy="1440000"/>
            <a:chOff x="4932360" y="1628640"/>
            <a:chExt cx="1223640" cy="1440000"/>
          </a:xfrm>
        </p:grpSpPr>
        <p:sp>
          <p:nvSpPr>
            <p:cNvPr id="90" name=""/>
            <p:cNvSpPr/>
            <p:nvPr/>
          </p:nvSpPr>
          <p:spPr>
            <a:xfrm>
              <a:off x="4932360" y="1628640"/>
              <a:ext cx="1223640" cy="14400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37080" y="2203200"/>
              <a:ext cx="361800" cy="4302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219640" y="4653000"/>
            <a:ext cx="1656000" cy="1873080"/>
            <a:chOff x="5219640" y="4653000"/>
            <a:chExt cx="1656000" cy="1873080"/>
          </a:xfrm>
        </p:grpSpPr>
        <p:sp>
          <p:nvSpPr>
            <p:cNvPr id="93" name=""/>
            <p:cNvSpPr/>
            <p:nvPr/>
          </p:nvSpPr>
          <p:spPr>
            <a:xfrm>
              <a:off x="5219640" y="4653000"/>
              <a:ext cx="1656000" cy="187308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530064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35640" y="494028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72360" y="558972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00720" y="501336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62560" y="566100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472428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50920" y="4869000"/>
            <a:ext cx="1295280" cy="1584360"/>
            <a:chOff x="2050920" y="4869000"/>
            <a:chExt cx="1295280" cy="1584360"/>
          </a:xfrm>
        </p:grpSpPr>
        <p:sp>
          <p:nvSpPr>
            <p:cNvPr id="101" name=""/>
            <p:cNvSpPr/>
            <p:nvPr/>
          </p:nvSpPr>
          <p:spPr>
            <a:xfrm>
              <a:off x="2050920" y="4869000"/>
              <a:ext cx="1295280" cy="1584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2920" y="580536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54200" y="515772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236000" y="4581360"/>
            <a:ext cx="1655640" cy="1873440"/>
            <a:chOff x="7236000" y="4581360"/>
            <a:chExt cx="1655640" cy="1873440"/>
          </a:xfrm>
        </p:grpSpPr>
        <p:sp>
          <p:nvSpPr>
            <p:cNvPr id="105" name=""/>
            <p:cNvSpPr/>
            <p:nvPr/>
          </p:nvSpPr>
          <p:spPr>
            <a:xfrm>
              <a:off x="7236000" y="4581360"/>
              <a:ext cx="1655640" cy="187344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60000" y="52308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07280" y="52308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3640" y="587844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83640" y="458136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5280" y="47260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15280" y="566244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23280" y="57340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23280" y="47260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093080" y="907920"/>
            <a:ext cx="1655640" cy="1873440"/>
            <a:chOff x="7093080" y="907920"/>
            <a:chExt cx="1655640" cy="1873440"/>
          </a:xfrm>
        </p:grpSpPr>
        <p:sp>
          <p:nvSpPr>
            <p:cNvPr id="115" name=""/>
            <p:cNvSpPr/>
            <p:nvPr/>
          </p:nvSpPr>
          <p:spPr>
            <a:xfrm>
              <a:off x="7093080" y="907920"/>
              <a:ext cx="1655640" cy="187344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29440" y="213192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7440" y="1915920"/>
              <a:ext cx="360000" cy="43200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9080" y="979200"/>
              <a:ext cx="360000" cy="43200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45440" y="126684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9080" y="1555560"/>
              <a:ext cx="360000" cy="43200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95640" y="5229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5516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501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19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112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492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5300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1916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ches Sets with Num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125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2781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50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268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80000" y="1125360"/>
            <a:ext cx="2592360" cy="4967640"/>
            <a:chOff x="5580000" y="1125360"/>
            <a:chExt cx="2592360" cy="4967640"/>
          </a:xfrm>
        </p:grpSpPr>
        <p:sp>
          <p:nvSpPr>
            <p:cNvPr id="143" name=""/>
            <p:cNvSpPr/>
            <p:nvPr/>
          </p:nvSpPr>
          <p:spPr>
            <a:xfrm>
              <a:off x="5580000" y="1125360"/>
              <a:ext cx="2592360" cy="496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276640"/>
              <a:ext cx="1008360" cy="1079280"/>
            </a:xfrm>
            <a:custGeom>
              <a:avLst/>
              <a:gdLst>
                <a:gd name="textAreaLeft" fmla="*/ 236880 w 1008360"/>
                <a:gd name="textAreaRight" fmla="*/ 770760 w 1008360"/>
                <a:gd name="textAreaTop" fmla="*/ 126720 h 1079280"/>
                <a:gd name="textAreaBottom" fmla="*/ 677160 h 107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48360" y="1484280"/>
              <a:ext cx="1008360" cy="1079640"/>
            </a:xfrm>
            <a:custGeom>
              <a:avLst/>
              <a:gdLst>
                <a:gd name="textAreaLeft" fmla="*/ 236880 w 1008360"/>
                <a:gd name="textAreaRight" fmla="*/ 770760 w 1008360"/>
                <a:gd name="textAreaTop" fmla="*/ 126720 h 1079640"/>
                <a:gd name="textAreaBottom" fmla="*/ 677160 h 1079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77080" y="3284640"/>
              <a:ext cx="1008000" cy="1079280"/>
            </a:xfrm>
            <a:custGeom>
              <a:avLst/>
              <a:gdLst>
                <a:gd name="textAreaLeft" fmla="*/ 236880 w 1008000"/>
                <a:gd name="textAreaRight" fmla="*/ 770400 w 1008000"/>
                <a:gd name="textAreaTop" fmla="*/ 126720 h 1079280"/>
                <a:gd name="textAreaBottom" fmla="*/ 677160 h 107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059280" y="1125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80000" y="1125360"/>
            <a:ext cx="2592360" cy="4967640"/>
            <a:chOff x="5580000" y="1125360"/>
            <a:chExt cx="2592360" cy="4967640"/>
          </a:xfrm>
        </p:grpSpPr>
        <p:sp>
          <p:nvSpPr>
            <p:cNvPr id="149" name=""/>
            <p:cNvSpPr/>
            <p:nvPr/>
          </p:nvSpPr>
          <p:spPr>
            <a:xfrm>
              <a:off x="5580000" y="1125360"/>
              <a:ext cx="2592360" cy="496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414972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728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1640" y="508464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8000" y="285264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7280" y="2421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1640" y="227664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184464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1640" y="321300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059280" y="450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51640" y="414972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27664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1640" y="321300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1640" y="227664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2781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80000" y="1125360"/>
            <a:ext cx="2592360" cy="4967640"/>
            <a:chOff x="5580000" y="1125360"/>
            <a:chExt cx="2592360" cy="4967640"/>
          </a:xfrm>
        </p:grpSpPr>
        <p:sp>
          <p:nvSpPr>
            <p:cNvPr id="192" name=""/>
            <p:cNvSpPr/>
            <p:nvPr/>
          </p:nvSpPr>
          <p:spPr>
            <a:xfrm>
              <a:off x="5580000" y="1125360"/>
              <a:ext cx="2592360" cy="496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2421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234936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164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42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414972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227664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321300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51 0.40902 E"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2275 -0.10474 E">
                                      <p:cBhvr>
                                        <p:cTn id="23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299 0.39861 E">
                                      <p:cBhvr>
                                        <p:cTn id="24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8 0.13641 E">
                                      <p:cBhvr>
                                        <p:cTn id="26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23 -0.12601 E">
                                      <p:cBhvr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761 0.38798 E">
                                      <p:cBhvr>
                                        <p:cTn id="29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494 0.12578 E">
                                      <p:cBhvr>
                                        <p:cTn id="33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.13619 E">
                                      <p:cBhvr>
                                        <p:cTn id="33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8 -0.12578 E">
                                      <p:cBhvr>
                                        <p:cTn id="36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ches Word with Num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4941720"/>
            <a:ext cx="79236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2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5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744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20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on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87280" y="4941720"/>
            <a:ext cx="79236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26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27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six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08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32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33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two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052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38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39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eight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23744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44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45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four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780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50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nin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8101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56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57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zero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4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62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63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fiv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45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68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69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seven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372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74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thre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916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4615 E">
                                      <p:cBhvr>
                                        <p:cTn id="438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-0.4615 E">
                                      <p:cBhvr>
                                        <p:cTn id="44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-0.47213 E">
                                      <p:cBhvr>
                                        <p:cTn id="45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76 -0.47213 E">
                                      <p:cBhvr>
                                        <p:cTn id="46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67 -0.4615 E">
                                      <p:cBhvr>
                                        <p:cTn id="47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1423 -0.45087 E">
                                      <p:cBhvr>
                                        <p:cTn id="47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28 -0.47213 E">
                                      <p:cBhvr>
                                        <p:cTn id="48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9 -0.47213 E">
                                      <p:cBhvr>
                                        <p:cTn id="49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518 -0.4615 E">
                                      <p:cBhvr>
                                        <p:cTn id="50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3 -0.47213 E">
                                      <p:cBhvr>
                                        <p:cTn id="51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1125360"/>
            <a:ext cx="5749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997360"/>
            <a:ext cx="648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292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51520" y="283860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708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6360" y="148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56720" y="1197000"/>
            <a:ext cx="576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83160" y="75096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35880" y="312732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36640"/>
            <a:ext cx="5745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600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7964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344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708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0072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2800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8360" y="1125360"/>
            <a:ext cx="5749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2997360"/>
            <a:ext cx="648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292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51520" y="283860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708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16360" y="148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956720" y="1197000"/>
            <a:ext cx="576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83160" y="75096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35880" y="312732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836640"/>
            <a:ext cx="5745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625 0.34612 E">
                                      <p:cBhvr>
                                        <p:cTn id="560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.63977 E">
                                      <p:cBhvr>
                                        <p:cTn id="564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062 0.30427 E">
                                      <p:cBhvr>
                                        <p:cTn id="56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1434 L 0.11423 0.32902 E">
                                      <p:cBhvr>
                                        <p:cTn id="57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1457 L -0.09444 0.5496 E">
                                      <p:cBhvr>
                                        <p:cTn id="57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1433 L -0.35434 0.59121 E">
                                      <p:cBhvr>
                                        <p:cTn id="58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6 0.59792 E">
                                      <p:cBhvr>
                                        <p:cTn id="58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0711 0.33572 E">
                                      <p:cBhvr>
                                        <p:cTn id="58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559 0.36717 E">
                                      <p:cBhvr>
                                        <p:cTn id="59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1642 L 0.19618 0.65619 E">
                                      <p:cBhvr>
                                        <p:cTn id="59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unt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916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22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393372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2349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400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44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89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0108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306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comes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47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3236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465300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5128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0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6360" y="2852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200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93080" y="2852640"/>
            <a:ext cx="172692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8436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56720" y="1125360"/>
            <a:ext cx="86328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1928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8800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67640" y="47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4:23:01Z</dcterms:created>
  <dc:creator>Ministry of Education</dc:creator>
  <dc:description/>
  <dc:language>en-US</dc:language>
  <cp:lastModifiedBy>Ministry of Education</cp:lastModifiedBy>
  <dcterms:modified xsi:type="dcterms:W3CDTF">2008-05-04T04:35:20Z</dcterms:modified>
  <cp:revision>9</cp:revision>
  <dc:subject/>
  <dc:title>What the heck does that mean?</dc:title>
</cp:coreProperties>
</file>