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9E6-056B-4EC0-AB71-AD5651C6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30-E0B8-4DAC-9B17-D6C9FD7C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81F-967D-4250-A53A-0D502C33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971-5A0F-46AC-A26A-CFECE78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880-86E4-48A9-B107-53BDD4C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064-D030-411A-A9FF-0A629F0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BF7-004F-49FE-B90D-1C0E122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68F-CE67-44C3-B60F-495B004A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2FB-5F5C-480D-BC7C-92B34BA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11E-C315-4A6B-BC67-1680E6E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BA0-7850-4FE8-B293-4556B6B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293-1042-4891-8DB9-4B219C9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72A1-AA7A-4607-84B8-6382CD26BE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2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s 2s, 3s &amp; 4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328464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98100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83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2060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227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916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4936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34136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844640"/>
            <a:ext cx="1511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48428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1484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200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220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20500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7080" y="299736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99736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227664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227664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1700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62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34136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133720"/>
            <a:ext cx="122400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206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285264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41300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407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3645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4508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4149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157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43280" y="4869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551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5373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4437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4941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350028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436572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9079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3573360"/>
            <a:ext cx="1008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  5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1268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1268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364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036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3528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0872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4508640"/>
            <a:ext cx="158292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0872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268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ubles to 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4360" y="907920"/>
            <a:ext cx="1079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6360" y="907920"/>
            <a:ext cx="1079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2060640"/>
            <a:ext cx="10792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4365720"/>
            <a:ext cx="10792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16360" y="3213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16360" y="2060640"/>
            <a:ext cx="10792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5516640"/>
            <a:ext cx="107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5516640"/>
            <a:ext cx="107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4365720"/>
            <a:ext cx="10792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3213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4365720"/>
            <a:ext cx="107964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3213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92720" y="2060640"/>
            <a:ext cx="107964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907920"/>
            <a:ext cx="107964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5516640"/>
            <a:ext cx="107964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1052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1052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0920" y="2205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50920" y="3357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437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558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21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3357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0" y="450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558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v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6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148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00360" y="5734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0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728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465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0036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00360" y="2492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1672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03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53440" y="1484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56720" y="1484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236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672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53440" y="2492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2492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1672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3573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56720" y="357336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236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1672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036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53440" y="465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465300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5344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56720" y="57340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5892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836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6364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5600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5600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5128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1600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9564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3564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636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7708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4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1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3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5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9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ord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5128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1928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764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6200" y="270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1280" y="270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1928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8620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9128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92360" y="1054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97080" y="1054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708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7080" y="1555920"/>
            <a:ext cx="503280" cy="50292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1555920"/>
            <a:ext cx="503280" cy="50292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37080" y="10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10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12682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1128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5272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1200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9272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272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5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7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9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91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2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29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2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ings within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9079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16360" y="9079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1128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92360" y="184464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184464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11280" y="184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278136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16360" y="278136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2781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371628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6360" y="371628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41128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2360" y="465300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65300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128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2360" y="55897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16360" y="55897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9079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492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9079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092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12000" y="184464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492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236000" y="184464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30920" y="184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12000" y="278136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492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236000" y="278136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30920" y="2781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12000" y="371628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492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6000" y="371628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3092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12000" y="465300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1492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6000" y="465300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3092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55897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1492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36000" y="55897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7856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3092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 bigger, 1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ads  Numbers…...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Writes a Numbers   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objects to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Matches Set/Numeral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Greater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Less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numbers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Forward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Backward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s 2’s, 3’s, 4’s,..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kip Counts………..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oubles to Ten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5 Patterns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620640"/>
            <a:ext cx="439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raw picture of operation …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ords Equations …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ings within 20 ………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+1, 10 …………    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-1, 10 …………   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Place Value……………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Expands …………………….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o of Tens in Decades 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ymbols for Fractions ………   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Fractions …………….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+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–   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9228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ate:         ____/___/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ested by: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1 smaller, 10 sma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51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84360" y="907920"/>
            <a:ext cx="2158920" cy="1008360"/>
            <a:chOff x="684360" y="907920"/>
            <a:chExt cx="2158920" cy="1008360"/>
          </a:xfrm>
        </p:grpSpPr>
        <p:sp>
          <p:nvSpPr>
            <p:cNvPr id="589" name=""/>
            <p:cNvSpPr/>
            <p:nvPr/>
          </p:nvSpPr>
          <p:spPr>
            <a:xfrm>
              <a:off x="684360" y="907920"/>
              <a:ext cx="2158920" cy="1008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360"/>
                <a:gd name="textAreaBottom" fmla="*/ 10083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" y="9079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258920" y="907920"/>
            <a:ext cx="2160720" cy="1008360"/>
            <a:chOff x="1258920" y="907920"/>
            <a:chExt cx="2160720" cy="1008360"/>
          </a:xfrm>
        </p:grpSpPr>
        <p:sp>
          <p:nvSpPr>
            <p:cNvPr id="592" name=""/>
            <p:cNvSpPr/>
            <p:nvPr/>
          </p:nvSpPr>
          <p:spPr>
            <a:xfrm>
              <a:off x="1258920" y="907920"/>
              <a:ext cx="2160720" cy="100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2000" y="9079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4360" y="2060640"/>
            <a:ext cx="2158920" cy="1008000"/>
            <a:chOff x="684360" y="2060640"/>
            <a:chExt cx="2158920" cy="1008000"/>
          </a:xfrm>
        </p:grpSpPr>
        <p:sp>
          <p:nvSpPr>
            <p:cNvPr id="595" name=""/>
            <p:cNvSpPr/>
            <p:nvPr/>
          </p:nvSpPr>
          <p:spPr>
            <a:xfrm>
              <a:off x="684360" y="2060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5640" y="2060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258920" y="2060640"/>
            <a:ext cx="2160720" cy="1008000"/>
            <a:chOff x="1258920" y="2060640"/>
            <a:chExt cx="2160720" cy="1008000"/>
          </a:xfrm>
        </p:grpSpPr>
        <p:sp>
          <p:nvSpPr>
            <p:cNvPr id="598" name=""/>
            <p:cNvSpPr/>
            <p:nvPr/>
          </p:nvSpPr>
          <p:spPr>
            <a:xfrm>
              <a:off x="1258920" y="2060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32000" y="2060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84360" y="3213000"/>
            <a:ext cx="2158920" cy="1008000"/>
            <a:chOff x="684360" y="3213000"/>
            <a:chExt cx="2158920" cy="1008000"/>
          </a:xfrm>
        </p:grpSpPr>
        <p:sp>
          <p:nvSpPr>
            <p:cNvPr id="601" name=""/>
            <p:cNvSpPr/>
            <p:nvPr/>
          </p:nvSpPr>
          <p:spPr>
            <a:xfrm>
              <a:off x="684360" y="321300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5640" y="321300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258920" y="3213000"/>
            <a:ext cx="2160720" cy="1008000"/>
            <a:chOff x="1258920" y="3213000"/>
            <a:chExt cx="2160720" cy="1008000"/>
          </a:xfrm>
        </p:grpSpPr>
        <p:sp>
          <p:nvSpPr>
            <p:cNvPr id="604" name=""/>
            <p:cNvSpPr/>
            <p:nvPr/>
          </p:nvSpPr>
          <p:spPr>
            <a:xfrm>
              <a:off x="1258920" y="321300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32000" y="321300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84360" y="4365720"/>
            <a:ext cx="2158920" cy="1008000"/>
            <a:chOff x="684360" y="4365720"/>
            <a:chExt cx="2158920" cy="1008000"/>
          </a:xfrm>
        </p:grpSpPr>
        <p:sp>
          <p:nvSpPr>
            <p:cNvPr id="607" name=""/>
            <p:cNvSpPr/>
            <p:nvPr/>
          </p:nvSpPr>
          <p:spPr>
            <a:xfrm>
              <a:off x="684360" y="436572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5640" y="43657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258920" y="4365720"/>
            <a:ext cx="2160720" cy="1008000"/>
            <a:chOff x="1258920" y="4365720"/>
            <a:chExt cx="2160720" cy="1008000"/>
          </a:xfrm>
        </p:grpSpPr>
        <p:sp>
          <p:nvSpPr>
            <p:cNvPr id="610" name=""/>
            <p:cNvSpPr/>
            <p:nvPr/>
          </p:nvSpPr>
          <p:spPr>
            <a:xfrm>
              <a:off x="1258920" y="436572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32000" y="43657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4360" y="5516640"/>
            <a:ext cx="2158920" cy="1008000"/>
            <a:chOff x="684360" y="5516640"/>
            <a:chExt cx="2158920" cy="1008000"/>
          </a:xfrm>
        </p:grpSpPr>
        <p:sp>
          <p:nvSpPr>
            <p:cNvPr id="613" name=""/>
            <p:cNvSpPr/>
            <p:nvPr/>
          </p:nvSpPr>
          <p:spPr>
            <a:xfrm>
              <a:off x="684360" y="5516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5640" y="5516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58920" y="5516640"/>
            <a:ext cx="2160720" cy="1008000"/>
            <a:chOff x="1258920" y="5516640"/>
            <a:chExt cx="2160720" cy="1008000"/>
          </a:xfrm>
        </p:grpSpPr>
        <p:sp>
          <p:nvSpPr>
            <p:cNvPr id="616" name=""/>
            <p:cNvSpPr/>
            <p:nvPr/>
          </p:nvSpPr>
          <p:spPr>
            <a:xfrm>
              <a:off x="1258920" y="551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32000" y="5516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92436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364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20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67052E-007 L 0.39375 0.00023 E">
                                      <p:cBhvr>
                                        <p:cTn id="1624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28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4624E-007 L 0.39375 0.00023 E">
                                      <p:cBhvr>
                                        <p:cTn id="1632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1.6763E-006 L 0.58281 -1.6763E-006 E">
                                      <p:cBhvr>
                                        <p:cTn id="1636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6763E-006 L 0.39375 -1.6763E-006 E">
                                      <p:cBhvr>
                                        <p:cTn id="164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4798E-006 L 0.58281 -2.94798E-006 E">
                                      <p:cBhvr>
                                        <p:cTn id="164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798E-006 L 0.39375 -2.94798E-006 E">
                                      <p:cBhvr>
                                        <p:cTn id="164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52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1387E-006 L 0.39375 -1.21387E-006 E">
                                      <p:cBhvr>
                                        <p:cTn id="165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9640" y="981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42920" y="981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2133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133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39640" y="328464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42920" y="328464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9640" y="4437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42920" y="4437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5589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5589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0920" y="1268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50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5092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4797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50920" y="587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43640" y="1052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3640" y="2205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335772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43640" y="4653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5661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44878 -4.9711E-006 E">
                                      <p:cBhvr>
                                        <p:cTn id="166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-4.9711E-006 L 0.67344 -4.9711E-006 E">
                                      <p:cBhvr>
                                        <p:cTn id="1670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3.75723E-006 L 0.44878 3.75723E-006 E">
                                      <p:cBhvr>
                                        <p:cTn id="1674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3.75723E-006 L 0.67344 3.75723E-006 E">
                                      <p:cBhvr>
                                        <p:cTn id="1682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1686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1694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169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170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1.15607E-006 L 0.44878 1.15607E-006 E">
                                      <p:cBhvr>
                                        <p:cTn id="1710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1.15607E-006 L 0.67344 1.15607E-006 E">
                                      <p:cBhvr>
                                        <p:cTn id="1718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dec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1280" y="836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59280" y="836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1280" y="2060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79640" y="23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59280" y="2060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1280" y="3284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7964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284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11280" y="4508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7964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59280" y="4508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4360" y="981000"/>
            <a:ext cx="86328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547640" y="981000"/>
            <a:ext cx="86364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1265040" y="219816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56000" y="1268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s shape has be cut in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08720" y="10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451640" y="105264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2692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4764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4764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1265040" y="43588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68360" y="328464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cut off is called 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76720" y="2924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451640" y="285264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left is call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27280" y="49370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three four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51640" y="47242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05092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74 L 0.0033 -0.54035 E">
                                      <p:cBhvr>
                                        <p:cTn id="1752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09249E-007 L -0.03941 -8.09249E-007 E">
                                      <p:cBhvr>
                                        <p:cTn id="1756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508 L 0.0007 -0.14428 L -0.33732 -0.15491 E">
                                      <p:cBhvr>
                                        <p:cTn id="1786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6994E-006 L -0.04722 0.03144 E">
                                      <p:cBhvr>
                                        <p:cTn id="1790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76360" y="1989000"/>
            <a:ext cx="11509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95640" y="2060640"/>
            <a:ext cx="11527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2360" y="2060640"/>
            <a:ext cx="1152360" cy="15570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3528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ddle 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15636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676E-006 L -0.54341 0.32509 E">
                                      <p:cBhvr>
                                        <p:cTn id="1824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9.24855E-007 L 0.26788 0.34612 E">
                                      <p:cBhvr>
                                        <p:cTn id="182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4855E-007 L 0.26771 0.33572 E">
                                      <p:cBhvr>
                                        <p:cTn id="1832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528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27082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6544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56544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6544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6400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3708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6544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5960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56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029440" y="45100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1" dur="indefinite" restart="never" nodeType="tmRoot">
          <p:childTnLst>
            <p:seq>
              <p:cTn id="2222" dur="indefinite" nodeType="mainSeq">
                <p:childTnLst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Wow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I bet you need a break now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052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628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781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1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860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4653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589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58972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70028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29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2781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573408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557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445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105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836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924280"/>
            <a:ext cx="29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93372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6864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06064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26828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5661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4653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97360"/>
            <a:ext cx="2016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ix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393372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5589720"/>
            <a:ext cx="1800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836640"/>
            <a:ext cx="2664000" cy="20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4005360"/>
            <a:ext cx="3313440" cy="131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653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335772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341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765000"/>
            <a:ext cx="2663640" cy="20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508640"/>
            <a:ext cx="2520720" cy="1922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907920"/>
            <a:ext cx="2017440" cy="1556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67052E-007 L -0.26372 -0.20832 E">
                                      <p:cBhvr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1493 -0.03168 E">
                                      <p:cBhvr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22011 E">
                                      <p:cBhvr>
                                        <p:cTn id="2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1676E-006 L -0.41736 -0.22035 E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0.33073 -0.42982 E">
                                      <p:cBhvr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0.35653 E">
                                      <p:cBhvr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76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373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5373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373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73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773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284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148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15" name=""/>
          <p:cNvSpPr/>
          <p:nvPr/>
        </p:nvSpPr>
        <p:spPr>
          <a:xfrm>
            <a:off x="61128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4072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4-22T05:36:37Z</dcterms:modified>
  <cp:revision>12</cp:revision>
  <dc:subject/>
  <dc:title>Mathematics  Diagnostic Number Knowledge  Numbers 1-20</dc:title>
</cp:coreProperties>
</file>