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9DF-CE55-4A68-B341-841396CD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12B-B9D7-4985-97C5-3C3F13A9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041-AF08-41AE-8C1D-B4FBD58D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706-722A-4AD9-B6CD-A7E82D61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926-D317-4E06-B69D-4B89473C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41C-0F2F-40EA-B8EA-668819D5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FA1-992F-4C76-9AD9-6825AAF7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0AD-D65B-4B72-8008-FC2354BA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7DB-F5E7-4DDA-8463-143AF639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A42-FA33-4D1B-A6A2-D14DA1BC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8AF-6152-482E-B186-AD364708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73C-5F4F-4D4B-BCFD-1F7DE0E2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EE5F-D6FC-402D-A67C-16C9DF86E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470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3366ff"/>
                </a:solidFill>
                <a:latin typeface="Ravie"/>
              </a:rPr>
              <a:t>Mathematics</a:t>
            </a:r>
            <a:br>
              <a:rPr sz="6000"/>
            </a:br>
            <a:br>
              <a:rPr sz="4000"/>
            </a:br>
            <a:r>
              <a:rPr b="1" lang="en-NZ" sz="4800" spc="-1" strike="noStrike">
                <a:solidFill>
                  <a:srgbClr val="ffffff"/>
                </a:solidFill>
                <a:latin typeface="Arial"/>
              </a:rPr>
              <a:t>Diagnostic - Number Knowledge</a:t>
            </a:r>
            <a:br>
              <a:rPr sz="4000"/>
            </a:br>
            <a:br>
              <a:rPr sz="4000"/>
            </a:br>
            <a:r>
              <a:rPr b="1" lang="en-NZ" sz="7200" spc="-1" strike="noStrike">
                <a:solidFill>
                  <a:srgbClr val="ff3300"/>
                </a:solidFill>
                <a:latin typeface="Arial"/>
              </a:rPr>
              <a:t>Numbers 1-1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Forward 0-100 (5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242100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5373720"/>
            <a:ext cx="108108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1928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0036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8000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28000" y="242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2800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4365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3429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3357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852640"/>
            <a:ext cx="43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Yay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Backward 100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242100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1928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728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4836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4836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5928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5373720"/>
            <a:ext cx="115272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036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28000" y="2421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28000" y="4365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28000" y="3429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3357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2276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Spot o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91636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oups 2s, 3s &amp; 4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7628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328464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08720" y="47628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98100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63640" y="836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7640" y="148428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16000" y="2060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2708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2708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11280" y="148428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8360" y="2276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1916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54936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79640" y="134136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844640"/>
            <a:ext cx="151128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76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76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1484280"/>
            <a:ext cx="35856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27640" y="148428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08720" y="155736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12000" y="155736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0360" y="220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2205000"/>
            <a:ext cx="35856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77080" y="2997360"/>
            <a:ext cx="35892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72360" y="2997360"/>
            <a:ext cx="35856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2000" y="2276640"/>
            <a:ext cx="35892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80360" y="2276640"/>
            <a:ext cx="35856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04000" y="170028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7640" y="620640"/>
            <a:ext cx="136872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341360"/>
            <a:ext cx="1152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2133720"/>
            <a:ext cx="122400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2060640"/>
            <a:ext cx="136872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56360" y="2852640"/>
            <a:ext cx="1368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6000" y="1413000"/>
            <a:ext cx="1152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92360" y="4076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3645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4508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4149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35280" y="5157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43280" y="4869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11640" y="5516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76720" y="5373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76720" y="4437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4941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48000" y="3500280"/>
            <a:ext cx="1368360" cy="14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720" y="4365720"/>
            <a:ext cx="1368360" cy="14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2360" y="9079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12000" y="3573360"/>
            <a:ext cx="1008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5636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kip Counts     2,    3,   4,    5  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141300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3528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6400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764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85080" y="141300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5636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2000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141300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249228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6400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2764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9272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2492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2000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249228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16000" y="357336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3528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0036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6400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2764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9272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885080" y="357336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2000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357336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1600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3528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36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85080" y="465300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2000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5280" y="465300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42920" y="5661000"/>
            <a:ext cx="86508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3528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0036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6400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2764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9272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885080" y="5661000"/>
            <a:ext cx="1079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5636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2000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566100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oubles to tw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907920"/>
            <a:ext cx="86328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47640" y="907920"/>
            <a:ext cx="79236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1916280"/>
            <a:ext cx="86328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47640" y="3933720"/>
            <a:ext cx="79236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47640" y="2924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47640" y="1916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47640" y="4941720"/>
            <a:ext cx="79236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4941720"/>
            <a:ext cx="863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4000" y="3933720"/>
            <a:ext cx="86328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000" y="2924280"/>
            <a:ext cx="863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71640" y="3933720"/>
            <a:ext cx="1079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71640" y="292428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71640" y="1916280"/>
            <a:ext cx="1079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71640" y="907920"/>
            <a:ext cx="107964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71640" y="4941720"/>
            <a:ext cx="1079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98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40000" y="9079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87280" y="198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87280" y="29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8728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34000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40000" y="299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340000" y="4005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340000" y="501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16360" y="907920"/>
            <a:ext cx="86364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907920"/>
            <a:ext cx="79236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16360" y="1916280"/>
            <a:ext cx="863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0360" y="3933720"/>
            <a:ext cx="79236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40360" y="2924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40360" y="1916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40360" y="4941720"/>
            <a:ext cx="79236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16360" y="494172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16360" y="39337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2924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164360" y="3933720"/>
            <a:ext cx="1079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164360" y="292428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164360" y="1916280"/>
            <a:ext cx="1079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64360" y="907920"/>
            <a:ext cx="107964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64360" y="4941720"/>
            <a:ext cx="1079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80000" y="98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32720" y="907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80000" y="198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29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8000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732720" y="1989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32720" y="299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32720" y="4005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32720" y="5013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79280" y="1484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6364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87280" y="162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00360" y="1484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364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57340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6364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87280" y="5878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7340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0364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465300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6364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87280" y="47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700360" y="4653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0364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9280" y="357336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87280" y="3718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700360" y="3573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0364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9280" y="2492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6364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8728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00360" y="2492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0364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932360" y="1484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1672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940360" y="162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453440" y="1484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956720" y="14842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2492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1672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4036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453440" y="2492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56720" y="24922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32360" y="357336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1672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40360" y="3718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53440" y="357336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956720" y="357336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932360" y="465300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51672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40360" y="47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53440" y="4653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56720" y="465300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932360" y="57340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51672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940360" y="5878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453440" y="57340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956720" y="57340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a picture (Whitebo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780000" y="1197000"/>
            <a:ext cx="10792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4764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5636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1456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21964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51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19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2764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8620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9128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547640" y="2205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64000" y="220500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25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00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16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3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4764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63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41128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195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79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272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432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60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9236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708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24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356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140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88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364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214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437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653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69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8472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732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16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00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48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29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380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96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81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27168E-006 L 0.41354 -0.00277 E">
                                      <p:cBhvr>
                                        <p:cTn id="1285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27168E-006 L 0.53941 -0.00277 E">
                                      <p:cBhvr>
                                        <p:cTn id="1289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3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94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6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97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8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92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95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9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01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04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6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07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9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1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1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1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1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22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4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25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2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0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3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5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9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7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1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5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3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5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9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7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1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80000" y="1197000"/>
            <a:ext cx="10792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4764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5636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1456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21964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51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19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2764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8620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9128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2205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220500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25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00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16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3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4764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63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1128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95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79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272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8432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60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36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708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24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356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40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88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0364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214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7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653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869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8472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32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516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300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48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1629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380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96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81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3854 0 E">
                                      <p:cBhvr>
                                        <p:cTn id="1527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0277 L 0.46059 -0.00277 E">
                                      <p:cBhvr>
                                        <p:cTn id="1531" dur="2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153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8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1539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3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37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4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2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43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5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46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8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4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4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0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6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3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64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6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67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70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73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5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76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8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2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6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0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4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8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2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6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0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4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2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6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oupings within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92360" y="90792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5280" y="9079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59280" y="907920"/>
            <a:ext cx="863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58920" y="1052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56000" y="9079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92360" y="184464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5280" y="184464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59280" y="184464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5892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56000" y="1844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92360" y="278136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5280" y="278136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059280" y="2781360"/>
            <a:ext cx="8650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258920" y="2925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56000" y="2781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692360" y="371628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528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59280" y="3716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5892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56000" y="37162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692360" y="465300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465300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9280" y="4653000"/>
            <a:ext cx="8650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25892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465300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692360" y="558972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95280" y="55897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059280" y="558972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258920" y="57340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56000" y="5589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012000" y="907920"/>
            <a:ext cx="8650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714920" y="9079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308720" y="90792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78560" y="1052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77080" y="9079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12000" y="184464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714920" y="184464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308720" y="184464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57856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77080" y="184464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012000" y="2781360"/>
            <a:ext cx="8650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714920" y="278136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308720" y="278136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578560" y="2925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877080" y="2781360"/>
            <a:ext cx="3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2000" y="3716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71492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08720" y="371628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57856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04000" y="3716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12000" y="4653000"/>
            <a:ext cx="8650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4920" y="465300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308720" y="465300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57856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804000" y="4653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558972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0720" y="5589720"/>
            <a:ext cx="10778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308720" y="558972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578560" y="57340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04000" y="5589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10 bigger, 30 b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19640" y="1700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55640" y="1700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940360" y="17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03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651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0 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421080" y="2708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5640" y="2708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942160" y="2708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21080" y="3716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5564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42160" y="3716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421080" y="4724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55640" y="4724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942160" y="4724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421080" y="57340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55640" y="57340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942160" y="57340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hecklist of Knowledge and Understanding for Numbers 1-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: 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Year: _____     Room: 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ads  Numbers…...…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Writes a Numbers   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objects to…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Matches Set/Numeral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Knows Nos 1 Greater…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Knows Nos 1 Less……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Orders numbers……..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Forward……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Backward……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Groups 2’s, 3’s, 4’s,..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Skip Counts………..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Doubles to Twenty    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5 Patterns…………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Draw operation ……  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00360" y="620640"/>
            <a:ext cx="4392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ords Equations …………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Groupings within 50 ………… 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s No +1, 10 , 20, 30   …    . 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s No -1, 10 , 20, 30…… … 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Place Value………………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Expands …………………… 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Tidy’s Numbers …………….    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Transfers from number to number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Adds Equally for Subtraction…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o of Tens in Decades ………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Symbols for Fractions ………    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Orders Fractions ……………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+ …………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–   ………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x…………..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92280"/>
            <a:ext cx="388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ate:         ____/___/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ested by: 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10 smaller, 40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19640" y="1700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5640" y="1700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0360" y="17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203640" y="112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651640" y="112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0 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21080" y="2708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55640" y="2708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942160" y="2708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21080" y="3716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5564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942160" y="3716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1080" y="4724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55640" y="4724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942160" y="4724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421080" y="57340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55640" y="57340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942160" y="57340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l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84360" y="90792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684360" y="907920"/>
            <a:ext cx="2158920" cy="1008360"/>
            <a:chOff x="684360" y="907920"/>
            <a:chExt cx="2158920" cy="1008360"/>
          </a:xfrm>
        </p:grpSpPr>
        <p:sp>
          <p:nvSpPr>
            <p:cNvPr id="678" name=""/>
            <p:cNvSpPr/>
            <p:nvPr/>
          </p:nvSpPr>
          <p:spPr>
            <a:xfrm>
              <a:off x="684360" y="907920"/>
              <a:ext cx="2158920" cy="1008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360"/>
                <a:gd name="textAreaBottom" fmla="*/ 10083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5640" y="90792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258920" y="907920"/>
            <a:ext cx="2160720" cy="1008360"/>
            <a:chOff x="1258920" y="907920"/>
            <a:chExt cx="2160720" cy="1008360"/>
          </a:xfrm>
        </p:grpSpPr>
        <p:sp>
          <p:nvSpPr>
            <p:cNvPr id="681" name=""/>
            <p:cNvSpPr/>
            <p:nvPr/>
          </p:nvSpPr>
          <p:spPr>
            <a:xfrm>
              <a:off x="1258920" y="907920"/>
              <a:ext cx="2160720" cy="1008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32000" y="90792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84360" y="2060640"/>
            <a:ext cx="2158920" cy="1008000"/>
            <a:chOff x="684360" y="2060640"/>
            <a:chExt cx="2158920" cy="1008000"/>
          </a:xfrm>
        </p:grpSpPr>
        <p:sp>
          <p:nvSpPr>
            <p:cNvPr id="684" name=""/>
            <p:cNvSpPr/>
            <p:nvPr/>
          </p:nvSpPr>
          <p:spPr>
            <a:xfrm>
              <a:off x="684360" y="206064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55640" y="206064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258920" y="2060640"/>
            <a:ext cx="2160720" cy="1008000"/>
            <a:chOff x="1258920" y="2060640"/>
            <a:chExt cx="2160720" cy="1008000"/>
          </a:xfrm>
        </p:grpSpPr>
        <p:sp>
          <p:nvSpPr>
            <p:cNvPr id="687" name=""/>
            <p:cNvSpPr/>
            <p:nvPr/>
          </p:nvSpPr>
          <p:spPr>
            <a:xfrm>
              <a:off x="1258920" y="2060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32000" y="206064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84360" y="3213000"/>
            <a:ext cx="2158920" cy="1008000"/>
            <a:chOff x="684360" y="3213000"/>
            <a:chExt cx="2158920" cy="1008000"/>
          </a:xfrm>
        </p:grpSpPr>
        <p:sp>
          <p:nvSpPr>
            <p:cNvPr id="690" name=""/>
            <p:cNvSpPr/>
            <p:nvPr/>
          </p:nvSpPr>
          <p:spPr>
            <a:xfrm>
              <a:off x="684360" y="321300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5640" y="321300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258920" y="3213000"/>
            <a:ext cx="2160720" cy="1008000"/>
            <a:chOff x="1258920" y="3213000"/>
            <a:chExt cx="2160720" cy="1008000"/>
          </a:xfrm>
        </p:grpSpPr>
        <p:sp>
          <p:nvSpPr>
            <p:cNvPr id="693" name=""/>
            <p:cNvSpPr/>
            <p:nvPr/>
          </p:nvSpPr>
          <p:spPr>
            <a:xfrm>
              <a:off x="1258920" y="321300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32000" y="321300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84360" y="4365720"/>
            <a:ext cx="2158920" cy="1008000"/>
            <a:chOff x="684360" y="4365720"/>
            <a:chExt cx="2158920" cy="1008000"/>
          </a:xfrm>
        </p:grpSpPr>
        <p:sp>
          <p:nvSpPr>
            <p:cNvPr id="696" name=""/>
            <p:cNvSpPr/>
            <p:nvPr/>
          </p:nvSpPr>
          <p:spPr>
            <a:xfrm>
              <a:off x="684360" y="436572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5640" y="436572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258920" y="4365720"/>
            <a:ext cx="2160720" cy="1008000"/>
            <a:chOff x="1258920" y="4365720"/>
            <a:chExt cx="2160720" cy="1008000"/>
          </a:xfrm>
        </p:grpSpPr>
        <p:sp>
          <p:nvSpPr>
            <p:cNvPr id="699" name=""/>
            <p:cNvSpPr/>
            <p:nvPr/>
          </p:nvSpPr>
          <p:spPr>
            <a:xfrm>
              <a:off x="1258920" y="436572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332000" y="436572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84360" y="5516640"/>
            <a:ext cx="2158920" cy="1008000"/>
            <a:chOff x="684360" y="5516640"/>
            <a:chExt cx="2158920" cy="1008000"/>
          </a:xfrm>
        </p:grpSpPr>
        <p:sp>
          <p:nvSpPr>
            <p:cNvPr id="702" name=""/>
            <p:cNvSpPr/>
            <p:nvPr/>
          </p:nvSpPr>
          <p:spPr>
            <a:xfrm>
              <a:off x="684360" y="551664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5640" y="551664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258920" y="5516640"/>
            <a:ext cx="2160720" cy="1008000"/>
            <a:chOff x="1258920" y="5516640"/>
            <a:chExt cx="2160720" cy="1008000"/>
          </a:xfrm>
        </p:grpSpPr>
        <p:sp>
          <p:nvSpPr>
            <p:cNvPr id="705" name=""/>
            <p:cNvSpPr/>
            <p:nvPr/>
          </p:nvSpPr>
          <p:spPr>
            <a:xfrm>
              <a:off x="1258920" y="5516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32000" y="551664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924360" y="33336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43640" y="33336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0023 L 0.37813 0.00023 E">
                                      <p:cBhvr>
                                        <p:cTn id="1946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44 0.00023 L 0.59861 0.00023 E">
                                      <p:cBhvr>
                                        <p:cTn id="1950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6 0.00023 L 0.37795 0.00023 E">
                                      <p:cBhvr>
                                        <p:cTn id="1954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0.00023 L 0.59861 0.00023 E">
                                      <p:cBhvr>
                                        <p:cTn id="1958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1.6763E-006 L 0.37813 -1.6763E-006 E">
                                      <p:cBhvr>
                                        <p:cTn id="1962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19 -1.6763E-006 L 0.59878 -1.6763E-006 E">
                                      <p:cBhvr>
                                        <p:cTn id="1966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2.94798E-006 L 0.37795 -2.94798E-006 E">
                                      <p:cBhvr>
                                        <p:cTn id="1970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2.94798E-006 L 0.59861 -2.94798E-006 E">
                                      <p:cBhvr>
                                        <p:cTn id="1974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0023 L 0.37795 0.00023 E">
                                      <p:cBhvr>
                                        <p:cTn id="1978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1 0.00023 L 0.59861 0.00023 E">
                                      <p:cBhvr>
                                        <p:cTn id="1982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panding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39640" y="98100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4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42920" y="98100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98100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9640" y="213372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8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042920" y="213372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9640" y="328464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5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042920" y="328464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9640" y="443700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7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042920" y="443700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9640" y="558972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9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2920" y="558972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50920" y="1268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050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050920" y="357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050920" y="4797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050920" y="5877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443640" y="105264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443640" y="2205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43640" y="335772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443640" y="4653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443640" y="5661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9711E-006 L 0.44878 -4.9711E-006 E">
                                      <p:cBhvr>
                                        <p:cTn id="1988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-4.9711E-006 L 0.67344 -4.9711E-006 E">
                                      <p:cBhvr>
                                        <p:cTn id="1996" dur="2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3.75723E-006 L 0.44878 3.75723E-006 E">
                                      <p:cBhvr>
                                        <p:cTn id="2000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3.75723E-006 L 0.67344 3.75723E-006 E">
                                      <p:cBhvr>
                                        <p:cTn id="2008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0.00023 L 0.44878 0.00023 E">
                                      <p:cBhvr>
                                        <p:cTn id="2012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0.00023 L 0.67344 0.00023 E">
                                      <p:cBhvr>
                                        <p:cTn id="2020" dur="2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0.00023 L 0.44878 0.00023 E">
                                      <p:cBhvr>
                                        <p:cTn id="2024" dur="20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0.00023 L 0.67344 0.00023 E">
                                      <p:cBhvr>
                                        <p:cTn id="2032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1.15607E-006 L 0.44878 1.15607E-006 E">
                                      <p:cBhvr>
                                        <p:cTn id="2036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1.15607E-006 L 0.67344 1.15607E-006 E">
                                      <p:cBhvr>
                                        <p:cTn id="2044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id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5640" y="765000"/>
            <a:ext cx="2160720" cy="703440"/>
            <a:chOff x="755640" y="765000"/>
            <a:chExt cx="2160720" cy="703440"/>
          </a:xfrm>
        </p:grpSpPr>
        <p:sp>
          <p:nvSpPr>
            <p:cNvPr id="733" name=""/>
            <p:cNvSpPr/>
            <p:nvPr/>
          </p:nvSpPr>
          <p:spPr>
            <a:xfrm>
              <a:off x="755640" y="981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24000" y="76500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524720" y="76500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059280" y="765000"/>
            <a:ext cx="4176720" cy="703440"/>
            <a:chOff x="3059280" y="765000"/>
            <a:chExt cx="4176720" cy="703440"/>
          </a:xfrm>
        </p:grpSpPr>
        <p:sp>
          <p:nvSpPr>
            <p:cNvPr id="737" name=""/>
            <p:cNvSpPr/>
            <p:nvPr/>
          </p:nvSpPr>
          <p:spPr>
            <a:xfrm>
              <a:off x="3059280" y="9810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88000" y="76500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24360" y="9810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755640" y="1773360"/>
            <a:ext cx="2160720" cy="703440"/>
            <a:chOff x="755640" y="1773360"/>
            <a:chExt cx="2160720" cy="703440"/>
          </a:xfrm>
        </p:grpSpPr>
        <p:sp>
          <p:nvSpPr>
            <p:cNvPr id="741" name=""/>
            <p:cNvSpPr/>
            <p:nvPr/>
          </p:nvSpPr>
          <p:spPr>
            <a:xfrm>
              <a:off x="755640" y="1989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24000" y="177336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524720" y="177336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059280" y="1773360"/>
            <a:ext cx="4176720" cy="703440"/>
            <a:chOff x="3059280" y="1773360"/>
            <a:chExt cx="4176720" cy="703440"/>
          </a:xfrm>
        </p:grpSpPr>
        <p:sp>
          <p:nvSpPr>
            <p:cNvPr id="745" name=""/>
            <p:cNvSpPr/>
            <p:nvPr/>
          </p:nvSpPr>
          <p:spPr>
            <a:xfrm>
              <a:off x="3059280" y="19890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ake off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88000" y="177336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724360" y="19890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755640" y="2781360"/>
            <a:ext cx="2160720" cy="703440"/>
            <a:chOff x="755640" y="2781360"/>
            <a:chExt cx="2160720" cy="703440"/>
          </a:xfrm>
        </p:grpSpPr>
        <p:sp>
          <p:nvSpPr>
            <p:cNvPr id="749" name=""/>
            <p:cNvSpPr/>
            <p:nvPr/>
          </p:nvSpPr>
          <p:spPr>
            <a:xfrm>
              <a:off x="755640" y="2997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124000" y="278136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7524720" y="278136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3059280" y="2781360"/>
            <a:ext cx="4176720" cy="703440"/>
            <a:chOff x="3059280" y="2781360"/>
            <a:chExt cx="4176720" cy="703440"/>
          </a:xfrm>
        </p:grpSpPr>
        <p:sp>
          <p:nvSpPr>
            <p:cNvPr id="753" name=""/>
            <p:cNvSpPr/>
            <p:nvPr/>
          </p:nvSpPr>
          <p:spPr>
            <a:xfrm>
              <a:off x="3059280" y="2997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88000" y="278136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4360" y="2997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755640" y="3789360"/>
            <a:ext cx="2160720" cy="703440"/>
            <a:chOff x="755640" y="3789360"/>
            <a:chExt cx="2160720" cy="703440"/>
          </a:xfrm>
        </p:grpSpPr>
        <p:sp>
          <p:nvSpPr>
            <p:cNvPr id="757" name=""/>
            <p:cNvSpPr/>
            <p:nvPr/>
          </p:nvSpPr>
          <p:spPr>
            <a:xfrm>
              <a:off x="755640" y="4005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24000" y="378936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7524720" y="378936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59280" y="3789360"/>
            <a:ext cx="4176720" cy="703440"/>
            <a:chOff x="3059280" y="3789360"/>
            <a:chExt cx="4176720" cy="703440"/>
          </a:xfrm>
        </p:grpSpPr>
        <p:sp>
          <p:nvSpPr>
            <p:cNvPr id="761" name=""/>
            <p:cNvSpPr/>
            <p:nvPr/>
          </p:nvSpPr>
          <p:spPr>
            <a:xfrm>
              <a:off x="3059280" y="4005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ake off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88000" y="378936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24360" y="4005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755640" y="4797360"/>
            <a:ext cx="2160720" cy="703440"/>
            <a:chOff x="755640" y="4797360"/>
            <a:chExt cx="2160720" cy="703440"/>
          </a:xfrm>
        </p:grpSpPr>
        <p:sp>
          <p:nvSpPr>
            <p:cNvPr id="765" name=""/>
            <p:cNvSpPr/>
            <p:nvPr/>
          </p:nvSpPr>
          <p:spPr>
            <a:xfrm>
              <a:off x="755640" y="5013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24000" y="479736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7524720" y="479736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3059280" y="4797360"/>
            <a:ext cx="4176720" cy="703440"/>
            <a:chOff x="3059280" y="4797360"/>
            <a:chExt cx="4176720" cy="703440"/>
          </a:xfrm>
        </p:grpSpPr>
        <p:sp>
          <p:nvSpPr>
            <p:cNvPr id="769" name=""/>
            <p:cNvSpPr/>
            <p:nvPr/>
          </p:nvSpPr>
          <p:spPr>
            <a:xfrm>
              <a:off x="3059280" y="5013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88000" y="479736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24360" y="5013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55640" y="5805360"/>
            <a:ext cx="2160720" cy="703440"/>
            <a:chOff x="755640" y="5805360"/>
            <a:chExt cx="2160720" cy="703440"/>
          </a:xfrm>
        </p:grpSpPr>
        <p:sp>
          <p:nvSpPr>
            <p:cNvPr id="773" name=""/>
            <p:cNvSpPr/>
            <p:nvPr/>
          </p:nvSpPr>
          <p:spPr>
            <a:xfrm>
              <a:off x="755640" y="6021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24000" y="580536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7524720" y="580536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059280" y="5805360"/>
            <a:ext cx="4176720" cy="703440"/>
            <a:chOff x="3059280" y="5805360"/>
            <a:chExt cx="4176720" cy="703440"/>
          </a:xfrm>
        </p:grpSpPr>
        <p:sp>
          <p:nvSpPr>
            <p:cNvPr id="777" name=""/>
            <p:cNvSpPr/>
            <p:nvPr/>
          </p:nvSpPr>
          <p:spPr>
            <a:xfrm>
              <a:off x="3059280" y="6021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ake off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88000" y="580536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24360" y="6021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ransfers from number to number to tidy numbers when A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179280" y="1052640"/>
            <a:ext cx="1584360" cy="581400"/>
            <a:chOff x="179280" y="1052640"/>
            <a:chExt cx="1584360" cy="581400"/>
          </a:xfrm>
        </p:grpSpPr>
        <p:sp>
          <p:nvSpPr>
            <p:cNvPr id="782" name=""/>
            <p:cNvSpPr/>
            <p:nvPr/>
          </p:nvSpPr>
          <p:spPr>
            <a:xfrm>
              <a:off x="179280" y="105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26920" y="112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16000" y="105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763640" y="1052640"/>
            <a:ext cx="1584360" cy="581400"/>
            <a:chOff x="1763640" y="1052640"/>
            <a:chExt cx="1584360" cy="581400"/>
          </a:xfrm>
        </p:grpSpPr>
        <p:sp>
          <p:nvSpPr>
            <p:cNvPr id="786" name=""/>
            <p:cNvSpPr/>
            <p:nvPr/>
          </p:nvSpPr>
          <p:spPr>
            <a:xfrm>
              <a:off x="1763640" y="112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124000" y="1197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00360" y="105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348000" y="1052640"/>
            <a:ext cx="2664000" cy="581400"/>
            <a:chOff x="3348000" y="1052640"/>
            <a:chExt cx="2664000" cy="581400"/>
          </a:xfrm>
        </p:grpSpPr>
        <p:sp>
          <p:nvSpPr>
            <p:cNvPr id="790" name=""/>
            <p:cNvSpPr/>
            <p:nvPr/>
          </p:nvSpPr>
          <p:spPr>
            <a:xfrm>
              <a:off x="3348000" y="119700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27640" y="105264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59280" y="1197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92720" y="105264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5940360" y="1052640"/>
            <a:ext cx="1943280" cy="581400"/>
            <a:chOff x="5940360" y="1052640"/>
            <a:chExt cx="1943280" cy="581400"/>
          </a:xfrm>
        </p:grpSpPr>
        <p:sp>
          <p:nvSpPr>
            <p:cNvPr id="795" name=""/>
            <p:cNvSpPr/>
            <p:nvPr/>
          </p:nvSpPr>
          <p:spPr>
            <a:xfrm>
              <a:off x="5940360" y="1125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72360" y="1052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48360" y="112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36000" y="1052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7812000" y="1052640"/>
            <a:ext cx="1152720" cy="581400"/>
            <a:chOff x="7812000" y="1052640"/>
            <a:chExt cx="1152720" cy="581400"/>
          </a:xfrm>
        </p:grpSpPr>
        <p:sp>
          <p:nvSpPr>
            <p:cNvPr id="800" name=""/>
            <p:cNvSpPr/>
            <p:nvPr/>
          </p:nvSpPr>
          <p:spPr>
            <a:xfrm>
              <a:off x="8317080" y="105264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812000" y="1125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79280" y="1989000"/>
            <a:ext cx="1584360" cy="581400"/>
            <a:chOff x="179280" y="1989000"/>
            <a:chExt cx="1584360" cy="581400"/>
          </a:xfrm>
        </p:grpSpPr>
        <p:sp>
          <p:nvSpPr>
            <p:cNvPr id="803" name=""/>
            <p:cNvSpPr/>
            <p:nvPr/>
          </p:nvSpPr>
          <p:spPr>
            <a:xfrm>
              <a:off x="179280" y="198900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6920" y="206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16000" y="198900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763640" y="1989000"/>
            <a:ext cx="1584360" cy="581400"/>
            <a:chOff x="1763640" y="1989000"/>
            <a:chExt cx="1584360" cy="581400"/>
          </a:xfrm>
        </p:grpSpPr>
        <p:sp>
          <p:nvSpPr>
            <p:cNvPr id="807" name=""/>
            <p:cNvSpPr/>
            <p:nvPr/>
          </p:nvSpPr>
          <p:spPr>
            <a:xfrm>
              <a:off x="1763640" y="2062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24000" y="2133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00360" y="198900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3348000" y="1989000"/>
            <a:ext cx="2664000" cy="581400"/>
            <a:chOff x="3348000" y="1989000"/>
            <a:chExt cx="2664000" cy="581400"/>
          </a:xfrm>
        </p:grpSpPr>
        <p:sp>
          <p:nvSpPr>
            <p:cNvPr id="811" name=""/>
            <p:cNvSpPr/>
            <p:nvPr/>
          </p:nvSpPr>
          <p:spPr>
            <a:xfrm>
              <a:off x="3348000" y="21337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427640" y="198900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5928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92720" y="198900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940360" y="1989000"/>
            <a:ext cx="1943280" cy="581400"/>
            <a:chOff x="5940360" y="1989000"/>
            <a:chExt cx="1943280" cy="581400"/>
          </a:xfrm>
        </p:grpSpPr>
        <p:sp>
          <p:nvSpPr>
            <p:cNvPr id="816" name=""/>
            <p:cNvSpPr/>
            <p:nvPr/>
          </p:nvSpPr>
          <p:spPr>
            <a:xfrm>
              <a:off x="5940360" y="2062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72360" y="198900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48360" y="206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36000" y="198900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812000" y="1989000"/>
            <a:ext cx="1152720" cy="581400"/>
            <a:chOff x="7812000" y="1989000"/>
            <a:chExt cx="1152720" cy="581400"/>
          </a:xfrm>
        </p:grpSpPr>
        <p:sp>
          <p:nvSpPr>
            <p:cNvPr id="821" name=""/>
            <p:cNvSpPr/>
            <p:nvPr/>
          </p:nvSpPr>
          <p:spPr>
            <a:xfrm>
              <a:off x="8317080" y="198900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12000" y="2062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79280" y="2924280"/>
            <a:ext cx="1584360" cy="581400"/>
            <a:chOff x="179280" y="2924280"/>
            <a:chExt cx="1584360" cy="581400"/>
          </a:xfrm>
        </p:grpSpPr>
        <p:sp>
          <p:nvSpPr>
            <p:cNvPr id="824" name=""/>
            <p:cNvSpPr/>
            <p:nvPr/>
          </p:nvSpPr>
          <p:spPr>
            <a:xfrm>
              <a:off x="179280" y="292428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2692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16000" y="292428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763640" y="2924280"/>
            <a:ext cx="1584360" cy="581400"/>
            <a:chOff x="1763640" y="2924280"/>
            <a:chExt cx="1584360" cy="581400"/>
          </a:xfrm>
        </p:grpSpPr>
        <p:sp>
          <p:nvSpPr>
            <p:cNvPr id="828" name=""/>
            <p:cNvSpPr/>
            <p:nvPr/>
          </p:nvSpPr>
          <p:spPr>
            <a:xfrm>
              <a:off x="1763640" y="2997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24000" y="3068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00360" y="292428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3348000" y="2924280"/>
            <a:ext cx="2664000" cy="581400"/>
            <a:chOff x="3348000" y="2924280"/>
            <a:chExt cx="2664000" cy="581400"/>
          </a:xfrm>
        </p:grpSpPr>
        <p:sp>
          <p:nvSpPr>
            <p:cNvPr id="832" name=""/>
            <p:cNvSpPr/>
            <p:nvPr/>
          </p:nvSpPr>
          <p:spPr>
            <a:xfrm>
              <a:off x="3348000" y="30686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27640" y="292428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59280" y="306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92720" y="292428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940360" y="2924280"/>
            <a:ext cx="1943280" cy="581400"/>
            <a:chOff x="5940360" y="2924280"/>
            <a:chExt cx="1943280" cy="581400"/>
          </a:xfrm>
        </p:grpSpPr>
        <p:sp>
          <p:nvSpPr>
            <p:cNvPr id="837" name=""/>
            <p:cNvSpPr/>
            <p:nvPr/>
          </p:nvSpPr>
          <p:spPr>
            <a:xfrm>
              <a:off x="5940360" y="2997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372360" y="292428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94836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36000" y="292428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812000" y="2924280"/>
            <a:ext cx="1152720" cy="581400"/>
            <a:chOff x="7812000" y="2924280"/>
            <a:chExt cx="1152720" cy="581400"/>
          </a:xfrm>
        </p:grpSpPr>
        <p:sp>
          <p:nvSpPr>
            <p:cNvPr id="842" name=""/>
            <p:cNvSpPr/>
            <p:nvPr/>
          </p:nvSpPr>
          <p:spPr>
            <a:xfrm>
              <a:off x="8317080" y="292428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12000" y="2997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79280" y="3860640"/>
            <a:ext cx="1584360" cy="581400"/>
            <a:chOff x="179280" y="3860640"/>
            <a:chExt cx="1584360" cy="581400"/>
          </a:xfrm>
        </p:grpSpPr>
        <p:sp>
          <p:nvSpPr>
            <p:cNvPr id="845" name=""/>
            <p:cNvSpPr/>
            <p:nvPr/>
          </p:nvSpPr>
          <p:spPr>
            <a:xfrm>
              <a:off x="179280" y="3860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6920" y="3933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16000" y="3860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1763640" y="3860640"/>
            <a:ext cx="1584360" cy="581400"/>
            <a:chOff x="1763640" y="3860640"/>
            <a:chExt cx="1584360" cy="581400"/>
          </a:xfrm>
        </p:grpSpPr>
        <p:sp>
          <p:nvSpPr>
            <p:cNvPr id="849" name=""/>
            <p:cNvSpPr/>
            <p:nvPr/>
          </p:nvSpPr>
          <p:spPr>
            <a:xfrm>
              <a:off x="1763640" y="393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24000" y="4005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00360" y="3860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348000" y="3860640"/>
            <a:ext cx="2664000" cy="581400"/>
            <a:chOff x="3348000" y="3860640"/>
            <a:chExt cx="2664000" cy="581400"/>
          </a:xfrm>
        </p:grpSpPr>
        <p:sp>
          <p:nvSpPr>
            <p:cNvPr id="853" name=""/>
            <p:cNvSpPr/>
            <p:nvPr/>
          </p:nvSpPr>
          <p:spPr>
            <a:xfrm>
              <a:off x="3348000" y="400536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27640" y="386064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59280" y="4005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92720" y="386064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940360" y="3860640"/>
            <a:ext cx="1943280" cy="581400"/>
            <a:chOff x="5940360" y="3860640"/>
            <a:chExt cx="1943280" cy="581400"/>
          </a:xfrm>
        </p:grpSpPr>
        <p:sp>
          <p:nvSpPr>
            <p:cNvPr id="858" name=""/>
            <p:cNvSpPr/>
            <p:nvPr/>
          </p:nvSpPr>
          <p:spPr>
            <a:xfrm>
              <a:off x="5940360" y="3933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72360" y="3860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48360" y="3933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36000" y="3860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7812000" y="3860640"/>
            <a:ext cx="1152720" cy="581400"/>
            <a:chOff x="7812000" y="3860640"/>
            <a:chExt cx="1152720" cy="581400"/>
          </a:xfrm>
        </p:grpSpPr>
        <p:sp>
          <p:nvSpPr>
            <p:cNvPr id="863" name=""/>
            <p:cNvSpPr/>
            <p:nvPr/>
          </p:nvSpPr>
          <p:spPr>
            <a:xfrm>
              <a:off x="8317080" y="386064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812000" y="3933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179280" y="4797360"/>
            <a:ext cx="1584360" cy="581400"/>
            <a:chOff x="179280" y="4797360"/>
            <a:chExt cx="1584360" cy="581400"/>
          </a:xfrm>
        </p:grpSpPr>
        <p:sp>
          <p:nvSpPr>
            <p:cNvPr id="866" name=""/>
            <p:cNvSpPr/>
            <p:nvPr/>
          </p:nvSpPr>
          <p:spPr>
            <a:xfrm>
              <a:off x="179280" y="479736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26920" y="4870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116000" y="479736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1763640" y="4797360"/>
            <a:ext cx="1584360" cy="581400"/>
            <a:chOff x="1763640" y="4797360"/>
            <a:chExt cx="1584360" cy="581400"/>
          </a:xfrm>
        </p:grpSpPr>
        <p:sp>
          <p:nvSpPr>
            <p:cNvPr id="870" name=""/>
            <p:cNvSpPr/>
            <p:nvPr/>
          </p:nvSpPr>
          <p:spPr>
            <a:xfrm>
              <a:off x="1763640" y="4870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24000" y="49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00360" y="479736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348000" y="4797360"/>
            <a:ext cx="2664000" cy="581400"/>
            <a:chOff x="3348000" y="4797360"/>
            <a:chExt cx="2664000" cy="581400"/>
          </a:xfrm>
        </p:grpSpPr>
        <p:sp>
          <p:nvSpPr>
            <p:cNvPr id="874" name=""/>
            <p:cNvSpPr/>
            <p:nvPr/>
          </p:nvSpPr>
          <p:spPr>
            <a:xfrm>
              <a:off x="3348000" y="49417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27640" y="479736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859280" y="4941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92720" y="479736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40360" y="4797360"/>
            <a:ext cx="1943280" cy="581400"/>
            <a:chOff x="5940360" y="4797360"/>
            <a:chExt cx="1943280" cy="581400"/>
          </a:xfrm>
        </p:grpSpPr>
        <p:sp>
          <p:nvSpPr>
            <p:cNvPr id="879" name=""/>
            <p:cNvSpPr/>
            <p:nvPr/>
          </p:nvSpPr>
          <p:spPr>
            <a:xfrm>
              <a:off x="5940360" y="48704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372360" y="479736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48360" y="4870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36000" y="479736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812000" y="4797360"/>
            <a:ext cx="1152720" cy="581400"/>
            <a:chOff x="7812000" y="4797360"/>
            <a:chExt cx="1152720" cy="581400"/>
          </a:xfrm>
        </p:grpSpPr>
        <p:sp>
          <p:nvSpPr>
            <p:cNvPr id="884" name=""/>
            <p:cNvSpPr/>
            <p:nvPr/>
          </p:nvSpPr>
          <p:spPr>
            <a:xfrm>
              <a:off x="8317080" y="479736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812000" y="48704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179280" y="5732640"/>
            <a:ext cx="1584360" cy="581400"/>
            <a:chOff x="179280" y="5732640"/>
            <a:chExt cx="1584360" cy="581400"/>
          </a:xfrm>
        </p:grpSpPr>
        <p:sp>
          <p:nvSpPr>
            <p:cNvPr id="887" name=""/>
            <p:cNvSpPr/>
            <p:nvPr/>
          </p:nvSpPr>
          <p:spPr>
            <a:xfrm>
              <a:off x="179280" y="573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26920" y="580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16000" y="573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1763640" y="5732640"/>
            <a:ext cx="1584360" cy="581400"/>
            <a:chOff x="1763640" y="5732640"/>
            <a:chExt cx="1584360" cy="581400"/>
          </a:xfrm>
        </p:grpSpPr>
        <p:sp>
          <p:nvSpPr>
            <p:cNvPr id="891" name=""/>
            <p:cNvSpPr/>
            <p:nvPr/>
          </p:nvSpPr>
          <p:spPr>
            <a:xfrm>
              <a:off x="1763640" y="58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24000" y="5877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00360" y="573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348000" y="5732640"/>
            <a:ext cx="2664000" cy="581400"/>
            <a:chOff x="3348000" y="5732640"/>
            <a:chExt cx="2664000" cy="581400"/>
          </a:xfrm>
        </p:grpSpPr>
        <p:sp>
          <p:nvSpPr>
            <p:cNvPr id="895" name=""/>
            <p:cNvSpPr/>
            <p:nvPr/>
          </p:nvSpPr>
          <p:spPr>
            <a:xfrm>
              <a:off x="3348000" y="587700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27640" y="573264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59280" y="5877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292720" y="573264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940360" y="5732640"/>
            <a:ext cx="1943280" cy="581400"/>
            <a:chOff x="5940360" y="5732640"/>
            <a:chExt cx="1943280" cy="581400"/>
          </a:xfrm>
        </p:grpSpPr>
        <p:sp>
          <p:nvSpPr>
            <p:cNvPr id="900" name=""/>
            <p:cNvSpPr/>
            <p:nvPr/>
          </p:nvSpPr>
          <p:spPr>
            <a:xfrm>
              <a:off x="5940360" y="5805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72360" y="5732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48360" y="580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36000" y="5732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812000" y="5732640"/>
            <a:ext cx="1152720" cy="581400"/>
            <a:chOff x="7812000" y="5732640"/>
            <a:chExt cx="1152720" cy="581400"/>
          </a:xfrm>
        </p:grpSpPr>
        <p:sp>
          <p:nvSpPr>
            <p:cNvPr id="905" name=""/>
            <p:cNvSpPr/>
            <p:nvPr/>
          </p:nvSpPr>
          <p:spPr>
            <a:xfrm>
              <a:off x="8317080" y="573264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812000" y="5805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851280" y="1052640"/>
            <a:ext cx="64764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500720" y="112536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364000" y="1052640"/>
            <a:ext cx="71928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012000" y="112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443640" y="1052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02000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307280" y="1052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7812000" y="1052640"/>
            <a:ext cx="1152720" cy="581400"/>
            <a:chOff x="7812000" y="1052640"/>
            <a:chExt cx="1152720" cy="581400"/>
          </a:xfrm>
        </p:grpSpPr>
        <p:sp>
          <p:nvSpPr>
            <p:cNvPr id="915" name=""/>
            <p:cNvSpPr/>
            <p:nvPr/>
          </p:nvSpPr>
          <p:spPr>
            <a:xfrm>
              <a:off x="8317080" y="1052640"/>
              <a:ext cx="647640" cy="581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12000" y="1125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211640" y="836640"/>
            <a:ext cx="2591640" cy="288720"/>
            <a:chOff x="4211640" y="836640"/>
            <a:chExt cx="2591640" cy="288720"/>
          </a:xfrm>
        </p:grpSpPr>
        <p:grpSp>
          <p:nvGrpSpPr>
            <p:cNvPr id="918" name=""/>
            <p:cNvGrpSpPr/>
            <p:nvPr/>
          </p:nvGrpSpPr>
          <p:grpSpPr>
            <a:xfrm>
              <a:off x="4211640" y="836640"/>
              <a:ext cx="2591640" cy="288720"/>
              <a:chOff x="4211640" y="836640"/>
              <a:chExt cx="2591640" cy="288720"/>
            </a:xfrm>
          </p:grpSpPr>
          <p:sp>
            <p:nvSpPr>
              <p:cNvPr id="919" name=""/>
              <p:cNvSpPr/>
              <p:nvPr/>
            </p:nvSpPr>
            <p:spPr>
              <a:xfrm flipV="1">
                <a:off x="4211640" y="836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211640" y="83664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03280" y="83664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5724360" y="836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3059280" y="1628640"/>
            <a:ext cx="4608000" cy="216000"/>
            <a:chOff x="3059280" y="1628640"/>
            <a:chExt cx="4608000" cy="216000"/>
          </a:xfrm>
        </p:grpSpPr>
        <p:grpSp>
          <p:nvGrpSpPr>
            <p:cNvPr id="924" name=""/>
            <p:cNvGrpSpPr/>
            <p:nvPr/>
          </p:nvGrpSpPr>
          <p:grpSpPr>
            <a:xfrm>
              <a:off x="3059280" y="1628640"/>
              <a:ext cx="4608000" cy="216000"/>
              <a:chOff x="3059280" y="1628640"/>
              <a:chExt cx="4608000" cy="216000"/>
            </a:xfrm>
          </p:grpSpPr>
          <p:sp>
            <p:nvSpPr>
              <p:cNvPr id="925" name=""/>
              <p:cNvSpPr/>
              <p:nvPr/>
            </p:nvSpPr>
            <p:spPr>
              <a:xfrm>
                <a:off x="3059280" y="1628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059280" y="184464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7667280" y="1628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4211640" y="1628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3348000" y="119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79280" y="1052640"/>
            <a:ext cx="6494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26920" y="98100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16000" y="1052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692360" y="112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124000" y="1197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700360" y="1052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851280" y="2565360"/>
            <a:ext cx="64764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500720" y="263844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364000" y="2565360"/>
            <a:ext cx="71928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012000" y="2638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443640" y="256536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020000" y="2638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307280" y="256536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7812000" y="2565360"/>
            <a:ext cx="1152720" cy="581400"/>
            <a:chOff x="7812000" y="2565360"/>
            <a:chExt cx="1152720" cy="581400"/>
          </a:xfrm>
        </p:grpSpPr>
        <p:sp>
          <p:nvSpPr>
            <p:cNvPr id="944" name=""/>
            <p:cNvSpPr/>
            <p:nvPr/>
          </p:nvSpPr>
          <p:spPr>
            <a:xfrm>
              <a:off x="8317080" y="2565360"/>
              <a:ext cx="647640" cy="581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812000" y="2638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211640" y="2349360"/>
            <a:ext cx="2591640" cy="288720"/>
            <a:chOff x="4211640" y="2349360"/>
            <a:chExt cx="2591640" cy="288720"/>
          </a:xfrm>
        </p:grpSpPr>
        <p:grpSp>
          <p:nvGrpSpPr>
            <p:cNvPr id="947" name=""/>
            <p:cNvGrpSpPr/>
            <p:nvPr/>
          </p:nvGrpSpPr>
          <p:grpSpPr>
            <a:xfrm>
              <a:off x="4211640" y="2349360"/>
              <a:ext cx="2591640" cy="288720"/>
              <a:chOff x="4211640" y="2349360"/>
              <a:chExt cx="2591640" cy="288720"/>
            </a:xfrm>
          </p:grpSpPr>
          <p:sp>
            <p:nvSpPr>
              <p:cNvPr id="948" name=""/>
              <p:cNvSpPr/>
              <p:nvPr/>
            </p:nvSpPr>
            <p:spPr>
              <a:xfrm flipV="1">
                <a:off x="4211640" y="234936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211640" y="234936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803280" y="234936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5724360" y="234936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3059280" y="3141720"/>
            <a:ext cx="4608000" cy="216000"/>
            <a:chOff x="3059280" y="3141720"/>
            <a:chExt cx="4608000" cy="216000"/>
          </a:xfrm>
        </p:grpSpPr>
        <p:grpSp>
          <p:nvGrpSpPr>
            <p:cNvPr id="953" name=""/>
            <p:cNvGrpSpPr/>
            <p:nvPr/>
          </p:nvGrpSpPr>
          <p:grpSpPr>
            <a:xfrm>
              <a:off x="3059280" y="3141720"/>
              <a:ext cx="4608000" cy="216000"/>
              <a:chOff x="3059280" y="3141720"/>
              <a:chExt cx="4608000" cy="216000"/>
            </a:xfrm>
          </p:grpSpPr>
          <p:sp>
            <p:nvSpPr>
              <p:cNvPr id="954" name=""/>
              <p:cNvSpPr/>
              <p:nvPr/>
            </p:nvSpPr>
            <p:spPr>
              <a:xfrm>
                <a:off x="3059280" y="3141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059280" y="335772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7667280" y="3141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4211640" y="3141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3348000" y="2709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79280" y="2565360"/>
            <a:ext cx="6494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6920" y="249408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116000" y="256536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692360" y="2638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124000" y="270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700360" y="256536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851280" y="4076640"/>
            <a:ext cx="64764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500720" y="41497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364000" y="4076640"/>
            <a:ext cx="71928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01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4076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020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07280" y="4076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7812000" y="4076640"/>
            <a:ext cx="1152720" cy="581400"/>
            <a:chOff x="7812000" y="4076640"/>
            <a:chExt cx="1152720" cy="581400"/>
          </a:xfrm>
        </p:grpSpPr>
        <p:sp>
          <p:nvSpPr>
            <p:cNvPr id="973" name=""/>
            <p:cNvSpPr/>
            <p:nvPr/>
          </p:nvSpPr>
          <p:spPr>
            <a:xfrm>
              <a:off x="8317080" y="4076640"/>
              <a:ext cx="647640" cy="581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812000" y="4149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4211640" y="3860640"/>
            <a:ext cx="2591640" cy="288720"/>
            <a:chOff x="4211640" y="3860640"/>
            <a:chExt cx="2591640" cy="288720"/>
          </a:xfrm>
        </p:grpSpPr>
        <p:grpSp>
          <p:nvGrpSpPr>
            <p:cNvPr id="976" name=""/>
            <p:cNvGrpSpPr/>
            <p:nvPr/>
          </p:nvGrpSpPr>
          <p:grpSpPr>
            <a:xfrm>
              <a:off x="4211640" y="3860640"/>
              <a:ext cx="2591640" cy="288720"/>
              <a:chOff x="4211640" y="3860640"/>
              <a:chExt cx="2591640" cy="288720"/>
            </a:xfrm>
          </p:grpSpPr>
          <p:sp>
            <p:nvSpPr>
              <p:cNvPr id="977" name=""/>
              <p:cNvSpPr/>
              <p:nvPr/>
            </p:nvSpPr>
            <p:spPr>
              <a:xfrm flipV="1">
                <a:off x="4211640" y="3860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211640" y="386064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03280" y="386064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724360" y="3860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059280" y="4653000"/>
            <a:ext cx="4608000" cy="216000"/>
            <a:chOff x="3059280" y="4653000"/>
            <a:chExt cx="4608000" cy="216000"/>
          </a:xfrm>
        </p:grpSpPr>
        <p:grpSp>
          <p:nvGrpSpPr>
            <p:cNvPr id="982" name=""/>
            <p:cNvGrpSpPr/>
            <p:nvPr/>
          </p:nvGrpSpPr>
          <p:grpSpPr>
            <a:xfrm>
              <a:off x="3059280" y="4653000"/>
              <a:ext cx="4608000" cy="216000"/>
              <a:chOff x="3059280" y="4653000"/>
              <a:chExt cx="4608000" cy="216000"/>
            </a:xfrm>
          </p:grpSpPr>
          <p:sp>
            <p:nvSpPr>
              <p:cNvPr id="983" name=""/>
              <p:cNvSpPr/>
              <p:nvPr/>
            </p:nvSpPr>
            <p:spPr>
              <a:xfrm>
                <a:off x="3059280" y="465300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059280" y="486900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7667280" y="465300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4211640" y="465300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3348000" y="4221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79280" y="4076640"/>
            <a:ext cx="6494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26920" y="400536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116000" y="4076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69236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124000" y="4221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00360" y="4076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51280" y="5589720"/>
            <a:ext cx="64764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500720" y="566244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364000" y="5589720"/>
            <a:ext cx="71928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012000" y="5662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43640" y="558972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20000" y="5662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307280" y="558972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7812000" y="5589720"/>
            <a:ext cx="1152720" cy="581400"/>
            <a:chOff x="7812000" y="5589720"/>
            <a:chExt cx="1152720" cy="581400"/>
          </a:xfrm>
        </p:grpSpPr>
        <p:sp>
          <p:nvSpPr>
            <p:cNvPr id="1002" name=""/>
            <p:cNvSpPr/>
            <p:nvPr/>
          </p:nvSpPr>
          <p:spPr>
            <a:xfrm>
              <a:off x="8317080" y="5589720"/>
              <a:ext cx="647640" cy="581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812000" y="56624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4211640" y="5373720"/>
            <a:ext cx="2591640" cy="288720"/>
            <a:chOff x="4211640" y="5373720"/>
            <a:chExt cx="2591640" cy="288720"/>
          </a:xfrm>
        </p:grpSpPr>
        <p:grpSp>
          <p:nvGrpSpPr>
            <p:cNvPr id="1005" name=""/>
            <p:cNvGrpSpPr/>
            <p:nvPr/>
          </p:nvGrpSpPr>
          <p:grpSpPr>
            <a:xfrm>
              <a:off x="4211640" y="5373720"/>
              <a:ext cx="2591640" cy="288720"/>
              <a:chOff x="4211640" y="5373720"/>
              <a:chExt cx="2591640" cy="288720"/>
            </a:xfrm>
          </p:grpSpPr>
          <p:sp>
            <p:nvSpPr>
              <p:cNvPr id="1006" name=""/>
              <p:cNvSpPr/>
              <p:nvPr/>
            </p:nvSpPr>
            <p:spPr>
              <a:xfrm flipV="1">
                <a:off x="4211640" y="5373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211640" y="537372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803280" y="537372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9" name=""/>
            <p:cNvSpPr/>
            <p:nvPr/>
          </p:nvSpPr>
          <p:spPr>
            <a:xfrm>
              <a:off x="5724360" y="5373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3059280" y="6165720"/>
            <a:ext cx="4608000" cy="216000"/>
            <a:chOff x="3059280" y="6165720"/>
            <a:chExt cx="4608000" cy="216000"/>
          </a:xfrm>
        </p:grpSpPr>
        <p:grpSp>
          <p:nvGrpSpPr>
            <p:cNvPr id="1011" name=""/>
            <p:cNvGrpSpPr/>
            <p:nvPr/>
          </p:nvGrpSpPr>
          <p:grpSpPr>
            <a:xfrm>
              <a:off x="3059280" y="6165720"/>
              <a:ext cx="4608000" cy="216000"/>
              <a:chOff x="3059280" y="6165720"/>
              <a:chExt cx="4608000" cy="216000"/>
            </a:xfrm>
          </p:grpSpPr>
          <p:sp>
            <p:nvSpPr>
              <p:cNvPr id="1012" name=""/>
              <p:cNvSpPr/>
              <p:nvPr/>
            </p:nvSpPr>
            <p:spPr>
              <a:xfrm>
                <a:off x="3059280" y="6165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059280" y="638172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7667280" y="6165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4211640" y="6165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348000" y="57340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79280" y="5589720"/>
            <a:ext cx="6494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26920" y="551808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116000" y="558972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2360" y="5662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124000" y="57340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700360" y="558972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26920" y="26028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dds equally to make a tidy number for 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1" dur="indefinite" restart="never" nodeType="tmRoot">
          <p:childTnLst>
            <p:seq>
              <p:cTn id="2242" dur="indefinite" nodeType="mainSeq">
                <p:childTnLst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of tens in dec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11280" y="836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7964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859280" y="836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7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11280" y="2060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979640" y="2349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859280" y="2060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4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11280" y="3284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979640" y="357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859280" y="3284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9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11280" y="4508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979640" y="479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4508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5" dur="indefinite" restart="never" nodeType="tmRoot">
          <p:childTnLst>
            <p:seq>
              <p:cTn id="2436" dur="indefinite" nodeType="mainSeq">
                <p:childTnLst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how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84360" y="981000"/>
            <a:ext cx="863280" cy="1152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547640" y="981000"/>
            <a:ext cx="863640" cy="1152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rot="16200000">
            <a:off x="1265040" y="219816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556000" y="1268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is shape has be cut in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508720" y="1052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451640" y="105264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26920" y="292428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547640" y="292428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26920" y="357336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547640" y="357336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rot="16200000">
            <a:off x="1265040" y="435888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268360" y="328464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it cut off is called 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076720" y="2924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four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451640" y="285264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50920" y="5373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it left is calle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627280" y="49370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three fourt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451640" y="47242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205092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3" dur="indefinite" restart="never" nodeType="tmRoot">
          <p:childTnLst>
            <p:seq>
              <p:cTn id="2454" dur="indefinite" nodeType="mainSeq">
                <p:childTnLst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-0.0474 L 0.0033 -0.54035 E">
                                      <p:cBhvr>
                                        <p:cTn id="2468" dur="2000" fill="hold"/>
                                        <p:tgtEl>
                                          <p:spTgt spid="10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09249E-007 L -0.03941 -8.09249E-007 E">
                                      <p:cBhvr>
                                        <p:cTn id="2472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508 L 0.0007 -0.14428 L -0.33732 -0.15491 E">
                                      <p:cBhvr>
                                        <p:cTn id="2502" dur="2000" fill="hold"/>
                                        <p:tgtEl>
                                          <p:spTgt spid="10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6994E-006 L -0.04722 0.03144 E">
                                      <p:cBhvr>
                                        <p:cTn id="2506" dur="2000" fill="hold"/>
                                        <p:tgtEl>
                                          <p:spTgt spid="10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95280" y="134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ut these fractions in order from little to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476360" y="1989000"/>
            <a:ext cx="1150920" cy="1557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95640" y="2060640"/>
            <a:ext cx="1152720" cy="1557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372360" y="2060640"/>
            <a:ext cx="1152360" cy="155700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63528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iddle s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11600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ttl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15636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g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5" dur="indefinite" restart="never" nodeType="tmRoot">
          <p:childTnLst>
            <p:seq>
              <p:cTn id="2536" dur="indefinite" nodeType="mainSeq">
                <p:childTnLst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71676E-006 L -0.54341 0.32509 E">
                                      <p:cBhvr>
                                        <p:cTn id="2540" dur="2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9.24855E-007 L 0.26788 0.34612 E">
                                      <p:cBhvr>
                                        <p:cTn id="2544" dur="2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24855E-007 L 0.26771 0.33572 E">
                                      <p:cBhvr>
                                        <p:cTn id="2548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adding to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952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6720" y="98100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9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276720" y="177336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348000" y="1844640"/>
            <a:ext cx="7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76720" y="270828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25892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5280" y="263700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6836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952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276720" y="364644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9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276720" y="537372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9528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6836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8610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742160" y="98100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8610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742160" y="1773360"/>
            <a:ext cx="9334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813800" y="1844640"/>
            <a:ext cx="790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742160" y="270828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86108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93380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10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742160" y="364644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85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740720" y="4437000"/>
            <a:ext cx="934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813800" y="4510080"/>
            <a:ext cx="790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742160" y="537372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6108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93380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9" dur="indefinite" restart="never" nodeType="tmRoot">
          <p:childTnLst>
            <p:seq>
              <p:cTn id="2550" dur="indefinite" nodeType="mainSeq">
                <p:childTnLst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ads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05264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628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85264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1052640"/>
            <a:ext cx="649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78136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14172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860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4653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589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558972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170028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429264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720" y="278136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57340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1557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7640" y="5445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40720" y="1052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24720" y="4005360"/>
            <a:ext cx="11509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subtracting up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24000" y="98100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27672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24000" y="184464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276720" y="177336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348000" y="184464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276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332000" y="2708280"/>
            <a:ext cx="431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0920" y="2637000"/>
            <a:ext cx="10080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24000" y="2708280"/>
            <a:ext cx="863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24000" y="364644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2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24000" y="45100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27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5092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24000" y="5373720"/>
            <a:ext cx="720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788000" y="98100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7421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788000" y="184464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742160" y="177336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7813800" y="184464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74216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716360" y="2637000"/>
            <a:ext cx="8636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788000" y="270828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788000" y="364644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742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788000" y="45100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74072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813800" y="451008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742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71636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788000" y="537372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3" dur="indefinite" restart="never" nodeType="tmRoot">
          <p:childTnLst>
            <p:seq>
              <p:cTn id="2744" dur="indefinite" nodeType="mainSeq">
                <p:childTnLst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groups of 2, 3, 4, 5, 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43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54764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91636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565440" y="98100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2400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19708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54620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9145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12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564000" y="177156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637080" y="184464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564000" y="27082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54764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91636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12400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8436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57080" y="27082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43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54764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916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565440" y="364644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12400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19708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8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54620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91456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12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564000" y="443700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637080" y="451008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565440" y="537372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54764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916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12400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8436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75708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078520" y="1052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942160" y="1052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451640" y="1052640"/>
            <a:ext cx="433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9600" y="1052640"/>
            <a:ext cx="7891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518160" y="979560"/>
            <a:ext cx="8622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591240" y="105264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07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940360" y="1916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7308720" y="1916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51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958160" y="1843200"/>
            <a:ext cx="8618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8031240" y="191628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95960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94216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31052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51816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078520" y="270828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51600" y="277956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0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940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30872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958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51672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589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07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93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30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51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956720" y="4437000"/>
            <a:ext cx="863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8029440" y="4510080"/>
            <a:ext cx="719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958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940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30872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51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07672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14980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7" dur="indefinite" restart="never" nodeType="tmRoot">
          <p:childTnLst>
            <p:seq>
              <p:cTn id="2938" dur="indefinite" nodeType="mainSeq">
                <p:childTnLst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1" fill="hold">
                      <p:stCondLst>
                        <p:cond delay="indefinite"/>
                      </p:stCondLst>
                      <p:childTnLst>
                        <p:par>
                          <p:cTn id="2972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Ripper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On to the nex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level !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rite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8366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 Write these numbers on the whiteboard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3068640"/>
            <a:ext cx="3816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seven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3933720"/>
            <a:ext cx="324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eighty-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068640"/>
            <a:ext cx="2736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forty-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2276640"/>
            <a:ext cx="25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sixty-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341360"/>
            <a:ext cx="3168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hirty-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1268280"/>
            <a:ext cx="251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fif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5877000"/>
            <a:ext cx="3168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seventy-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4941720"/>
            <a:ext cx="3527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one hund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4797360"/>
            <a:ext cx="3600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wenty-s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3933720"/>
            <a:ext cx="36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fifty-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2133720"/>
            <a:ext cx="3024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ninety-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5805360"/>
            <a:ext cx="33829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el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Groups of Objects to fif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836640"/>
            <a:ext cx="3240000" cy="1313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7280" y="4005360"/>
            <a:ext cx="3097440" cy="192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907920"/>
            <a:ext cx="2664000" cy="1068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263700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581360"/>
            <a:ext cx="2232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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2565360"/>
            <a:ext cx="367200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25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78136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65300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5013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292428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119700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tches Numerals and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765000"/>
            <a:ext cx="2663640" cy="19227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508640"/>
            <a:ext cx="2520720" cy="192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907920"/>
            <a:ext cx="2017440" cy="1556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85264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4581360"/>
            <a:ext cx="280836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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3141720"/>
            <a:ext cx="2664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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8.67052E-007 L -0.26372 -0.20832 E">
                                      <p:cBhvr>
                                        <p:cTn id="19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1493 -0.03168 E">
                                      <p:cBhvr>
                                        <p:cTn id="20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-0.43316 0.22011 E">
                                      <p:cBhvr>
                                        <p:cTn id="21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71676E-006 L -0.41736 -0.22035 E">
                                      <p:cBhvr>
                                        <p:cTn id="22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509E-006 L 0.33073 -0.42982 E">
                                      <p:cBhvr>
                                        <p:cTn id="22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3854 0.35653 E">
                                      <p:cBhvr>
                                        <p:cTn id="23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620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62864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708280"/>
            <a:ext cx="863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1052640"/>
            <a:ext cx="649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2421000"/>
            <a:ext cx="7905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3429000"/>
            <a:ext cx="64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941720"/>
            <a:ext cx="865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5877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494172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292428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4941720"/>
            <a:ext cx="863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9079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595008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0872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4005360"/>
            <a:ext cx="936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1628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2708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0108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1052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620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421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4581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494172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005360"/>
            <a:ext cx="1008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59500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5877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4076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7628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62864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708280"/>
            <a:ext cx="863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1052640"/>
            <a:ext cx="865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42100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3429000"/>
            <a:ext cx="64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941720"/>
            <a:ext cx="8985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5877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0" y="494172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4941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90792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95008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0872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4005360"/>
            <a:ext cx="936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1628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2708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4072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0108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5964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1052640"/>
            <a:ext cx="1008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476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2421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4581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4941720"/>
            <a:ext cx="10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40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72360" y="59500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0872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5877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4076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mall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566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gg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20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773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8000" y="620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9636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35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284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148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636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20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5661000"/>
          <a:ext cx="8229600" cy="465120"/>
        </p:xfrm>
        <a:graphic>
          <a:graphicData uri="http://schemas.openxmlformats.org/drawingml/2006/table"/>
        </a:graphic>
      </p:graphicFrame>
      <p:sp>
        <p:nvSpPr>
          <p:cNvPr id="215" name=""/>
          <p:cNvSpPr/>
          <p:nvPr/>
        </p:nvSpPr>
        <p:spPr>
          <a:xfrm>
            <a:off x="61128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5636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4072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4836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56:15Z</dcterms:created>
  <dc:creator>Ministry of Education</dc:creator>
  <dc:description/>
  <dc:language>en-US</dc:language>
  <cp:lastModifiedBy>Ministry of Education</cp:lastModifiedBy>
  <dcterms:modified xsi:type="dcterms:W3CDTF">2008-05-03T00:00:41Z</dcterms:modified>
  <cp:revision>20</cp:revision>
  <dc:subject/>
  <dc:title>Mathematics  Diagnostic Number Knowledge  Numbers 1-20</dc:title>
</cp:coreProperties>
</file>