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B6B-8F1C-45BB-963B-15E5A969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250-7C64-4E41-8957-6E07A15D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FD3-0022-4EFA-A1F3-782097C6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66F-4F17-4310-AED4-7E37429A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F05-D7E1-419D-BF9E-C8285462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5FA-5E4C-45DB-8109-A88D7C09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CFA-A91B-42AB-A3BB-28E0DD23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C25-9D39-48D1-96AB-3AD37393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E9C-369C-4115-B05F-8F76BFA6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1C6-FA6E-4AEE-ACC9-EE25D051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462-E0E2-4A90-80C5-F2F9696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11B-C752-4589-B351-7C3EEF1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D276-E3DA-40AC-AF9B-3B2ECA9D2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Staff</cp:lastModifiedBy>
  <dcterms:modified xsi:type="dcterms:W3CDTF">2006-01-09T15:36:48Z</dcterms:modified>
  <cp:revision>1</cp:revision>
  <dc:subject/>
  <dc:title>Counting to 25!</dc:title>
</cp:coreProperties>
</file>