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19AF-05A9-4BDC-8D36-376EC3A0B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E0E8-395A-4211-A98B-04D7DE67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B4EA-C589-4FCD-81F4-79984C0ED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34E2-2998-4A7F-9468-5D87777E4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B4B6-5DEB-4D80-9AD7-98EAA56D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1520-6AEE-4619-8B86-8399D00A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DA73-6192-44E7-A8C4-FA3B0A6C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1529-4C79-494D-B81E-F87B36ED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EBCB-4A5A-40F9-8265-5217050D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77DB-87DF-4B3F-86AC-410EA446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26E9-BB03-4376-85AD-E9E57D10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198D-25D3-4257-99A6-AF962C2C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B3FF-E861-47A7-91E3-4D8089511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Counting in 2s to 2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5761080"/>
            <a:ext cx="9144000" cy="183805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92360" y="189000"/>
            <a:ext cx="662472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9T16:52:09Z</dcterms:created>
  <dc:creator>TEACHER</dc:creator>
  <dc:description/>
  <dc:language>en-US</dc:language>
  <cp:lastModifiedBy>TEACHER</cp:lastModifiedBy>
  <dcterms:modified xsi:type="dcterms:W3CDTF">2005-11-19T16:52:36Z</dcterms:modified>
  <cp:revision>1</cp:revision>
  <dc:subject/>
  <dc:title>Counting in 2s to 20</dc:title>
</cp:coreProperties>
</file>