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EBF-D20B-478F-A5EE-A433228B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CA2-2031-4589-995C-80F5A3B7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25C-6774-42EE-A8F8-9CD2C132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AB2-99F2-4587-8CFF-EAB85DEB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A0B-FF4F-4281-A5FF-07A06F7C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663-D27E-49A0-99DE-B4F54348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A1B-EB56-4319-85E7-EF3D3FCC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9DA-9FDF-427F-A9DF-6D28162E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2C2-02E9-430C-9FFC-95083CCD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3FC-6D05-4591-8A97-744A456B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F80-3F0E-4D68-A807-82AE20D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311-C200-41ED-B09D-2BB00B7A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C389-4643-4BDD-A9AF-494D607EB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10 and back to 0!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5:34:36Z</dcterms:created>
  <dc:creator>TEACHER</dc:creator>
  <dc:description/>
  <dc:language>en-US</dc:language>
  <cp:lastModifiedBy>TEACHER</cp:lastModifiedBy>
  <dcterms:modified xsi:type="dcterms:W3CDTF">2005-11-30T15:40:24Z</dcterms:modified>
  <cp:revision>1</cp:revision>
  <dc:subject/>
  <dc:title>Counting 10 and back to 0!  </dc:title>
</cp:coreProperties>
</file>