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2F199-3DF9-48A2-9D01-867558359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43D5E-8BCE-4548-97E3-D75EC03D2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5067C-69A7-4CC5-BB2D-B49FE76CA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F9F8E-9C2B-4B01-B56C-494FDEB20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F3297-9609-4626-A139-2E113C5F6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DD688-076A-4E72-B127-9537DA627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C06CF-A66A-4029-8A22-D3EAC0A16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B6E71-F4B9-4109-BDC3-7E2BCE597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FF0CA-8C39-42FF-858C-4D0C59936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BE92E-8397-449B-881E-016DBE327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91F36-BDA1-4A15-9CF6-772153306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21AA5-0B0C-49BC-B616-6F0D16401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F5795-64DA-4681-90E2-C130EA564E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j0214098.wav" TargetMode="External"/><Relationship Id="rId2" Type="http://schemas.microsoft.com/office/2007/relationships/media" Target="file:///tmp/home/.config/libreoffice/4/user/gallery/j0214098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2420640"/>
            <a:ext cx="89647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Counting in 10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4920" y="2707920"/>
            <a:ext cx="820908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4920" y="2707920"/>
            <a:ext cx="820908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0" spc="-1" strike="noStrike">
                <a:solidFill>
                  <a:srgbClr val="000000"/>
                </a:solidFill>
                <a:latin typeface="Arial"/>
              </a:rPr>
              <a:t>Well done!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7885080" y="5734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745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52"/>
                </p:tgtEl>
              </p:cMediaNode>
            </p:audio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94920" y="2707920"/>
            <a:ext cx="820908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4920" y="2707920"/>
            <a:ext cx="820908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4920" y="2707920"/>
            <a:ext cx="820908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4920" y="2707920"/>
            <a:ext cx="820908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4920" y="2707920"/>
            <a:ext cx="820908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4920" y="2707920"/>
            <a:ext cx="820908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4920" y="2707920"/>
            <a:ext cx="820908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94920" y="2707920"/>
            <a:ext cx="820908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0000"/>
                </a:solidFill>
                <a:latin typeface="Arial"/>
              </a:rPr>
              <a:t>90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6T10:50:16Z</dcterms:created>
  <dc:creator>TEACHER</dc:creator>
  <dc:description/>
  <dc:language>en-US</dc:language>
  <cp:lastModifiedBy>Staff</cp:lastModifiedBy>
  <dcterms:modified xsi:type="dcterms:W3CDTF">2007-01-17T07:40:27Z</dcterms:modified>
  <cp:revision>1</cp:revision>
  <dc:subject/>
  <dc:title>Counting in 10s</dc:title>
</cp:coreProperties>
</file>