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AB6-D7D7-44C5-A29B-202FD6D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F89-C816-454E-A786-E98154A9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EE8-C7F2-4B93-A3DF-D4E402BE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040-1C09-48F4-871A-F5DEEBFC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A40-7085-41C3-8346-B1F793D1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7E0-1577-41A4-BE46-BEA54ECD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034-CF90-4923-B206-48B49A86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BAE-D7F0-4466-8E07-441EEFE9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1B3-D718-4CC9-B541-14AACD2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F9F-EA06-4B28-A480-2F6BF31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CA9-ACB8-49F4-8055-14D1FC0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FF3-6034-4E32-BBF0-138E2AC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2322-FA67-49C7-9977-6E82814C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in 10s to 10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0:04:09Z</dcterms:created>
  <dc:creator>TEACHER</dc:creator>
  <dc:description/>
  <dc:language>en-US</dc:language>
  <cp:lastModifiedBy>Staff</cp:lastModifiedBy>
  <dcterms:modified xsi:type="dcterms:W3CDTF">2006-01-30T07:49:27Z</dcterms:modified>
  <cp:revision>1</cp:revision>
  <dc:subject/>
  <dc:title>Counting in 10s to 100!</dc:title>
</cp:coreProperties>
</file>