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8195-11B3-4DFC-9A9E-687D047E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45F9-E9A3-441F-85F8-45D4B6CD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0FB1-892D-4AA1-A39A-4CD418F2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3BE-3BE2-4810-A83F-7B21DDC1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5FA3-235C-486C-BA40-0D5B4164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768-0C47-4D6A-AD42-ECC3C0E9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F97-DEE4-4D38-9262-E064C656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A9F-E063-421C-9ECF-0907A7AE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90F-52E6-4EC2-A5C6-7CA5A835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11C5-4B92-4511-A680-0C1976C1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2AD9-FDB4-4001-9B70-685BFA6C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EAE0-CAFC-453A-95C2-4102D637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8FFF-63C0-46C2-8A02-2C8FEC923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9900"/>
                </a:solidFill>
                <a:latin typeface="Arial"/>
              </a:rPr>
              <a:t>Counting down!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99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2:25:31Z</dcterms:created>
  <dc:creator>TEACHER</dc:creator>
  <dc:description/>
  <dc:language>en-US</dc:language>
  <cp:lastModifiedBy>Staff</cp:lastModifiedBy>
  <dcterms:modified xsi:type="dcterms:W3CDTF">2005-12-12T08:17:50Z</dcterms:modified>
  <cp:revision>1</cp:revision>
  <dc:subject/>
  <dc:title>Counting down! </dc:title>
</cp:coreProperties>
</file>