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388A-E13E-49A8-8AC4-DBDEE61E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EA0-8DF1-48BE-98CF-8E5053A7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CB51-D4BA-4A04-8784-13D90AF2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E614-27F1-40C1-A9BA-8D794589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89A1-F6E1-4DB5-B032-67DADB07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FC11-0560-49CF-BA45-85082DA6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01B8-5D39-4C58-894E-43A2D429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1518-68EC-4DB4-B3DA-3AC18610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74E5-3CD1-47B7-B73A-D0761A20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CE30-253E-4885-B103-89286B79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5584-CEB1-41C0-91B9-D5C82A6C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E596-8E23-4E0C-B4AD-A011A0E5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8BA8-6600-4F9B-BD91-0318CFC28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Counting to 10 and back to 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592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7:57:38Z</dcterms:created>
  <dc:creator>Staff</dc:creator>
  <dc:description/>
  <dc:language>en-US</dc:language>
  <cp:lastModifiedBy>Staff</cp:lastModifiedBy>
  <dcterms:modified xsi:type="dcterms:W3CDTF">2005-12-05T08:02:24Z</dcterms:modified>
  <cp:revision>1</cp:revision>
  <dc:subject/>
  <dc:title>Counting to 10 and back to 0!</dc:title>
</cp:coreProperties>
</file>