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2DF-EFA3-41E1-A9FA-0AAB2161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698-6DB7-4884-BFAF-C85E8A0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309-A91B-4560-A665-C88DB7D4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083-7686-483F-A9B1-2E94B74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3F4-6BD9-4DC3-8F13-8F81545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4FF-1FE8-40FE-8A2D-773E3E6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961-3A40-4A4C-97F2-9F154F2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76B-74A8-4B78-9DD7-567A209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540-4106-4C68-8636-A25F8935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D1E-4E2E-4D95-BAFF-29DCE74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4FD-7C34-459A-ABA4-EECC8C6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A81-09C8-4B3C-99E6-930B1CB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2840-8636-46F1-BF39-77F40B20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51:06Z</dcterms:created>
  <dc:creator>Staff</dc:creator>
  <dc:description/>
  <dc:language>en-US</dc:language>
  <cp:lastModifiedBy>Staff</cp:lastModifiedBy>
  <dcterms:modified xsi:type="dcterms:W3CDTF">2005-11-24T07:56:11Z</dcterms:modified>
  <cp:revision>1</cp:revision>
  <dc:subject/>
  <dc:title>Counting down</dc:title>
</cp:coreProperties>
</file>