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8846-BBC3-445A-B97A-445936A3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4722-DB53-4842-878B-544B4751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9451-5F57-4C45-8441-2760AF70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5C81-BEE2-4187-89F6-E1398BB4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829F-5AC9-45BB-B93D-C4516F12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AED9-3679-48B6-8D6A-566FC698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04FC-24F0-493C-896D-9DEEF832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8083-16AF-4497-9FFB-EDF7AC81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17A7-E170-4C9E-9015-39F68EE1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4F1D-CA61-4783-AE62-092BBA02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A8B4-D624-4C21-9E94-6CC6A05B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CCCC-CF5C-4988-900E-D0717893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0481-2318-4135-ADCA-27F0999C3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Counting to 20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21:50:50Z</dcterms:created>
  <dc:creator>TEACHER</dc:creator>
  <dc:description/>
  <dc:language>en-US</dc:language>
  <cp:lastModifiedBy>TEACHER</cp:lastModifiedBy>
  <dcterms:modified xsi:type="dcterms:W3CDTF">2008-05-29T09:12:42Z</dcterms:modified>
  <cp:revision>3</cp:revision>
  <dc:subject/>
  <dc:title>Counting to 25!</dc:title>
</cp:coreProperties>
</file>