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580-EA78-4E9D-81CE-B83693BB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48E-1868-41B3-830F-CC10757D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29F-CC7F-4277-81E3-CBE65893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90E-BD1C-495E-A7DB-33396B28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0B8-DEE1-49D4-A55A-70DDC2B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623-54F5-4A49-85B9-C15E3ABC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894-0865-446B-B786-00D065F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207-F701-461B-8461-076F37F7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B7F-36DE-41BB-9A3E-81544BE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3E0-837C-4728-804E-4B648FD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941-29F4-40CE-87F0-702CF7C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9A5-E189-4779-9FFA-7F96033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9AFD-CE59-4E4D-8287-A10A1641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3s to 3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5:16Z</dcterms:modified>
  <cp:revision>4</cp:revision>
  <dc:subject/>
  <dc:title>Counting to 25!</dc:title>
</cp:coreProperties>
</file>