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056-385A-44E2-B43F-7D16E5FD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8E5-9404-4105-AF10-B4F1B3F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713-4910-4CC8-B72F-42AC6CBD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E4C-F1B0-48D0-B359-0B08F6D3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521-C30D-439C-A8EE-E4CCCCD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3F0-5A7B-496D-9DFA-CA9B990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E21-CEEA-42F1-9A92-5158ED17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243-AC33-40F7-9790-6F14695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C41-24B3-470D-89A7-5CA9C112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ED2-FB3A-41F6-BDAD-70F1373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23D-7B05-497C-8255-AEF0EE1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0AE-C20F-4681-9E23-A34FF93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B7F-0FD3-45B8-BEE1-BE2F875B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ffcc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99ffcc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4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6-01-23T07:56:05Z</dcterms:modified>
  <cp:revision>2</cp:revision>
  <dc:subject/>
  <dc:title>Counting down! </dc:title>
</cp:coreProperties>
</file>