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DE0-797D-42AE-A630-90E4AD44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38B-34C1-491F-A343-B5B44922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A93-949B-4A9F-9DEF-C76DECBC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474-061A-4503-AB60-D89CC6AE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6D1-4D7C-4467-B883-D70FFA56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213-22B3-4B0B-9B67-D9812B16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560-8E3F-429E-998E-3CEC782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C28-1F90-4615-977D-472F4DB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969-D3E6-4F49-B24A-2728154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288-3E34-46FA-A85C-B73FFDF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1E6-419F-4B23-8A6B-75CA2F1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557-BB0D-4CA7-9CAB-D4F299E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0490-15F2-4A8E-9543-AC79F0A7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2-21T08:35:54Z</dcterms:modified>
  <cp:revision>2</cp:revision>
  <dc:subject/>
  <dc:title>Counting to 25!</dc:title>
</cp:coreProperties>
</file>