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7F6-753A-4EA6-9FBD-739A059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2D4-96E6-4006-ABC1-35ACD1C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40B-DBB9-4DC3-B0A8-9B7F5948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451-4EBF-496B-B5A0-E0AB4D03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235-5129-4185-94F6-709BC8C5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3FC-67F6-4FEC-8192-B8AE161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23F-A8D4-48A5-A2F0-479AB050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4C1-FF4C-4AF5-B46A-5111F39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C63-E013-484F-A17E-8B2DE73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BFF-1980-41F8-9533-FC64985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3A0-61C6-4A11-8A66-0BFF083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44C-A557-4FC0-B99A-AD2B35F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F955-FF90-4892-9C6C-879362B262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learning abou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or equal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2128680"/>
            <a:ext cx="326232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Kit Kat bar can be divided equally into four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rt is called a qua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quarters equals one whol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we are looking at equal or equivalent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quarters are in a hal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213372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96252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343400"/>
            <a:ext cx="1447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2895480"/>
            <a:ext cx="11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3120" y="3449520"/>
            <a:ext cx="6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34439" r="0" b="31159"/>
          <a:stretch/>
        </p:blipFill>
        <p:spPr>
          <a:xfrm>
            <a:off x="6156360" y="3141720"/>
            <a:ext cx="25192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eighths are in a quar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13372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962520"/>
            <a:ext cx="1905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0400" y="2666880"/>
            <a:ext cx="1295280" cy="129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419720"/>
            <a:ext cx="182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1320" y="2362320"/>
            <a:ext cx="999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⅛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9178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 at this packet of Sm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16 smarties in each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smarties make up 1 whole p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1 Smartie is what  fraction of the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’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2708280"/>
            <a:ext cx="4186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fractio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sorted the 16 smarties into their colour groups, so all the purple, brown, orange and red ar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I placed each smartie on the bottom in the  box because as we saw, each smartie is ?  All 16 smarties = 1 whol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ember that today we are looking at equivalent or equal fractions. I see that two of the smarties or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16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purple. Is this equal or equivalent to any other fraction? Let’ use our fraction wall to s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happened here? Discuss with your partner. You have 1 minute before I will ask for an explan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3177" r="0" b="16767"/>
          <a:stretch/>
        </p:blipFill>
        <p:spPr>
          <a:xfrm>
            <a:off x="468360" y="1700280"/>
            <a:ext cx="8496360" cy="360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58920" y="5013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94172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71280" y="328464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340360"/>
            <a:ext cx="16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537300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9080" y="54446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words today shall b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673440" cy="4033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s of a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3177" r="0" b="16767"/>
          <a:stretch/>
        </p:blipFill>
        <p:spPr>
          <a:xfrm>
            <a:off x="468360" y="1700280"/>
            <a:ext cx="8496360" cy="3600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using the fraction wall, we can see that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2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16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5013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94172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71280" y="328464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1480" y="249192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537300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9080" y="54446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I have seen this, I note it on my answer sheet, like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915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it’s 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 to first sort your smarties into their colour groups and then lay each one on the bottom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 part of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if I have been successful in learning about equal or equivalent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successful if I can recognise or find equivalent fractions using the smarties and my fraction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will have 10  minutes to find as many equal fractions as you can before we feed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been successful in what we set out to learn about today, finding equal fra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47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we did this at the start, I would like to know how  you  now feel about your knowledge and understanding about equal or equivalent fractions. Remember that you have been successful if you have found equal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everyone has to close their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 equivalent fractions are easy, give me a thumb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lieve that they are ok but not sure, put your thumb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, “Oh No !” Give me a thumb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 we start, I would like to know what you know and understand about equal or equivalent f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demon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art with, everyone has to close their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 equivalent fractions are easy, give me a thumb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lieve that they are ok but not sure, put your thumb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, “Oh No !” Give me a thumb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lets remind ourselves about fractions and start to explore equivalent or equal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s of a Fr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9360" y="2362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657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7640" y="2614680"/>
            <a:ext cx="50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the number of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84560" y="4003560"/>
            <a:ext cx="59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the total number of parts that equal a wh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s of a Fr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2362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657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62320" y="2492280"/>
            <a:ext cx="35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numer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00356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denomin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halves are in a w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133720"/>
            <a:ext cx="0" cy="3809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053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½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look at look at real lif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Twix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ade up of two h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wo halves are equal to one whole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34510" r="0" b="31123"/>
          <a:stretch/>
        </p:blipFill>
        <p:spPr>
          <a:xfrm>
            <a:off x="4716360" y="4653000"/>
            <a:ext cx="39592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quarters are in a w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13372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743200"/>
            <a:ext cx="3124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962520"/>
            <a:ext cx="3886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2:40:41Z</dcterms:created>
  <dc:creator>OEM Preinstalled User</dc:creator>
  <dc:description/>
  <dc:language>en-US</dc:language>
  <cp:lastModifiedBy>Pitchford</cp:lastModifiedBy>
  <dcterms:modified xsi:type="dcterms:W3CDTF">2006-10-17T09:25:54Z</dcterms:modified>
  <cp:revision>21</cp:revision>
  <dc:subject/>
  <dc:title>We are learning about….</dc:title>
</cp:coreProperties>
</file>