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1141-25E3-432E-8054-77169868D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EB80-D2F1-4CAE-BE55-EAC2D8404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BF7A-6893-4612-96DE-7BF08072F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2649-AD74-4A8D-92B9-3D9349247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94BD-4410-481E-AE73-9C73A15D5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6DFB-483C-483A-BEF4-DB742D349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DABF-B2F5-4C17-82DB-92A9F723D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0E4C-56DF-417F-B9B3-F82B129D3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0B96-29D0-4008-9694-8E239C897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F005-47D1-4CA5-A143-A98B4459A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3458-5386-40E7-B92A-23E55713B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2696-B2E5-4F85-9A07-87902F714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5000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D7D7E-B66A-4D71-ABFD-FCB149FDFB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5000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Arial"/>
              </a:rPr>
              <a:t>Jeopardy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6 times table ed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5000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68360" y="1557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The answer is 42, what is the question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4149720"/>
            <a:ext cx="8229600" cy="16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What is 7 x 6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3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5000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68360" y="1557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The answer is 48, what is the question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4149720"/>
            <a:ext cx="8229600" cy="16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What is 8 x 6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3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5000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55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The answer is 24, what is the question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95280" y="4149360"/>
            <a:ext cx="8229600" cy="16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What is 4 x 6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3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5000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55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The answer is 54, what is the question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95280" y="4149360"/>
            <a:ext cx="8229600" cy="16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What is 9 x 6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3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5000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55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The answer is 60, what is the question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95280" y="4149360"/>
            <a:ext cx="8229600" cy="16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What is 10 x 6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3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5000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55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The answer is 18, what is the question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95280" y="4149360"/>
            <a:ext cx="8229600" cy="16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What is 3 x 6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3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5000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155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The answer is 6, what is the question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95280" y="4149360"/>
            <a:ext cx="8229600" cy="16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What is 1 x 6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3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5000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68360" y="1557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The answer is 12, what is the question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4149720"/>
            <a:ext cx="8229600" cy="16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What is 2 x 6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3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5000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68360" y="1557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The answer is 30, what is the question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4149720"/>
            <a:ext cx="8229600" cy="16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What is 5 x 6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3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5000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68360" y="1557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The answer is 36, what is the question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4149720"/>
            <a:ext cx="8229600" cy="16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What is 6 x 6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3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1T14:56:14Z</dcterms:created>
  <dc:creator>5C</dc:creator>
  <dc:description/>
  <dc:language>en-US</dc:language>
  <cp:lastModifiedBy>5C</cp:lastModifiedBy>
  <dcterms:modified xsi:type="dcterms:W3CDTF">2007-03-08T11:17:09Z</dcterms:modified>
  <cp:revision>3</cp:revision>
  <dc:subject/>
  <dc:title>Jeopardy</dc:title>
</cp:coreProperties>
</file>