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3E2-034F-40BF-99D4-11E17251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E85-BE82-4417-ABAD-DE304BB1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847-21AF-4F82-AA13-C5B1A05D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CA2-1239-42D2-9168-88D4475F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E0C-1F4D-4FEE-9527-F07ADAF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8B8-B170-442E-AD32-2357EBFF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CBB-A550-444F-ADFE-1ADE906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F12-22D2-462E-97D4-03367CFA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894-6E1B-4B7A-ADC5-8B4945E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774-2A44-4461-861F-7F49AA3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0E5-3FBF-443A-80F5-BF897A3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2D7-4F4A-41CF-9F6E-7244B44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9A8D-6049-4B21-B972-A8AB8E5E0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8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9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63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7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7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3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4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81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9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9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10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27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3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9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1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1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2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4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5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5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6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26:23Z</dcterms:modified>
  <cp:revision>6</cp:revision>
  <dc:subject/>
  <dc:title>Jeopardy</dc:title>
</cp:coreProperties>
</file>