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9E0-09EC-4FD1-8358-F07070F6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132-004D-4402-99C0-84D053CD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689-F0FD-4579-8015-47C7127F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C02-D0EA-4AB4-8FDA-3DF6F030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6B8-6407-464F-BE1A-86FFF8D7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5C8-A259-4279-B39B-1961CAD5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7A1-400E-4509-86DF-CA0AF610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08E-FDB9-4CFD-A998-CE03709D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EC8-A249-46EC-9C82-05BFA30A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858-F3F7-433C-A3A9-59AC40C0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FD0-2673-4335-BEA9-D2A55C8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8A2-BB11-467C-81B9-6D24457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F692-C7A1-474E-8B9D-FC1496709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8 times table e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5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7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6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8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3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4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7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9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8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10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2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3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1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1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2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4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5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4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6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56:14Z</dcterms:created>
  <dc:creator>5C</dc:creator>
  <dc:description/>
  <dc:language>en-US</dc:language>
  <cp:lastModifiedBy>5C</cp:lastModifiedBy>
  <dcterms:modified xsi:type="dcterms:W3CDTF">2007-03-08T11:23:07Z</dcterms:modified>
  <cp:revision>5</cp:revision>
  <dc:subject/>
  <dc:title>Jeopardy</dc:title>
</cp:coreProperties>
</file>