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1BD-D2EA-4526-9B33-DD69CB6B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763-0C58-424C-AA86-17A22D5F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1E0-E900-47FE-84A7-5AB1E526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2F5-7B8E-4FDB-B200-52E75459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C53-BFDE-4AD4-B676-AAB3E34E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0C1-496F-444F-81F1-17010777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ED8-91E2-44BE-83E2-0677E16F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290-4ACA-49E2-AAF2-AFC9304B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6561-8CC8-426F-A5C9-4E182ADB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BE6-5799-4E45-B8AE-29A205C3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ABE-D802-4790-985B-1CA50B0B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8E6-49F8-4FD7-B61F-F8DC291D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761B-3014-4403-AAD0-834D558B3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7 times table e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49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7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5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8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4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63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9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7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0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1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3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7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2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5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5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4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6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4:56:14Z</dcterms:created>
  <dc:creator>5C</dc:creator>
  <dc:description/>
  <dc:language>en-US</dc:language>
  <cp:lastModifiedBy>5C</cp:lastModifiedBy>
  <dcterms:modified xsi:type="dcterms:W3CDTF">2007-03-08T11:19:21Z</dcterms:modified>
  <cp:revision>4</cp:revision>
  <dc:subject/>
  <dc:title>Jeopardy</dc:title>
</cp:coreProperties>
</file>