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FCC-359E-4D3D-9EF8-3588A40E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C88-1000-4744-A5F0-3CC97D2E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965-FE72-461B-8A7C-A2DA55BD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57E-CE6C-438F-B94C-A3D95736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D83-04FE-4A7D-886F-2DA547DE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070-1649-4857-9F5E-1B311ADF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808-2761-4799-A7A6-EBB21A9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529-6829-4F3B-80F9-45849E22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CDC-D381-4D24-AE59-E95617E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334-8710-4689-A762-3A4106B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B24-D6CD-41A1-B2CD-41B0792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E77-8B2A-4647-882B-514C7F9B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F2F-E687-422C-8FF5-3BC1A8C6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1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7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9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2-01T15:06:10Z</dcterms:modified>
  <cp:revision>2</cp:revision>
  <dc:subject/>
  <dc:title>Jeopardy</dc:title>
</cp:coreProperties>
</file>