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CAC-5E2F-4CDA-A50D-21254EB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E5F-4A83-4A73-B9DF-5E40778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867-4B79-49F9-B0B3-3C1570CB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AC6-008A-4F5D-933A-6B34EBF1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3FF-1131-4946-9B6B-29132B2F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E84-65F8-4A22-8422-B83E30F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265-7B1A-4C8C-A41B-89D2173E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BF0-6FDA-4A7A-9EF2-B2A0BC18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C46-DD84-482E-8360-7D4522B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2EA-68B1-43F5-AF21-91D45F6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253-4AEB-4851-B7E3-2341792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A53-2E66-4F55-A060-E6175B9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EC7E-B21A-43A8-80F4-5DC6754F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times tab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5:06:37Z</dcterms:created>
  <dc:creator>5C</dc:creator>
  <dc:description/>
  <dc:language>en-US</dc:language>
  <cp:lastModifiedBy>5C</cp:lastModifiedBy>
  <dcterms:modified xsi:type="dcterms:W3CDTF">2007-02-01T15:12:18Z</dcterms:modified>
  <cp:revision>1</cp:revision>
  <dc:subject/>
  <dc:title>Jeopardy</dc:title>
</cp:coreProperties>
</file>