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2580-15C9-45F5-BFD0-7FA0E724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1F22-4DD8-461D-8136-9E6E4E77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5C8C-03FB-4460-8B1A-424CC23C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7125-C698-4CE2-8E65-EFA735BFF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896B-46F1-45C7-86B5-338BC368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D78E-F16A-4E53-B074-062D7999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DEF3-C352-4343-BFE5-9165EF2D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FE91-69F6-44FE-9B84-AB0E165F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3522-83A3-437D-A2ED-6D7B2631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B44D-8B40-4413-B767-72E57AE2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D976-E5A7-4048-A443-82E1C0A6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6732-B94F-4BC0-95B9-45BD705B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E3BD-F6B8-47F5-8BA2-FDF04C3A9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 times table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10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2 x 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25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5 x 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5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1 x 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40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8 x 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20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4 x 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15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3 x 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35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7 x 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45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9 x 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50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10 x 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30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6 x 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15:14:50Z</dcterms:created>
  <dc:creator>5C</dc:creator>
  <dc:description/>
  <dc:language>en-US</dc:language>
  <cp:lastModifiedBy>5C</cp:lastModifiedBy>
  <dcterms:modified xsi:type="dcterms:W3CDTF">2007-02-01T15:19:49Z</dcterms:modified>
  <cp:revision>2</cp:revision>
  <dc:subject/>
  <dc:title>Jeopardy</dc:title>
</cp:coreProperties>
</file>