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298-D30E-4362-8FA1-C394B133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516-62F0-432C-8077-32858FF5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8AE-C0C1-4807-A5B7-B826FDD5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37C-A745-4DCF-8E7E-39BEF01F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A87B-1294-4005-AD17-DD73E3A9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558F-8B99-43D1-91C1-0C30ED70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5DC-2C2A-4DD0-A42D-5131F40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DC6F-6E79-48E2-BBFB-2CCEC78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CEF-1F60-46A2-892C-6FD510F9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75E5-297A-4CA1-848D-B2B7D25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F076-D7F9-4529-B556-1F25612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B89-AF0E-4ED1-B99B-7422BE34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16C6-0BA6-4572-962E-D07643B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C48-37A0-4BC4-8A22-3205985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AA8-D0CE-4E26-A6C3-BC01C770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1D0F-22DF-47A0-8732-A8C35329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00BD-7A61-44C9-AA21-EB5A877C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8D5-A1A6-42E6-BA24-4F7A9609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7EF-FDE2-455D-9F4F-AC8D512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E85-D75E-4E1D-9B3C-090269B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45C-CBC6-4E51-8D52-52E8D830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ECB-BC7A-4295-8ECA-E4D9F8F2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C3F-1721-4CEE-B3DF-A85F13A4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884-8F3E-4562-B37A-5C6C5CC7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433B-40E4-4BA4-9DFA-B5C818AA3A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4839-6627-4829-9EFB-28F8B513D0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-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9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8-06-02T20:09:52Z</dcterms:modified>
  <cp:revision>4</cp:revision>
  <dc:subject/>
  <dc:title>Adding!</dc:title>
</cp:coreProperties>
</file>