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7FA-5486-4E01-A645-344A355D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7A1-B8A3-43FB-9287-37C8A2D5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638-63B4-4835-A77D-0691D830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06E-3CD9-4884-8EAD-892E43D7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CC13-7E09-4731-B9DC-5E35CECE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AADA-3C26-4F6A-8501-98103A6B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1125-89BC-477E-A7B9-0E6EF4BD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E880-4CEE-4F31-94C6-C28D9D27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EEE8-5D80-426D-96A1-E9380F98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F5D3-697C-4FB5-AB20-2FC76CBB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8A99-0E41-4C9F-A82D-7A460714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09B-1E11-47F5-82A7-7D45F298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3190-5B95-4EA6-8D4D-6820E104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0238-0FF0-49CC-82E9-953C11B6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828C-900E-49B7-9C67-E6931B6D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C1B5-9178-4BA1-AE6F-30D9F810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466C-65E4-40F9-8A16-8757C25A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8BD-A019-4393-904F-983C40D4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79F-C204-496A-B04D-3650D0ED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969D-24AD-42E0-9258-FB03C14A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2DC-B87A-4E02-8783-4DF3E809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AA0-6497-4D6E-B2FE-FE846F9D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E60-9438-412C-A183-436DA641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814-73D7-484B-B8C3-DE4FF5B7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CB53-0183-4F6E-AD52-351E348DCE7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0AB6-9DA7-4E4B-BC77-A6965A6DFCC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5230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Adding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4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5 + 1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2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600" spc="-1" strike="noStrike">
                <a:solidFill>
                  <a:srgbClr val="ffffff"/>
                </a:solidFill>
                <a:latin typeface="Arial Black"/>
              </a:rPr>
              <a:t>3 + 2 =</a:t>
            </a: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25:20Z</dcterms:created>
  <dc:creator>TEACHER</dc:creator>
  <dc:description/>
  <dc:language>en-US</dc:language>
  <cp:lastModifiedBy>TEACHER</cp:lastModifiedBy>
  <dcterms:modified xsi:type="dcterms:W3CDTF">2007-09-23T20:49:28Z</dcterms:modified>
  <cp:revision>3</cp:revision>
  <dc:subject/>
  <dc:title>Adding!</dc:title>
</cp:coreProperties>
</file>