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743-7E71-4B3C-A54E-3681DEE1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83B-84C3-4D3E-8421-F66945D3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003-98FF-4F9D-9265-453169C8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4ED-9532-4D74-B22A-D4A9D0F2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A49-BB42-4575-9F44-B28FADBB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739-11E2-4D11-9D03-E85BE7B4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09F-2E0E-40AF-A55D-79FA4BE6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08F-7CCE-4341-B792-24B47D1E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3DD-CD74-45D8-B494-1DE2EC74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189-F63A-4EEC-85A1-DAB903D8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D79-699B-4EAF-A1D5-0FB6FF87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883-B5E5-48C4-AF0A-F024EFCE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8D1F-120D-4BA8-B9B0-832E3CE57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7846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Adding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Taking Away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7 – 1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4 + 2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5 – 2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Arial"/>
              </a:rPr>
              <a:t>2 + 2=</a:t>
            </a: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0" spc="-1" strike="noStrike">
                <a:solidFill>
                  <a:srgbClr val="000000"/>
                </a:solidFill>
                <a:latin typeface="Arial"/>
              </a:rPr>
              <a:t>6 – 1 =</a:t>
            </a: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4 – 2 =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0:10:57Z</dcterms:created>
  <dc:creator>TEACHER</dc:creator>
  <dc:description/>
  <dc:language>en-US</dc:language>
  <cp:lastModifiedBy>TEACHER</cp:lastModifiedBy>
  <dcterms:modified xsi:type="dcterms:W3CDTF">2006-06-20T10:11:06Z</dcterms:modified>
  <cp:revision>1</cp:revision>
  <dc:subject/>
  <dc:title>Adding  and  Taking Away! </dc:title>
</cp:coreProperties>
</file>