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6C8C-B9C1-4BC9-893B-3FA68F10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6444-6365-45D8-8435-B18925EB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7F3E-5B1B-4027-B614-14D09FB5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130A-9084-438D-AC9C-79E5A1FE4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857D-EF9F-4DD7-B018-CFBAD7B04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4E83-06C4-46AD-BCD2-1348C559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A907-3754-400F-A679-0A00082E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2B5E-B23A-4031-B310-F7C2C197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4DFD-4A00-4F80-BDF8-1DE0E031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829D-7E72-4305-AB71-5D46B9C9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7B39-F6C1-4E64-8C9E-CDFD8826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0196-B495-4BF7-8C91-321A59DA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334E-D52A-47E3-B2C1-C6277972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3D51-7002-40A3-8B7E-954446D8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3037-AFCA-4C64-8D8B-2CADBBAF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874B-A44C-4CEA-B54D-CD5A015EE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F462-1DB1-4E3B-8219-D21CDAA3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CFDF-5BAB-4A42-A0BF-D942186E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1ED8-A608-46E7-81CB-841BD973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D287-7483-40A1-A653-C6981BD6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C58A-2A8C-4BF5-BC4B-3F6F5485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67C4-DE37-4FF0-85A9-A5087A1D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3E67-B531-441B-8600-6DFBD9DE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27B7-BA8E-422D-A269-05DBF941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0FEF-CCF8-4B25-81B5-5FAFAA9CEC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F048-D54D-439C-A58A-C6B749F0DB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78469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b7e7ff"/>
                </a:solidFill>
                <a:latin typeface="Arial"/>
              </a:rPr>
              <a:t>Taking Away!</a:t>
            </a:r>
            <a:r>
              <a:rPr b="0" lang="en-GB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Arial"/>
              </a:rPr>
              <a:t>7 – 1 = 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Arial"/>
              </a:rPr>
              <a:t>4 – 2 = 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Arial"/>
              </a:rPr>
              <a:t>5 – 2 = 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0" spc="-1" strike="noStrike">
                <a:solidFill>
                  <a:srgbClr val="ffffff"/>
                </a:solidFill>
                <a:latin typeface="Arial"/>
              </a:rPr>
              <a:t>10 – 2 =</a:t>
            </a:r>
            <a:r>
              <a:rPr b="0" lang="en-GB" sz="20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0" spc="-1" strike="noStrike">
                <a:solidFill>
                  <a:srgbClr val="ffffff"/>
                </a:solidFill>
                <a:latin typeface="Arial"/>
              </a:rPr>
              <a:t>11 – 1 =</a:t>
            </a:r>
            <a:r>
              <a:rPr b="0" lang="en-GB" sz="20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Arial"/>
              </a:rPr>
              <a:t>4 – 3 = 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9:48:19Z</dcterms:created>
  <dc:creator>TEACHER</dc:creator>
  <dc:description/>
  <dc:language>en-US</dc:language>
  <cp:lastModifiedBy>TEACHER</cp:lastModifiedBy>
  <dcterms:modified xsi:type="dcterms:W3CDTF">2006-04-11T09:57:00Z</dcterms:modified>
  <cp:revision>1</cp:revision>
  <dc:subject/>
  <dc:title>Taking Away! </dc:title>
</cp:coreProperties>
</file>