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4EF-F826-42E5-9BC8-21CAE2E6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CB2-59A3-4F10-B69B-88D0C01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26B-A098-41C5-A828-A9DE05D9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41C-AA46-4EF1-8DCA-C9FF43D2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3712-8F71-4AA8-AD87-A03E83DD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5EAE-EA37-4AF1-A732-8CEC327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4C79-0B22-4ECD-AF27-013B568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2ABE-FD23-4B18-86C6-BD287C3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3853-319B-4366-91AF-BDEA6523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C28C-8538-4310-998B-FF59940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81C2-9F38-4ACF-9CFE-8B67E19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F6D-ED43-4450-B720-ED57EEC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4B3-7A5A-4199-91A7-8DB6C3C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D16E-3E0F-4D20-93F2-F0BC181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B65B-4D9B-46E7-B056-F90B74B5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A9AB-7F24-4BDE-8165-0525C8AC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36A-F610-47CE-8FA7-055A444C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CEE-2A11-463C-8677-7D2D54D5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476-BBD2-4253-9F2D-9D0FF8DD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07C-B1F3-42DC-B296-9432195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20B-8487-4E47-92AD-306D4C9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161-92CC-47E6-B272-1570BA3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1F8-C4F0-4C23-AA40-F63BD33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772-3951-486A-BBA6-A4F1520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6BB-A132-45D0-9480-991041117F3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7F31-73EB-49C7-8BEA-F37B2F08643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Staff</cp:lastModifiedBy>
  <dcterms:modified xsi:type="dcterms:W3CDTF">2007-06-18T15:37:13Z</dcterms:modified>
  <cp:revision>4</cp:revision>
  <dc:subject/>
  <dc:title>Adding!</dc:title>
</cp:coreProperties>
</file>