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BDBD-103A-4F83-97A3-FEBDB984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7CE2-B02E-4DC8-875B-515B8E06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9F41-B1CE-47E6-B4DA-1FA293DD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530C-A97F-447D-AF05-9DE2113B1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3AEC-7867-422A-939C-C8AEB8C0F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B646-051B-4AA8-A9F7-67148663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AEC5-14B5-4DE2-8E3F-5943E17C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0A65-3FD4-4669-9594-3560FF34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AF8C-E22D-4DD9-8D13-CDD8D115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C278-1F2A-4A98-8A32-D4C22B8D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CF62-7376-4CDE-A0F9-F74ADA93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E837-D1A6-442E-90CE-5010A586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9C0D-D596-4253-9235-7C34900F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A5AE-F365-49BA-8621-07228683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8AAB-85D0-489A-AD85-1E1AAEC5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C684-53D7-4FC5-BA18-F6E8F4CD0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07A3-779A-4589-99A3-EC9EFF328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978D-7111-48D5-B55C-B0F5B56D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5A14-2B16-4389-9B3E-5FF704F0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5CA0-5A79-4EF2-80C5-23A052D6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F6A8-5466-41BF-968F-971CD590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A9EF-5D16-43C8-B986-46B1DC31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B60C-8EAA-4E91-988B-6C8C1F5D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8A37-3326-45DD-A5FA-9D80B635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B747-A67F-437E-A9E1-C68ED2B9DF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FA3C-B921-4ED9-A992-F4E088A152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258920" y="2565360"/>
            <a:ext cx="6767640" cy="201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Add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8360" y="1557360"/>
            <a:ext cx="784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ffff"/>
                </a:solidFill>
                <a:latin typeface="Arial"/>
              </a:rPr>
              <a:t>4 + 2 = 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68360" y="1557360"/>
            <a:ext cx="784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ffff"/>
                </a:solidFill>
                <a:latin typeface="Arial"/>
              </a:rPr>
              <a:t>5 + 2 = 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68360" y="1557360"/>
            <a:ext cx="784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15000" spc="-1" strike="noStrike">
                <a:solidFill>
                  <a:srgbClr val="00ffff"/>
                </a:solidFill>
                <a:latin typeface="Arial"/>
              </a:rPr>
              <a:t>4 + 3 = 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68360" y="1557360"/>
            <a:ext cx="784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ffff"/>
                </a:solidFill>
                <a:latin typeface="Arial"/>
              </a:rPr>
              <a:t>5 + 4 = 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68360" y="1557360"/>
            <a:ext cx="784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ffff"/>
                </a:solidFill>
                <a:latin typeface="Arial"/>
              </a:rPr>
              <a:t>5 + 5 = 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68360" y="1557360"/>
            <a:ext cx="784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ffff"/>
                </a:solidFill>
                <a:latin typeface="Arial"/>
              </a:rPr>
              <a:t>8 + 2 = 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18:38:40Z</dcterms:created>
  <dc:creator>TEACHER</dc:creator>
  <dc:description/>
  <dc:language>en-US</dc:language>
  <cp:lastModifiedBy>Staff</cp:lastModifiedBy>
  <dcterms:modified xsi:type="dcterms:W3CDTF">2006-05-16T09:58:38Z</dcterms:modified>
  <cp:revision>1</cp:revision>
  <dc:subject/>
  <dc:title>Slide 1</dc:title>
</cp:coreProperties>
</file>