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355-70F8-4A8C-9744-218A9C80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48B-A6CE-4754-AB36-E27D83A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BDC-4F30-4CFF-AC5D-81A8EA35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D42-1882-4B37-80B0-EE556632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EC21-BF6C-46D1-8221-CA8D82D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93FC-9CCB-4770-988E-BA87139A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803-472A-4550-9E6B-8131EED0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4E6F-17D2-493F-B66A-0D533A0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3285-4677-4094-9701-75CD2F0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AF9A-C1E3-4B1C-85C0-790CAD5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5EA8-E0B7-4A20-BC35-61A71E1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307-49A9-4A35-B0AA-53E7C4E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BFC2-888F-470A-84E0-727782D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C2D-5F67-48EA-ACC3-0D0D578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A05-77C2-4CA5-A990-6B35531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F2B-419C-498B-987E-2D9955CE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F14-7CCD-44BB-B851-5AD71C3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6C3-403A-4D8E-A736-D4C1E0D5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065-DB54-4430-BD72-35B3CEB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CFF-78EA-41DF-862C-15DBD78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B87-CD1A-4233-92C8-B57C4B4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2A3-2ED8-4FA4-9B5B-D9FF2E9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A20-824E-428E-9510-32D153F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50C-97EC-460C-842A-033E86A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ACB2-398D-4FF2-B966-24DFD804E9C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AAC-97CC-467C-B8FD-6F218C32193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6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8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3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6-03-21T10:29:01Z</dcterms:modified>
  <cp:revision>1</cp:revision>
  <dc:subject/>
  <dc:title>Adding!</dc:title>
</cp:coreProperties>
</file>