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C27-4F7F-4AC3-B29F-1C423681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4BF-BE0E-4680-8D93-DA6A3278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F07-0082-48BE-A3F8-240C5208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62A-C437-438A-99E5-3CF958A8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EA01-227A-4662-A727-61D92243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9483-10FB-409C-BACB-723407CB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3FD4-2895-42FF-8BA7-4199B67E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48DD-168F-476C-A53D-B85A027B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6E40-65FD-4A80-8198-A89C8994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8667-670D-4758-9BD5-A476BEE9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0918-C3AC-4FD2-984C-46A76883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973-D25B-4C77-B3B5-92A8153F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6046-DA65-4589-A2C4-33F9F2A9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F0CA-FF27-4C85-B08D-C440A53F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CFD3-1760-4E6F-9CF8-97A26144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8960-1BC9-4096-9C86-07D15ED5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81AC-0293-496C-A85E-1F029327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DFA-EEB0-4E7A-9E9E-3F2BF8DA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AD71-CF17-42D8-AB6A-665AFCB3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AEAB-7923-49E9-9A9C-46DD27EC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9A3-B56F-4B6A-9240-72832E5C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996-40FD-4ED3-922A-B5137FD7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4B2-64EF-421A-A7B2-04DB6798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3C4-A7D7-4848-BA53-8E3BC8CB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17EE-B82E-4F7E-8378-2716BB66FE5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1142-745B-4623-A3BE-2525E634E5B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Adding and taking away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7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5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7 -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TEACHER</cp:lastModifiedBy>
  <dcterms:modified xsi:type="dcterms:W3CDTF">2007-04-03T10:59:12Z</dcterms:modified>
  <cp:revision>2</cp:revision>
  <dc:subject/>
  <dc:title>Adding!</dc:title>
</cp:coreProperties>
</file>