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3BC-209E-4613-B233-729D282C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BDD-760C-49B3-9923-3052EAFC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E17-B7D4-4CBB-8C29-D12E60C4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139-E1A9-41A4-9C8C-17ECCA93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AEB-61F8-4320-94D5-6F6BA3CC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CB2-69B1-4514-84A4-D2A7EC96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1EB-740D-4830-B491-2F2CA5A3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5F8-46B3-46A9-BF24-0CD3D3C9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537-9139-4DEB-92E4-1654528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36D-AB6D-47B7-8DC7-9202E76E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9EE-EA5D-4F07-9052-E1D7EBB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C66-2A0B-4B58-BB68-ED6EEC33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3A3B-5CFB-4253-AB20-AC672988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5445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26 0.00208 -0.00521 0.00463 -0.00799 0.00624 C -0.00989 0.0074 -0.01233 0.00717 -0.01424 0.00856 C -0.01719 0.01087 -0.01944 0.01434 -0.02222 0.01688 C -0.02483 0.01919 -0.02743 0.0215 -0.03021 0.02335 C -0.03733 0.02821 -0.04549 0.03098 -0.05243 0.03584 C -0.05885 0.04046 -0.0651 0.04578 -0.07153 0.05064 C -0.07986 0.05711 -0.09826 0.06127 -0.10799 0.06335 C -0.14045 0.07769 -0.1901 0.06613 -0.21424 0.06543 C -0.23854 0.05919 -0.27135 0.05827 -0.29045 0.03376 C -0.29705 0.0252 -0.30156 0.0148 -0.30799 0.00624 C -0.31007 -0.00185 -0.31597 -0.01688 -0.31597 -0.01688 C -0.31944 -0.04092 -0.31771 -0.03121 -0.32066 -0.04647 C -0.31875 -0.07214 -0.31424 -0.09341 -0.29844 -0.10983 C -0.28507 -0.1237 -0.28819 -0.12324 -0.27621 -0.12902 C -0.27309 -0.13063 -0.26979 -0.13179 -0.26667 -0.13318 C -0.2651 -0.13387 -0.26198 -0.13526 -0.26198 -0.13526 C -0.2493 -0.13457 -0.23646 -0.1348 -0.22378 -0.13318 C -0.2184 -0.13248 -0.21337 -0.12832 -0.20799 -0.12694 C -0.19392 -0.123 -0.19358 -0.12416 -0.17465 -0.12254 C -0.13229 -0.10058 -0.10625 -0.11722 -0.04601 -0.11838 C -0.00104 -0.12092 0.04254 -0.12624 0.08733 -0.12902 C 0.10017 -0.1311 0.11146 -0.13526 0.12379 -0.13942 C 0.12761 -0.14058 0.13125 -0.14243 0.1349 -0.14381 C 0.13906 -0.14543 0.14757 -0.14798 0.14757 -0.14798 C 0.15399 -0.15653 0.16111 -0.16601 0.16667 -0.17549 C 0.175 -0.18959 0.17917 -0.21295 0.18733 -0.22821 C 0.19115 -0.2437 0.19375 -0.26011 0.19844 -0.27491 C 0.19792 -0.29387 0.19757 -0.31283 0.19688 -0.33179 C 0.19566 -0.36555 0.19184 -0.39514 0.1809 -0.42497 C 0.17761 -0.43399 0.17813 -0.44023 0.17136 -0.44601 C 0.16788 -0.45526 0.16511 -0.4615 0.15868 -0.46728 C 0.15347 -0.47769 0.14167 -0.48023 0.13333 -0.48624 C 0.1283 -0.48994 0.12448 -0.49665 0.1191 -0.49896 C 0.08611 -0.51329 0.08611 -0.50774 0.0349 -0.50936 C 0.0158 -0.50798 -0.00312 -0.50705 -0.02222 -0.5052 C -0.02587 -0.50497 -0.02969 -0.50428 -0.03333 -0.50312 C -0.03819 -0.5015 -0.04757 -0.49688 -0.04757 -0.49688 C -0.04913 -0.49549 -0.05069 -0.49364 -0.05243 -0.49248 C -0.05434 -0.49133 -0.05677 -0.49179 -0.05868 -0.4904 C -0.07535 -0.47792 -0.05364 -0.48855 -0.06823 -0.48208 C -0.07239 -0.46474 -0.0651 -0.43815 -0.0651 -0.4185 E">
                                      <p:cBhvr>
                                        <p:cTn id="72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27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892 0.0067 -0.03455 0.02242 -0.05399 0.02751 C -0.06736 0.03653 -0.08055 0.03607 -0.09531 0.03815 C -0.13924 0.03745 -0.18316 0.03745 -0.22708 0.03607 C -0.2349 0.03583 -0.2493 0.02543 -0.2493 0.02543 C -0.25208 0.01433 -0.25608 0.01757 -0.26198 0.01063 C -0.26528 0.0067 -0.27153 -0.00208 -0.27153 -0.00208 C -0.27413 -0.01226 -0.27691 -0.02197 -0.28264 -0.0296 C -0.28524 -0.06058 -0.28854 -0.09526 -0.27934 -0.12463 C -0.27292 -0.14521 -0.25972 -0.16925 -0.24444 -0.17966 C -0.2283 -0.19052 -0.20746 -0.19006 -0.19045 -0.19445 C -0.16476 -0.20116 -0.13906 -0.20393 -0.11267 -0.20486 C -0.0809 -0.20602 -0.0493 -0.20648 -0.01753 -0.20717 C 0.0033 -0.21272 -0.00677 -0.20902 0.01267 -0.21758 C 0.02622 -0.22359 0.02257 -0.22636 0.03802 -0.23029 C 0.07778 -0.24047 0.11372 -0.24509 0.13802 -0.29365 C 0.13993 -0.30636 0.14045 -0.30914 0.14913 -0.31492 C 0.15191 -0.32602 0.15747 -0.33526 0.16024 -0.34659 C 0.16233 -0.35492 0.16285 -0.3637 0.1651 -0.37203 C 0.16458 -0.38336 0.16528 -0.39469 0.16337 -0.40578 C 0.16163 -0.41573 0.15642 -0.41804 0.15226 -0.42474 C 0.15104 -0.42682 0.15052 -0.42937 0.14913 -0.43122 C 0.14479 -0.437 0.13854 -0.43815 0.13333 -0.44162 C 0.12674 -0.44602 0.12135 -0.4511 0.11424 -0.45434 C 0.1092 -0.45896 0.10434 -0.46289 0.09844 -0.46497 C 0.0941 -0.46659 0.08559 -0.46914 0.08559 -0.46914 C 0.02674 -0.46682 0.04566 -0.4726 0.01267 -0.45642 C 0.01111 -0.45434 0.0092 -0.45249 0.00781 -0.45018 C 0.00504 -0.44555 0 -0.43538 0 -0.43538 C 0.00052 -0.42613 0.00052 -0.41688 0.00156 -0.40786 C 0.00469 -0.38058 0.01736 -0.35792 0.02847 -0.33596 C 0.02986 -0.33341 0.03021 -0.32995 0.03177 -0.32763 C 0.03507 -0.32232 0.03976 -0.31839 0.04288 -0.31284 C 0.04445 -0.31006 0.04514 -0.3059 0.04757 -0.30428 C 0.05191 -0.30128 0.05712 -0.30151 0.06181 -0.30012 C 0.0776 -0.27908 0.09931 -0.29156 0.12066 -0.29365 C 0.13038 -0.2985 0.13906 -0.30729 0.14757 -0.31492 C 0.15191 -0.3237 0.15712 -0.32971 0.16337 -0.33596 C 0.16719 -0.3459 0.1717 -0.35353 0.17778 -0.36139 C 0.18073 -0.37341 0.1783 -0.36578 0.18733 -0.38243 C 0.18976 -0.38682 0.19028 -0.39237 0.19201 -0.39723 C 0.1974 -0.41226 0.20295 -0.4296 0.20955 -0.44393 C 0.21215 -0.45781 0.21302 -0.47284 0.21736 -0.48602 C 0.21823 -0.48833 0.21979 -0.49018 0.22066 -0.49249 C 0.22188 -0.49596 0.22274 -0.49966 0.22379 -0.50313 C 0.22656 -0.54012 0.22604 -0.52139 0.22222 -0.57711 C 0.22205 -0.58012 0.22066 -0.59561 0.21892 -0.60023 C 0.21389 -0.61365 0.21076 -0.61156 0.20469 -0.62151 C 0.19288 -0.64093 0.17726 -0.65549 0.15868 -0.65943 C 0.15174 -0.66382 0.14844 -0.66844 0.14115 -0.67214 C 0.11146 -0.67099 0.08941 -0.66867 0.06181 -0.66359 C 0.06007 -0.65665 0.05729 -0.65156 0.05556 -0.64463 C 0.05469 -0.62729 0.05972 -0.61087 0.04601 -0.61087 E">
                                      <p:cBhvr>
                                        <p:cTn id="80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27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833 0.00717 -0.01684 0.01202 -0.02552 0.01896 C -0.03385 0.02566 -0.03681 0.02913 -0.04601 0.03168 C -0.06024 0.04439 -0.07691 0.05272 -0.09375 0.05711 C -0.29531 0.05156 -0.27899 0.08393 -0.38889 0.02543 C -0.39375 0.01896 -0.39844 0.01272 -0.4033 0.00624 C -0.40486 0.00416 -0.40799 0 -0.40799 0 C -0.41146 -0.01179 -0.41632 -0.02243 -0.42066 -0.03376 C -0.42292 -0.05457 -0.42465 -0.08139 -0.41267 -0.09734 C -0.41007 -0.10752 -0.40504 -0.11445 -0.4 -0.12254 C -0.39722 -0.13179 -0.39861 -0.13364 -0.39219 -0.13734 C -0.38906 -0.13919 -0.38264 -0.14174 -0.38264 -0.14174 C -0.37656 -0.14937 -0.37188 -0.15029 -0.36354 -0.15214 C -0.32882 -0.16925 -0.25191 -0.16023 -0.23333 -0.16069 C -0.22118 -0.16301 -0.20868 -0.16231 -0.19688 -0.16694 C -0.19097 -0.16925 -0.18646 -0.17434 -0.18108 -0.17757 C -0.1724 -0.18289 -0.16285 -0.18728 -0.15399 -0.19237 C -0.14115 -0.19977 -0.12743 -0.20231 -0.11441 -0.20925 C -0.10938 -0.21595 -0.10295 -0.21734 -0.09688 -0.22197 C -0.08854 -0.22821 -0.07674 -0.23445 -0.06997 -0.24324 C -0.06372 -0.25133 -0.06701 -0.24786 -0.06042 -0.25364 C -0.05139 -0.27122 -0.06319 -0.24994 -0.05243 -0.26428 C -0.03924 -0.28185 -0.05191 -0.2696 -0.04132 -0.27908 C -0.03594 -0.29411 -0.02969 -0.3022 -0.02552 -0.31931 C -0.02483 -0.32208 -0.02448 -0.32486 -0.02379 -0.32763 C -0.02274 -0.33179 -0.02066 -0.34035 -0.02066 -0.34035 C -0.02153 -0.37942 -0.01944 -0.43861 -0.03976 -0.47353 C -0.04549 -0.49734 -0.06181 -0.53064 -0.08108 -0.53688 C -0.08646 -0.55168 -0.09722 -0.55538 -0.10799 -0.56231 C -0.12465 -0.57318 -0.10382 -0.56601 -0.12222 -0.57087 C -0.14201 -0.58382 -0.17361 -0.57989 -0.19531 -0.58127 C -0.21007 -0.58058 -0.225 -0.58081 -0.23976 -0.57919 C -0.25434 -0.57757 -0.2776 -0.55746 -0.28576 -0.54127 C -0.28958 -0.52601 -0.29167 -0.52254 -0.28733 -0.50312 C -0.28681 -0.50104 -0.2842 -0.50127 -0.28264 -0.50104 C -0.27778 -0.50058 -0.27309 -0.50104 -0.26823 -0.50104 E">
                                      <p:cBhvr>
                                        <p:cTn id="88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0 0 C 0.00625 0.02523 0.0066 0.05301 0.01563 0.07709 C 0.01771 0.09306 0.02049 0.0926 0.02656 0.10625 C 0.02708 0.10903 0.02708 0.11204 0.02813 0.11459 C 0.03073 0.12061 0.0375 0.13125 0.0375 0.13125 C 0.04045 0.14329 0.04913 0.14676 0.05625 0.15417 C 0.06528 0.16343 0.07135 0.17315 0.08281 0.17709 C 0.09792 0.19723 0.11806 0.20949 0.1375 0.22084 C 0.15017 0.22824 0.16146 0.23936 0.17344 0.24792 C 0.1809 0.25324 0.1875 0.25417 0.19531 0.25834 C 0.20955 0.26621 0.20017 0.26412 0.21719 0.27084 C 0.24931 0.28334 0.2842 0.2838 0.31719 0.28542 C 0.34792 0.28403 0.37847 0.2838 0.4092 0.28125 C 0.41354 0.28079 0.42569 0.2544 0.42813 0.25 C 0.44722 0.21297 0.46198 0.16713 0.46875 0.12292 C 0.4684 0.11412 0.47205 0.05371 0.46233 0.03334 C 0.46111 0.03079 0.45903 0.02963 0.45781 0.02709 C 0.45104 0.01343 0.45156 0.00973 0.43889 0.00625 C 0.43698 0.00486 0.43455 0.00371 0.43281 0.00209 C 0.42986 -0.00046 0.42778 -0.00393 0.42483 -0.00625 C 0.40972 -0.01805 0.39323 -0.02662 0.37639 -0.03333 C 0.36111 -0.04814 0.35139 -0.04745 0.33281 -0.05 C 0.32396 -0.0493 0.3151 -0.04977 0.30625 -0.04791 C 0.30434 -0.04745 0.3033 -0.0449 0.30156 -0.04375 C 0.29531 -0.03935 0.28906 -0.03541 0.28281 -0.03125 C 0.26163 -0.01713 0.24201 -0.00602 0.225 0.01667 C 0.21892 0.02477 0.21632 0.02338 0.2125 0.03334 C 0.18177 0.11505 0.16337 0.20278 0.15938 0.29375 C 0.1599 0.30278 0.15955 0.31204 0.16094 0.32084 C 0.16424 0.34236 0.16441 0.32871 0.16875 0.34167 C 0.17639 0.36459 0.18281 0.38473 0.1967 0.40209 C 0.20799 0.41598 0.22274 0.42199 0.23594 0.43125 C 0.25347 0.44375 0.23628 0.4382 0.25938 0.44167 C 0.28438 0.43889 0.30955 0.43797 0.33438 0.43334 C 0.3658 0.42732 0.36354 0.42223 0.40156 0.40834 C 0.42865 0.39838 0.45816 0.38611 0.48264 0.36667 C 0.48733 0.3632 0.49063 0.35764 0.49531 0.35417 C 0.49913 0.35116 0.50365 0.3507 0.50764 0.34792 C 0.53212 0.33079 0.55313 0.30811 0.57344 0.28334 C 0.57917 0.27616 0.58889 0.2669 0.59375 0.25834 C 0.61493 0.22153 0.63142 0.18311 0.64688 0.14167 C 0.66128 0.10348 0.67031 0.07639 0.675 0.03334 C 0.67483 0.01065 0.68194 -0.09861 0.66719 -0.14791 C 0.66424 -0.1574 0.65938 -0.16759 0.65625 -0.17708 C 0.65243 -0.18865 0.64896 -0.20139 0.64219 -0.21041 C 0.63924 -0.22037 0.6283 -0.24814 0.62188 -0.25416 C 0.62014 -0.25578 0.61771 -0.25555 0.61563 -0.25625 C 0.60694 -0.27361 0.57691 -0.29583 0.56094 -0.3 C 0.53194 -0.29814 0.50451 -0.29467 0.47639 -0.28541 C 0.47118 -0.28009 0.46632 -0.27384 0.46076 -0.26875 C 0.45816 -0.26111 0.45226 -0.24814 0.45781 -0.23958 C 0.4599 -0.23634 0.46406 -0.23819 0.46701 -0.2375 C 0.46875 -0.23055 0.46701 -0.23125 0.47031 -0.23125 E">
                                      <p:cBhvr>
                                        <p:cTn id="89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146 0.00485 -0.01945 0.0141 -0.03004 0.02104 C -0.04063 0.02798 -0.05347 0.03376 -0.06511 0.03584 C -0.07483 0.04092 -0.0849 0.04509 -0.09514 0.04855 C -0.13056 0.0474 -0.17014 0.05202 -0.20625 0.04231 C -0.21285 0.03353 -0.22118 0.03052 -0.23004 0.02751 C -0.24236 0.01919 -0.25139 0.00647 -0.26511 0.00208 C -0.27083 -0.00578 -0.27205 -0.01619 -0.27778 -0.02335 C -0.27708 -0.04185 -0.28073 -0.06197 -0.27448 -0.07838 C -0.26979 -0.09087 -0.26077 -0.09734 -0.25226 -0.10358 C -0.24115 -0.11168 -0.23438 -0.11838 -0.22222 -0.12278 C -0.2125 -0.1311 -0.22222 -0.12416 -0.20469 -0.12902 C -0.20139 -0.12994 -0.19844 -0.13202 -0.19514 -0.13318 C -0.19254 -0.1341 -0.18993 -0.13457 -0.18733 -0.13526 C -0.17465 -0.13457 -0.16181 -0.13434 -0.14913 -0.13318 C -0.12969 -0.13133 -0.11163 -0.11769 -0.09202 -0.1163 C -0.07396 -0.11515 -0.05608 -0.11491 -0.03802 -0.11422 C 0.04792 -0.11515 0.12743 -0.11306 0.21111 -0.12046 C 0.22118 -0.12509 0.23073 -0.12879 0.24132 -0.1311 C 0.24826 -0.1341 0.2533 -0.14081 0.26042 -0.14382 C 0.27257 -0.15468 0.28542 -0.16254 0.29844 -0.17133 C 0.3059 -0.17642 0.31163 -0.18335 0.3191 -0.18821 C 0.32309 -0.19607 0.32812 -0.19908 0.33333 -0.20509 C 0.33871 -0.21133 0.34392 -0.2178 0.3493 -0.22428 C 0.35434 -0.23006 0.35642 -0.2363 0.36198 -0.24116 C 0.37066 -0.2585 0.35885 -0.23676 0.36996 -0.25156 C 0.37413 -0.25711 0.37673 -0.26497 0.38107 -0.27075 C 0.38333 -0.27977 0.38611 -0.28624 0.39045 -0.29387 C 0.39548 -0.32439 0.38802 -0.28578 0.39687 -0.31283 C 0.39965 -0.32116 0.40173 -0.33873 0.4033 -0.34682 C 0.40607 -0.38382 0.4059 -0.36879 0.40156 -0.42497 C 0.40087 -0.43468 0.39479 -0.44116 0.39045 -0.44832 C 0.38177 -0.46266 0.39201 -0.44671 0.38576 -0.46081 C 0.38333 -0.46636 0.3783 -0.4696 0.37465 -0.47353 C 0.36632 -0.48254 0.35833 -0.49225 0.34774 -0.49688 C 0.34305 -0.50289 0.33976 -0.5052 0.33333 -0.50751 C 0.32083 -0.51861 0.29514 -0.52185 0.27934 -0.52439 C 0.25208 -0.52301 0.22552 -0.52185 0.19844 -0.51792 C 0.1901 -0.51422 0.18142 -0.5133 0.17309 -0.5096 C 0.16649 -0.50358 0.15851 -0.49827 0.15087 -0.4948 C 0.14653 -0.48856 0.14167 -0.48809 0.13663 -0.48208 C 0.13333 -0.47815 0.13021 -0.47353 0.12708 -0.46936 C 0.12604 -0.46798 0.12378 -0.4652 0.12378 -0.4652 C 0.12326 -0.46312 0.12222 -0.46104 0.12222 -0.45873 C 0.12222 -0.45619 0.12274 -0.42705 0.13021 -0.42705 E">
                                      <p:cBhvr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607 0.00763 -0.00243 0.00254 -0.00954 0.01688 C -0.01493 0.02774 -0.02274 0.0363 -0.02864 0.04647 C -0.03055 0.04971 -0.03125 0.0541 -0.03333 0.05711 C -0.03454 0.05896 -0.0368 0.05965 -0.03819 0.06127 C -0.04704 0.07144 -0.05416 0.08162 -0.06354 0.09087 C -0.07552 0.10243 -0.0875 0.11653 -0.10173 0.12254 C -0.12013 0.13919 -0.14045 0.15168 -0.16041 0.16485 C -0.18194 0.17919 -0.20138 0.19676 -0.22552 0.203 C -0.25381 0.2215 -0.27569 0.2326 -0.30798 0.23676 C -0.36388 0.25503 -0.42239 0.25595 -0.47951 0.2578 C -0.575 0.25457 -0.51979 0.26405 -0.55243 0.24948 C -0.55833 0.24162 -0.56388 0.23514 -0.5684 0.22613 C -0.5743 0.21433 -0.57829 0.20023 -0.58576 0.19029 C -0.58958 0.17965 -0.59201 0.16855 -0.59687 0.15861 C -0.59739 0.15306 -0.59704 0.14705 -0.59843 0.14173 C -0.5993 0.13826 -0.60312 0.13665 -0.60329 0.13318 C -0.60381 0.11838 -0.6019 0.10335 -0.6 0.08879 C -0.59826 0.07468 -0.5927 0.05757 -0.58888 0.04439 C -0.57829 0.0074 -0.56388 -0.03815 -0.53177 -0.04856 C -0.52482 -0.05827 -0.50347 -0.06405 -0.49375 -0.06543 C -0.4842 -0.06983 -0.47673 -0.07214 -0.46666 -0.07399 C -0.38871 -0.07283 -0.34114 -0.07584 -0.27465 -0.06127 C -0.2368 -0.06243 -0.2085 -0.0652 -0.17309 -0.06983 C -0.16666 -0.0726 -0.16059 -0.07607 -0.15399 -0.07815 C -0.1401 -0.08763 -0.12465 -0.09202 -0.10954 -0.09734 C -0.09201 -0.10335 -0.07534 -0.11283 -0.05729 -0.1163 C -0.0467 -0.12532 -0.05937 -0.11584 -0.04131 -0.12254 C -0.03906 -0.12347 -0.03732 -0.12601 -0.03506 -0.12694 C -0.02638 -0.13087 -0.01701 -0.13364 -0.00798 -0.13526 C -0.00086 -0.1385 0.004 -0.14081 0.00938 -0.14798 C 0.02396 -0.20069 0.0106 -0.24116 -0.02065 -0.26844 C -0.0276 -0.27445 -0.03159 -0.2837 -0.03975 -0.2874 C -0.04878 -0.29989 -0.03628 -0.2837 -0.04774 -0.29387 C -0.04965 -0.29549 -0.05052 -0.2985 -0.05243 -0.30012 C -0.0552 -0.30266 -0.05902 -0.30243 -0.06197 -0.30451 C -0.08784 -0.32231 -0.10451 -0.31376 -0.14131 -0.31491 C -0.18958 -0.31237 -0.16684 -0.3163 -0.18888 -0.30659 C -0.19548 -0.2978 -0.19704 -0.30035 -0.20486 -0.29595 C -0.2118 -0.29202 -0.21857 -0.28717 -0.22552 -0.28324 C -0.23368 -0.27861 -0.24253 -0.27676 -0.25086 -0.2726 C -0.2526 -0.26567 -0.25243 -0.26844 -0.25243 -0.26428 E">
                                      <p:cBhvr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33 0.01064 0.0184 0.0185 0.02865 0.02543 C 0.05503 0.04324 0.03021 0.03306 0.04931 0.04439 C 0.0559 0.04832 0.06319 0.04948 0.06996 0.05295 C 0.13559 0.05202 0.20104 0.05202 0.26667 0.05041 C 0.28316 0.05017 0.30226 0.04208 0.3191 0.04023 C 0.32882 0.03584 0.33767 0.03006 0.34774 0.02751 C 0.36267 0.01757 0.37604 0.00486 0.39219 -0.00208 C 0.40052 -0.00948 0.40972 -0.01202 0.41753 -0.02104 C 0.42483 -0.02959 0.43003 -0.03954 0.43819 -0.04647 C 0.44167 -0.06058 0.43681 -0.04485 0.44601 -0.05919 C 0.44757 -0.06173 0.44826 -0.06497 0.44931 -0.06775 C 0.45208 -0.0867 0.45625 -0.10543 0.45885 -0.12462 C 0.45833 -0.13942 0.45816 -0.15422 0.45712 -0.16902 C 0.4566 -0.17618 0.44931 -0.18821 0.44931 -0.18821 C 0.44444 -0.2141 0.41267 -0.21133 0.39687 -0.21341 C 0.3559 -0.21919 0.30278 -0.21711 0.26823 -0.2178 C 0.2651 -0.21827 0.2526 -0.21919 0.24774 -0.22196 C 0.24184 -0.2252 0.23646 -0.22983 0.23021 -0.2326 C 0.22448 -0.23815 0.21944 -0.24208 0.21267 -0.24532 C 0.20642 -0.25156 0.20417 -0.2548 0.20156 -0.26428 C 0.20677 -0.28902 0.22621 -0.29202 0.24132 -0.3022 C 0.2599 -0.31468 0.28264 -0.31329 0.3033 -0.31491 C 0.33594 -0.31746 0.36788 -0.32116 0.4 -0.32971 C 0.40625 -0.33526 0.40451 -0.33433 0.41267 -0.33827 C 0.41736 -0.34058 0.42708 -0.34451 0.42708 -0.34451 C 0.42865 -0.3459 0.43003 -0.34775 0.43177 -0.3489 C 0.43437 -0.35052 0.43733 -0.35098 0.43976 -0.35306 C 0.44219 -0.35514 0.44358 -0.35907 0.44601 -0.36162 C 0.44792 -0.36324 0.45035 -0.36439 0.45243 -0.36578 C 0.45694 -0.3748 0.46424 -0.38104 0.46996 -0.3889 C 0.47552 -0.3963 0.47778 -0.4037 0.4842 -0.41017 C 0.48715 -0.42012 0.48976 -0.43191 0.49531 -0.43977 C 0.49479 -0.46012 0.49462 -0.48069 0.49375 -0.50104 C 0.4934 -0.50844 0.48785 -0.51561 0.48576 -0.52208 C 0.48073 -0.53803 0.47465 -0.55676 0.46354 -0.56647 C 0.45799 -0.57757 0.45573 -0.58358 0.44601 -0.58775 C 0.42413 -0.60948 0.45156 -0.58358 0.4349 -0.59607 C 0.4316 -0.59861 0.42865 -0.60185 0.42552 -0.60462 C 0.4191 -0.6104 0.40156 -0.6104 0.39687 -0.61087 C 0.32222 -0.6067 0.34687 -0.61688 0.3191 -0.60462 C 0.31806 -0.60254 0.31753 -0.59954 0.31597 -0.59815 C 0.31319 -0.59584 0.30642 -0.59399 0.30642 -0.59399 C 0.30538 -0.58983 0.30451 -0.58543 0.3033 -0.58127 C 0.30278 -0.57919 0.30208 -0.57711 0.30156 -0.57503 C 0.30104 -0.57295 0.3 -0.56855 0.3 -0.56855 E">
                                      <p:cBhvr>
                                        <p:cTn id="24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128 -0.00509 -0.02639 0.00185 -0.03802 0.00231 C -0.06284 0.00346 -0.08784 0.0037 -0.11267 0.00439 C -0.121 0.00809 -0.13229 0.01364 -0.13958 0.02127 C -0.14462 0.02659 -0.14774 0.03422 -0.15243 0.04023 C -0.15468 0.04948 -0.1592 0.05664 -0.1618 0.06566 C -0.16614 0.08069 -0.16823 0.08878 -0.17135 0.1015 C -0.17187 0.10797 -0.17309 0.11422 -0.17291 0.12069 C -0.17257 0.13479 -0.17205 0.1489 -0.16979 0.16277 C -0.16788 0.17526 -0.15694 0.19745 -0.14913 0.20508 C -0.14739 0.2067 -0.14496 0.20647 -0.14288 0.20716 C -0.13298 0.21595 -0.12361 0.22034 -0.11267 0.22635 C -0.10468 0.23699 -0.09236 0.24023 -0.08246 0.2474 C -0.06163 0.26219 -0.05659 0.26774 -0.03333 0.27075 C -0.02205 0.27491 -0.01093 0.27815 0 0.28346 C 0.05747 0.28185 0.11407 0.27745 0.17153 0.27491 C 0.18924 0.27029 0.20747 0.27098 0.22535 0.26867 C 0.23854 0.25965 0.22466 0.2682 0.23976 0.26219 C 0.24705 0.25942 0.25278 0.25156 0.26042 0.24948 C 0.27761 0.24485 0.29601 0.23491 0.31268 0.22635 C 0.32292 0.22104 0.33073 0.21086 0.34132 0.20716 C 0.34913 0.20023 0.35504 0.19167 0.36354 0.18612 C 0.36962 0.17803 0.37604 0.17387 0.38264 0.16716 C 0.38907 0.16069 0.39514 0.1526 0.40157 0.14589 C 0.40677 0.14057 0.41563 0.13364 0.42066 0.12693 C 0.42205 0.12508 0.42222 0.12208 0.42379 0.12069 C 0.42865 0.11607 0.4349 0.11468 0.43976 0.11005 C 0.46545 0.08601 0.43316 0.11537 0.45243 0.09318 C 0.46962 0.07329 0.45122 0.10104 0.46823 0.07838 C 0.47014 0.07583 0.47118 0.07214 0.47309 0.06982 C 0.47761 0.06451 0.48368 0.0615 0.48733 0.05503 C 0.49028 0.04971 0.4941 0.04555 0.49688 0.04023 C 0.50382 0.02751 0.50938 0.00901 0.51268 -0.00625 C 0.51771 -0.0296 0.5099 0.00231 0.51754 -0.02521 C 0.51875 -0.02937 0.52066 -0.03792 0.52066 -0.03792 C 0.52309 -0.06081 0.52448 -0.06752 0.52066 -0.09711 C 0.52014 -0.10151 0.51511 -0.10243 0.51268 -0.10567 C 0.51216 -0.10983 0.51181 -0.11422 0.51111 -0.11839 C 0.51025 -0.12255 0.50868 -0.12648 0.50799 -0.13087 C 0.50434 -0.15399 0.50972 -0.14174 0.50313 -0.15422 C 0.50035 -0.16555 0.49028 -0.19862 0.4842 -0.20717 C 0.48125 -0.2185 0.47952 -0.22775 0.47309 -0.23677 C 0.4717 -0.24208 0.46788 -0.25734 0.46511 -0.26197 C 0.46389 -0.26405 0.46181 -0.26474 0.46042 -0.26636 C 0.44757 -0.2807 0.4342 -0.29457 0.41754 -0.30012 C 0.40782 -0.31237 0.39427 -0.31145 0.38264 -0.31908 C 0.35191 -0.31839 0.32118 -0.31815 0.29045 -0.317 C 0.27518 -0.3163 0.27657 -0.3126 0.26511 -0.30636 C 0.26198 -0.30474 0.25556 -0.3022 0.25556 -0.3022 C 0.2507 -0.29804 0.24584 -0.29596 0.24132 -0.29156 C 0.23438 -0.27746 0.2375 -0.26058 0.24132 -0.24509 C 0.23959 -0.22821 0.23976 -0.22521 0.23976 -0.23677 E">
                                      <p:cBhvr>
                                        <p:cTn id="3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99 0.02104 0.01909 0.04369 0.03489 0.05063 C 0.0401 0.05757 0.04756 0.06011 0.05399 0.06543 C 0.0651 0.07468 0.07482 0.08323 0.08732 0.08878 C 0.09756 0.10173 0.10989 0.10543 0.12222 0.11421 C 0.12986 0.11976 0.13871 0.12254 0.146 0.12901 C 0.15781 0.13942 0.15173 0.13641 0.16354 0.13942 C 0.17552 0.14612 0.16753 0.14265 0.18107 0.14589 C 0.18611 0.14728 0.19687 0.15005 0.19687 0.15005 C 0.20399 0.15653 0.21041 0.15676 0.21892 0.15861 C 0.23368 0.17017 0.24548 0.17109 0.26354 0.17549 C 0.26614 0.17757 0.26857 0.1808 0.27152 0.18173 C 0.2809 0.1845 0.3 0.18589 0.3 0.18589 C 0.35173 0.20971 0.45815 0.19052 0.47777 0.19028 C 0.49375 0.18728 0.51093 0.1845 0.52708 0.17965 C 0.54288 0.17479 0.55937 0.16647 0.57465 0.15861 C 0.57899 0.1563 0.58402 0.15583 0.58888 0.15421 C 0.59791 0.15098 0.60677 0.14682 0.61597 0.14381 C 0.62621 0.1341 0.64097 0.12994 0.65243 0.12254 C 0.65972 0.11768 0.6651 0.11028 0.67152 0.10358 C 0.67847 0.09641 0.68524 0.08947 0.69218 0.08231 C 0.69513 0.0793 0.70156 0.07398 0.70156 0.07398 C 0.7092 0.0541 0.69947 0.07514 0.71111 0.06127 C 0.71458 0.05687 0.71736 0.05109 0.72065 0.04647 C 0.74062 0.01849 0.7302 0.03352 0.746 0.01479 C 0.75434 0.00485 0.76024 -0.00833 0.76822 -0.01896 C 0.76996 -0.02451 0.77065 -0.03099 0.77309 -0.03607 C 0.77586 -0.04209 0.78263 -0.05295 0.78263 -0.05295 C 0.78628 -0.07053 0.79149 -0.08532 0.79687 -0.10151 C 0.79982 -0.11099 0.8019 -0.12162 0.80486 -0.1311 C 0.80312 -0.14428 0.80225 -0.14128 0.80486 -0.15214 C 0.80677 -0.1607 0.81111 -0.17758 0.81111 -0.17758 C 0.81458 -0.23561 0.82534 -0.30081 0.79982 -0.35099 C 0.79826 -0.36 0.79548 -0.36972 0.79045 -0.37642 C 0.78767 -0.38729 0.78993 -0.38151 0.78107 -0.3933 C 0.77934 -0.39538 0.77621 -0.39954 0.77621 -0.39954 C 0.77187 -0.41758 0.76996 -0.4111 0.76197 -0.42706 C 0.74982 -0.45087 0.73159 -0.4659 0.7144 -0.48209 C 0.71215 -0.48417 0.70902 -0.48324 0.70642 -0.48417 C 0.7 -0.48625 0.69392 -0.48879 0.68732 -0.49041 C 0.6552 -0.48902 0.62552 -0.48463 0.59375 -0.48209 C 0.58715 -0.47931 0.58333 -0.477 0.5776 -0.47145 C 0.57586 -0.46798 0.57413 -0.46336 0.57152 -0.46081 C 0.5684 -0.45781 0.5618 -0.45249 0.5618 -0.45249 C 0.5585 -0.44555 0.55746 -0.43908 0.55538 -0.43122 C 0.55607 -0.42844 0.55625 -0.42567 0.55694 -0.4229 C 0.55815 -0.4185 0.56024 -0.41018 0.56024 -0.41018 C 0.56666 -0.41087 0.57916 -0.41226 0.57916 -0.41226 E">
                                      <p:cBhvr>
                                        <p:cTn id="40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7361 -0.003 -0.14705 -0.003 -0.22066 0.00209 C -0.23767 0.00532 -0.22813 0.00324 -0.24913 0.00856 C -0.25799 0.01087 -0.26597 0.01827 -0.27465 0.02128 C -0.2875 0.03168 -0.30174 0.03746 -0.3158 0.0444 C -0.32049 0.04671 -0.32413 0.05203 -0.32865 0.05503 C -0.34011 0.06266 -0.35174 0.06937 -0.36354 0.07607 C -0.36667 0.07792 -0.37309 0.08047 -0.37309 0.08047 C -0.39288 0.10683 -0.36129 0.06613 -0.3842 0.09087 C -0.3882 0.09526 -0.39167 0.10081 -0.39531 0.10567 C -0.40261 0.11538 -0.40504 0.12948 -0.40955 0.14174 C -0.41649 0.16024 -0.42049 0.1792 -0.42535 0.19885 C -0.42361 0.21804 -0.42257 0.23746 -0.41754 0.25573 C -0.41632 0.26012 -0.41424 0.26405 -0.41267 0.26844 C -0.41146 0.27191 -0.41059 0.27538 -0.40955 0.27908 C -0.40851 0.28278 -0.40504 0.2985 -0.40313 0.30243 C -0.40156 0.30567 -0.39861 0.30775 -0.39688 0.31076 C -0.39323 0.317 -0.39184 0.32879 -0.38733 0.33411 C -0.3691 0.35584 -0.34427 0.36486 -0.32222 0.37642 C -0.31372 0.38105 -0.3059 0.38914 -0.29688 0.39122 C -0.2717 0.39723 -0.24757 0.40324 -0.22222 0.40602 C -0.13924 0.42567 -0.05382 0.41966 0.03021 0.42289 C 0.05764 0.42752 0.08177 0.42128 0.10799 0.41226 C 0.1191 0.40833 0.12726 0.40787 0.13802 0.40162 C 0.1441 0.39815 0.14948 0.39261 0.15555 0.38891 C 0.16858 0.38081 0.18264 0.37503 0.19531 0.36578 C 0.20503 0.35885 0.21267 0.35261 0.22378 0.34891 C 0.23316 0.34128 0.24305 0.3355 0.25243 0.32763 C 0.25729 0.3237 0.26667 0.31492 0.26667 0.31492 C 0.275 0.29873 0.28194 0.28047 0.28733 0.2622 C 0.29219 0.24578 0.2934 0.23492 0.30156 0.21989 C 0.3033 0.20856 0.30226 0.21018 0.30642 0.20093 C 0.30833 0.19654 0.31267 0.18821 0.31267 0.18821 C 0.31424 0.17943 0.31753 0.17064 0.32066 0.16278 C 0.32361 0.15561 0.33021 0.14174 0.33021 0.14174 C 0.33125 0.13619 0.33194 0.13041 0.33333 0.12486 C 0.33403 0.12255 0.33594 0.12093 0.33646 0.11839 C 0.34062 0.10128 0.34323 0.08301 0.34757 0.06567 C 0.35278 0.02313 0.35278 -0.01872 0.33802 -0.05711 C 0.3375 -0.05988 0.33733 -0.06289 0.33646 -0.06543 C 0.33576 -0.06774 0.33403 -0.06959 0.33333 -0.0719 C 0.33038 -0.08254 0.33055 -0.08739 0.32535 -0.09711 C 0.3217 -0.11237 0.32396 -0.10612 0.3191 -0.1163 C 0.31719 -0.12924 0.31614 -0.12739 0.31111 -0.13734 C 0.30746 -0.15722 0.31267 -0.13526 0.30469 -0.15213 C 0.29948 -0.16323 0.30382 -0.16763 0.29531 -0.17549 C 0.28941 -0.19699 0.27222 -0.22242 0.25712 -0.2326 C 0.25139 -0.23653 0.24792 -0.24578 0.24132 -0.24739 C 0.23403 -0.24901 0.22656 -0.24878 0.2191 -0.24948 C 0.20989 -0.25734 0.2158 -0.25364 0.19844 -0.25572 C 0.18351 -0.25757 0.16892 -0.25988 0.15399 -0.26219 C 0.12222 -0.2608 0.09045 -0.26034 0.05868 -0.2578 C 0.05538 -0.25757 0.04896 -0.25364 0.04896 -0.25364 C 0.04757 -0.24531 0.04514 -0.23699 0.04896 -0.2282 C 0.05 -0.22635 0.05226 -0.23005 0.05382 -0.23028 C 0.05764 -0.23075 0.06146 -0.23028 0.0651 -0.23028 E">
                                      <p:cBhvr>
                                        <p:cTn id="48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052 0.00208 0.00086 0.00416 0.00156 0.00624 C 0.0026 0.00924 0.00416 0.01179 0.00486 0.01479 C 0.00798 0.02705 0.00538 0.03213 0.0144 0.04023 C 0.01875 0.05757 0.02013 0.06173 0.02864 0.07607 C 0.03194 0.08994 0.04531 0.1052 0.05555 0.10982 C 0.06406 0.12115 0.05312 0.10797 0.06354 0.1163 C 0.08055 0.12994 0.06788 0.12508 0.08263 0.12901 C 0.09218 0.13849 0.10277 0.14219 0.11267 0.15005 C 0.12621 0.16092 0.11736 0.15653 0.12708 0.16069 C 0.1467 0.18034 0.121 0.1563 0.13975 0.16901 C 0.14114 0.16994 0.14149 0.17248 0.14288 0.17341 C 0.15069 0.17872 0.16006 0.18196 0.16822 0.18612 C 0.175 0.19468 0.16736 0.18635 0.17934 0.19237 C 0.18107 0.19329 0.18246 0.19537 0.1842 0.19653 C 0.19548 0.20393 0.20833 0.20924 0.22065 0.21133 C 0.22864 0.21479 0.23628 0.2178 0.24444 0.21988 C 0.29878 0.21872 0.32048 0.22081 0.36354 0.21133 C 0.37916 0.20115 0.37152 0.20393 0.38576 0.20092 C 0.39409 0.19514 0.40347 0.19213 0.41267 0.1882 C 0.41996 0.18173 0.42517 0.17711 0.43333 0.17341 C 0.44097 0.15838 0.43125 0.17526 0.44288 0.16277 C 0.45 0.15514 0.45451 0.14612 0.46197 0.13942 C 0.46597 0.13133 0.47135 0.12786 0.47621 0.12046 C 0.48767 0.10312 0.50034 0.08624 0.51267 0.06982 C 0.51649 0.05572 0.5276 0.04601 0.53177 0.03167 C 0.5368 0.01479 0.54322 -0.0037 0.55086 -0.01896 C 0.55451 -0.05781 0.55381 -0.07399 0.53819 -0.10359 C 0.53333 -0.11284 0.51857 -0.1244 0.51111 -0.12902 C 0.50798 -0.13087 0.50156 -0.13318 0.50156 -0.13318 C 0.4901 -0.14336 0.49756 -0.13827 0.47152 -0.13943 C 0.43281 -0.14128 0.35555 -0.14382 0.35555 -0.14382 C 0.33003 -0.14636 0.30468 -0.14798 0.27934 -0.15214 C 0.26875 -0.15815 0.25729 -0.16047 0.24774 -0.16902 C 0.24184 -0.19122 0.24131 -0.17642 0.24444 -0.21573 C 0.24496 -0.22313 0.25173 -0.23284 0.25399 -0.23677 C 0.27343 -0.27122 0.29236 -0.27746 0.32378 -0.27908 C 0.34236 -0.28 0.36059 -0.28047 0.37934 -0.28116 C 0.39149 -0.28648 0.38559 -0.2844 0.39687 -0.2874 C 0.40989 -0.29457 0.42291 -0.29758 0.43663 -0.30012 C 0.45364 -0.30775 0.46718 -0.30914 0.48576 -0.31076 C 0.49027 -0.31168 0.4967 -0.31145 0.5 -0.317 C 0.50208 -0.32047 0.50173 -0.32578 0.50329 -0.32972 C 0.50538 -0.3355 0.50954 -0.34266 0.51111 -0.34891 C 0.5125 -0.35445 0.51319 -0.36024 0.5144 -0.36578 C 0.51527 -0.37018 0.51753 -0.3785 0.51753 -0.3785 C 0.51649 -0.39538 0.51944 -0.40578 0.50954 -0.41434 C 0.50503 -0.42266 0.50225 -0.42474 0.49687 -0.43122 C 0.48663 -0.44347 0.4769 -0.45896 0.46354 -0.46498 C 0.46076 -0.46752 0.4585 -0.47122 0.45555 -0.47353 C 0.44878 -0.47885 0.4394 -0.47723 0.43177 -0.47977 C 0.35208 -0.47654 0.39513 -0.49272 0.37152 -0.46729 C 0.36875 -0.46428 0.36493 -0.46336 0.36197 -0.46081 C 0.35937 -0.45041 0.35538 -0.44255 0.35086 -0.4333 C 0.34895 -0.4296 0.34774 -0.42058 0.34774 -0.42058 C 0.34947 -0.4074 0.3493 -0.41226 0.3493 -0.40578 E">
                                      <p:cBhvr>
                                        <p:cTn id="5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ight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8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997 0.00209 0.04028 0.00139 0.06025 0.00417 C 0.06216 0.0044 0.0632 0.00763 0.06511 0.00856 C 0.06823 0.00995 0.07153 0.01018 0.07466 0.01064 C 0.09237 0.01388 0.10938 0.01735 0.12691 0.02128 C 0.18299 0.02058 0.23924 0.01989 0.29532 0.01896 C 0.35382 0.01781 0.4191 0.02174 0.47778 0.00648 C 0.49115 -0.00254 0.51181 -0.00578 0.52691 -0.00832 C 0.53056 -0.00901 0.53438 -0.00971 0.53803 -0.01063 C 0.54341 -0.01202 0.554 -0.01479 0.554 -0.01479 C 0.56077 -0.01919 0.56563 -0.02127 0.57309 -0.02312 C 0.579 -0.0289 0.58646 -0.0289 0.59202 -0.03375 C 0.60157 -0.04231 0.61094 -0.05132 0.62066 -0.05919 C 0.62257 -0.0608 0.62518 -0.0615 0.62691 -0.06335 C 0.63039 -0.06705 0.63334 -0.07213 0.63646 -0.07606 C 0.63837 -0.07861 0.64115 -0.07976 0.64289 -0.08231 C 0.64653 -0.08763 0.65244 -0.09942 0.65244 -0.09942 C 0.65469 -0.11121 0.65678 -0.12693 0.66198 -0.13734 C 0.66806 -0.14936 0.66528 -0.13803 0.6698 -0.15005 C 0.67605 -0.16693 0.66546 -0.14474 0.67466 -0.163 C 0.67865 -0.17872 0.6757 -0.17202 0.68247 -0.18381 C 0.68646 -0.1993 0.68351 -0.19329 0.69046 -0.203 C 0.6915 -0.20647 0.69219 -0.21017 0.69358 -0.21341 C 0.69549 -0.2178 0.69862 -0.2215 0.7 -0.22612 C 0.7073 -0.25017 0.70244 -0.24208 0.71112 -0.25364 C 0.71494 -0.26404 0.71997 -0.27283 0.72379 -0.28323 C 0.72553 -0.29456 0.72848 -0.30728 0.73334 -0.31699 C 0.73612 -0.32855 0.74063 -0.33919 0.74289 -0.35098 C 0.74636 -0.36924 0.74948 -0.38797 0.754 -0.40578 C 0.75747 -0.45942 0.75539 -0.43861 0.75869 -0.46936 C 0.75816 -0.50589 0.76598 -0.57526 0.74601 -0.61502 C 0.7415 -0.63375 0.72483 -0.66497 0.70955 -0.67005 C 0.70678 -0.68161 0.70955 -0.67676 0.69532 -0.67861 C 0.67153 -0.68185 0.64757 -0.68393 0.62379 -0.68693 C 0.60122 -0.68601 0.58733 -0.69132 0.5698 -0.68277 C 0.56181 -0.67884 0.55521 -0.6726 0.54757 -0.66797 C 0.54428 -0.66612 0.53803 -0.66381 0.53803 -0.66381 C 0.52709 -0.65364 0.52917 -0.64901 0.53178 -0.62774 C 0.5323 -0.62335 0.5349 -0.61502 0.5349 -0.61502 C 0.53316 -0.60601 0.53334 -0.60393 0.53334 -0.60878 E">
                                      <p:cBhvr>
                                        <p:cTn id="6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0:05:09Z</dcterms:created>
  <dc:creator>Angie Gore</dc:creator>
  <dc:description/>
  <dc:language>en-US</dc:language>
  <cp:lastModifiedBy>Angie Gore</cp:lastModifiedBy>
  <dcterms:modified xsi:type="dcterms:W3CDTF">2006-11-20T20:37:1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3784771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