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B66-BCA0-462A-843E-9DDFADB1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D03-4FDE-4B78-AD26-AC56CDED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ABD-6950-41E4-8463-AF78E6DF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E68-54BF-4FEF-AE38-520F74FB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B0E-9B91-4DDA-87CA-FB4FF752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0C6-87CC-4CC6-9B83-87AFBEB2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ABA-95F1-4500-BAD3-B1AAC5B8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19F-A4CB-4B9B-9439-2067ED27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FB6-2AE4-484C-B711-12BC5507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452-CDC5-4856-B34B-D548DE2D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DC5-8539-4708-B57F-904BC9A5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E00-FFA0-4275-878F-6BA5532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00F-5DD2-4867-B758-CA01BFD43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8900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viding by 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17704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191628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341360"/>
            <a:ext cx="6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12682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692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628640"/>
            <a:ext cx="4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268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2340000" y="2708280"/>
            <a:ext cx="576360" cy="649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3500280"/>
            <a:ext cx="26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need me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422100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26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10 = 12 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58960" y="407664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6381720"/>
            <a:ext cx="26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7340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0313 0.0125 0.00243 0.02732 0.00695 0.03912 C 0.01059 0.04907 0.00955 0.04398 0.01563 0.05069 C 0.03473 0.07245 0.00834 0.04398 0.02414 0.06458 C 0.02969 0.07199 0.03976 0.07361 0.04653 0.07824 C 0.06007 0.08727 0.06146 0.08935 0.07761 0.09213 C 0.08091 0.09144 0.09046 0.09074 0.0948 0.0875 C 0.09844 0.08472 0.10174 0.08125 0.10521 0.07824 C 0.10695 0.07662 0.11042 0.07361 0.11042 0.07361 C 0.1158 0.06273 0.11789 0.06829 0.12414 0.05995 C 0.12622 0.05718 0.12726 0.05347 0.12934 0.05069 C 0.13403 0.04444 0.14098 0.04329 0.14653 0.03912 C 0.15018 0.03634 0.15348 0.0331 0.15695 0.03009 C 0.16546 0.02269 0.16997 0.01644 0.17587 0.00463 C 0.17691 0.00255 0.17952 0.00347 0.18108 0.00232 C 0.18299 0.00116 0.18455 -0.00069 0.18629 -0.00208 C 0.18993 -0.0169 0.18716 -0.0125 0.1915 -0.01829 E">
                                      <p:cBhvr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85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452 0.0412 -0.01441 0.11736 0.02587 0.13102 C 0.03993 0.14352 0.05017 0.13704 0.06909 0.13565 C 0.07465 0.12384 0.08264 0.125 0.09149 0.11713 C 0.09462 0.07546 0.09132 0.1081 0.09496 0.08495 C 0.09618 0.07731 0.09826 0.06204 0.09826 0.06204 C 0.09948 0.03356 0.0993 0.02824 0.10347 0.00694 C 0.10295 0.00463 0.10225 0.00231 0.10173 0 C 0.10104 -0.00301 0.1 -0.00926 0.1 -0.00926 E">
                                      <p:cBhvr>
                                        <p:cTn id="6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25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139 0.04121 -0.00347 0.07848 -0.00173 0.11945 C -0.00469 0.13148 0 0.14398 0.00521 0.15394 C 0.01181 0.18033 0.02118 0.18195 0.03802 0.19306 C 0.07622 0.18982 0.05521 0.19306 0.07587 0.1838 C 0.08993 0.16551 0.08316 0.17639 0.09306 0.15625 C 0.0941 0.15394 0.09653 0.14954 0.09653 0.14954 C 0.10573 0.1125 0.1 0.13797 0.1 0.04607 C 0.1 -0.0074 0.1099 0.00093 0.09479 -0.00926 E">
                                      <p:cBhvr>
                                        <p:cTn id="6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650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7000"/>
                            </p:stCondLst>
                            <p:childTnLst>
                              <p:par>
                                <p:cTn id="7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3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8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79640" y="18900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viding by 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3280" y="17704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91628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341360"/>
            <a:ext cx="6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12682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4692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1628640"/>
            <a:ext cx="4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1268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2340000" y="2708280"/>
            <a:ext cx="576360" cy="649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500280"/>
            <a:ext cx="26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need me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400536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47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10 = 34 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87680" y="371628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109" dur="1574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0313 0.0125 0.00243 0.02732 0.00695 0.03912 C 0.01059 0.04907 0.00955 0.04398 0.01563 0.05069 C 0.03473 0.07245 0.00834 0.04398 0.02414 0.06458 C 0.02969 0.07199 0.03976 0.07361 0.04653 0.07824 C 0.06007 0.08727 0.06146 0.08935 0.07761 0.09213 C 0.08091 0.09144 0.09046 0.09074 0.0948 0.0875 C 0.09844 0.08472 0.10174 0.08125 0.10521 0.07824 C 0.10695 0.07662 0.11042 0.07361 0.11042 0.07361 C 0.1158 0.06273 0.11789 0.06829 0.12414 0.05995 C 0.12622 0.05718 0.12726 0.05347 0.12934 0.05069 C 0.13403 0.04444 0.14098 0.04329 0.14653 0.03912 C 0.15018 0.03634 0.15348 0.0331 0.15695 0.03009 C 0.16546 0.02269 0.16997 0.01644 0.17587 0.00463 C 0.17691 0.00255 0.17952 0.00347 0.18108 0.00232 C 0.18299 0.00116 0.18455 -0.00069 0.18629 -0.00208 C 0.18993 -0.0169 0.18716 -0.0125 0.1915 -0.01829 E">
                                      <p:cBhvr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452 0.0412 -0.01441 0.11736 0.02587 0.13102 C 0.03993 0.14352 0.05017 0.13704 0.06909 0.13565 C 0.07465 0.12384 0.08264 0.125 0.09149 0.11713 C 0.09462 0.07546 0.09132 0.1081 0.09496 0.08495 C 0.09618 0.07731 0.09826 0.06204 0.09826 0.06204 C 0.09948 0.03356 0.0993 0.02824 0.10347 0.00694 C 0.10295 0.00463 0.10225 0.00231 0.10173 0 C 0.10104 -0.00301 0.1 -0.00926 0.1 -0.00926 E">
                                      <p:cBhvr>
                                        <p:cTn id="16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35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139 0.04121 -0.00347 0.07848 -0.00173 0.11945 C -0.00469 0.13148 0 0.14398 0.00521 0.15394 C 0.01181 0.18033 0.02118 0.18195 0.03802 0.19306 C 0.07622 0.18982 0.05521 0.19306 0.07587 0.1838 C 0.08993 0.16551 0.08316 0.17639 0.09306 0.15625 C 0.0941 0.15394 0.09653 0.14954 0.09653 0.14954 C 0.10573 0.1125 0.1 0.13797 0.1 0.04607 C 0.1 -0.0074 0.1099 0.00093 0.09479 -0.00926 E">
                                      <p:cBhvr>
                                        <p:cTn id="17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75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7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79640" y="18900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viding by 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99280" y="17704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191628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341360"/>
            <a:ext cx="6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12682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4692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1628640"/>
            <a:ext cx="4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1268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2340000" y="2708280"/>
            <a:ext cx="576360" cy="649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500280"/>
            <a:ext cx="26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need me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400536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11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10 = 41 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58960" y="378936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211" dur="1574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9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66667E-006 4.16185E-006 C 0.00312 0.01248 0.00243 0.02728 0.00694 0.03907 C 0.01059 0.04901 0.00955 0.04393 0.01562 0.05063 C 0.03472 0.07237 0.00833 0.04393 0.02413 0.0645 C 0.02969 0.0719 0.03976 0.07352 0.04653 0.07815 C 0.06007 0.08716 0.06146 0.08924 0.0776 0.09202 C 0.0809 0.09133 0.09045 0.09063 0.09479 0.08739 C 0.09844 0.08462 0.10173 0.08115 0.10521 0.07815 C 0.10694 0.07653 0.11042 0.07352 0.11042 0.07375 C 0.1158 0.06265 0.11788 0.0682 0.12413 0.05988 C 0.12621 0.05711 0.12726 0.05341 0.12934 0.05063 C 0.13403 0.04439 0.14097 0.04323 0.14653 0.03907 C 0.15017 0.0363 0.15347 0.03306 0.15694 0.03005 C 0.16545 0.02265 0.16996 0.01641 0.17587 0.00462 C 0.17691 0.00254 0.18854 0.0067 0.1901 0.00554 C 0.19201 0.00439 0.18455 -0.0007 0.18628 -0.00209 C 0.18993 -0.01688 0.18715 -0.01249 0.19149 -0.01827 E">
                                      <p:cBhvr>
                                        <p:cTn id="26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0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452 0.0412 -0.01441 0.11736 0.02587 0.13102 C 0.03993 0.14352 0.05017 0.13704 0.06909 0.13565 C 0.07465 0.12384 0.08264 0.125 0.09149 0.11713 C 0.09462 0.07546 0.09132 0.1081 0.09496 0.08495 C 0.09618 0.07731 0.09826 0.06204 0.09826 0.06204 C 0.09948 0.03356 0.0993 0.02824 0.10347 0.00694 C 0.10295 0.00463 0.10225 0.00231 0.10173 0 C 0.10104 -0.00301 0.1 -0.00926 0.1 -0.00926 E">
                                      <p:cBhvr>
                                        <p:cTn id="2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35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139 0.04121 -0.00347 0.07848 -0.00173 0.11945 C -0.00469 0.13148 0 0.14398 0.00521 0.15394 C 0.01181 0.18033 0.02118 0.18195 0.03802 0.19306 C 0.07622 0.18982 0.05521 0.19306 0.07587 0.1838 C 0.08993 0.16551 0.08316 0.17639 0.09306 0.15625 C 0.0941 0.15394 0.09653 0.14954 0.09653 0.14954 C 0.10573 0.1125 0.1 0.13797 0.1 0.04607 C 0.1 -0.0074 0.1099 0.00093 0.09479 -0.00926 E">
                                      <p:cBhvr>
                                        <p:cTn id="27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75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6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9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79640" y="18900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viding by 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700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do we do if there’s a decima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99736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ame rule appli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4692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72428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et’s see shall w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313" dur="1574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30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89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viding by Ten with a decim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20500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7280" y="191520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28000" y="206064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20500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2682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268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1700280"/>
            <a:ext cx="4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1268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116000" y="2997000"/>
            <a:ext cx="360360" cy="431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500280"/>
            <a:ext cx="26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You can’t move me I’m stuck you s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508464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1  1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10 = 4 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0600" y="486900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1268280"/>
            <a:ext cx="32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undred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87680" y="486900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354" dur="15742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5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0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226 0.01318 C 0.00764 0.01757 0.01406 0.02243 0.02153 0.02636 C 0.02656 0.0289 0.03472 0.0289 0.04097 0.02983 C 0.04774 0.03075 0.05208 0.03306 0.05851 0.03422 C 0.07083 0.0363 0.08507 0.0363 0.0974 0.03676 C 0.12396 0.03907 0.14202 0.03815 0.17153 0.03769 C 0.19288 0.03491 0.16129 0.03931 0.1875 0.03514 C 0.19219 0.03422 0.20174 0.03329 0.20174 0.03353 C 0.21024 0.03075 0.21788 0.02913 0.22622 0.02636 C 0.22795 0.02566 0.2316 0.02451 0.2316 0.02474 C 0.23281 0.02358 0.23368 0.02266 0.23524 0.02196 C 0.23837 0.02035 0.24566 0.0185 0.24566 0.01873 C 0.24774 0.01526 0.2507 0.01248 0.25452 0.00971 C 0.25504 0.00832 0.2559 0.0074 0.25625 0.00624 C 0.25695 0.0037 0.25816 -0.00069 0.25816 -0.00069 E">
                                      <p:cBhvr>
                                        <p:cTn id="40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0191 0.05411 -0.00225 0.03376 0.00539 0.06312 C 0.00729 0.07052 0.01476 0.0726 0.01945 0.07723 C 0.02622 0.08393 0.0316 0.08532 0.03872 0.09133 C 0.04115 0.09341 0.04289 0.09711 0.04566 0.09827 C 0.05018 0.10035 0.05504 0.09989 0.05973 0.10058 C 0.0691 0.09989 0.07848 0.09943 0.08785 0.09827 C 0.0908 0.09781 0.09375 0.09688 0.09653 0.09596 C 0.10018 0.09457 0.10712 0.09133 0.10712 0.09133 C 0.11146 0.07954 0.12275 0.06174 0.1316 0.05388 C 0.13611 0.04486 0.1342 0.04093 0.14219 0.03746 C 0.14618 0.02174 0.14393 0.03307 0.14393 0.00255 E">
                                      <p:cBhvr>
                                        <p:cTn id="42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0138 0.00925 0.00208 0.02266 0.00694 0.03029 C 0.01076 0.0363 0.01909 0.03977 0.02448 0.04208 C 0.05156 0.04023 0.06441 0.04439 0.08246 0.02104 C 0.08368 0.01642 0.08472 0.01156 0.08593 0.00694 C 0.08732 0.00162 0.08125 -0.00254 0.07899 -0.00717 C 0.0776 -0.00994 0.07187 -0.00948 0.07187 -0.00948 E">
                                      <p:cBhvr>
                                        <p:cTn id="42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6000"/>
                            </p:stCondLst>
                            <p:childTnLst>
                              <p:par>
                                <p:cTn id="42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8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3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3:28:06Z</dcterms:created>
  <dc:creator>Angie Gore</dc:creator>
  <dc:description/>
  <dc:language>en-US</dc:language>
  <cp:lastModifiedBy>Angie Gore</cp:lastModifiedBy>
  <dcterms:modified xsi:type="dcterms:W3CDTF">2006-11-20T20:36:16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775899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