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02C-D83D-486C-A781-80493D92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39D-3013-4445-AB03-CDCBE7E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BDA-9A2D-428C-9696-38953685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86F-6BE6-4817-AFB3-CB378BA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360-D857-4AD5-8091-89F0D2A7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A1A-E12B-4CF8-9330-C74CC26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90C-7D11-4D05-807A-2A2720F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C87-4B6E-4812-8618-14E2534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B4D-FCE2-4D50-8D35-C4C56C5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A13-C3D5-4051-BEE6-CBA7B2D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AB9-89AB-4533-8E8F-29F6A06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7A3-9368-4AF0-97AA-85E7933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0D5-80AE-4C98-BE81-981623C0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1989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ou make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4437000"/>
            <a:ext cx="67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, you make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5636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1701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141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068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3141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084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0.00878 0.00886 0.01942 0.0158 0.02566 C 0.03056 0.03907 0.04757 0.04694 0.0632 0.05826 C 0.06684 0.06104 0.06979 0.06543 0.07361 0.06774 C 0.08038 0.07167 0.08767 0.07399 0.09462 0.07699 C 0.09792 0.07838 0.10035 0.08208 0.10347 0.08393 C 0.10955 0.0874 0.11632 0.08902 0.12274 0.0911 C 0.1441 0.0978 0.16823 0.09688 0.18941 0.09803 C 0.21042 0.09549 0.24445 0.09364 0.2684 0.08624 C 0.29479 0.07815 0.27708 0.08092 0.30174 0.07237 C 0.31788 0.06682 0.33455 0.06566 0.35087 0.06058 C 0.36788 0.05526 0.38472 0.04971 0.40174 0.04439 C 0.40521 0.04324 0.40886 0.043 0.41233 0.04185 C 0.4158 0.04069 0.42274 0.03722 0.42274 0.03722 C 0.43785 0.0215 0.4566 0.01202 0.47361 0 C 0.48351 -0.00694 0.49549 -0.01249 0.50347 -0.02359 C 0.50538 -0.03098 0.50573 -0.04254 0.50174 -0.04925 C 0.49948 -0.05318 0.49531 -0.05457 0.49288 -0.0585 C 0.4882 -0.06613 0.48785 -0.06937 0.48073 -0.0726 C 0.4717 -0.08393 0.45938 -0.08833 0.4474 -0.09133 C 0.43906 -0.08994 0.42743 -0.08948 0.41927 -0.08416 C 0.40608 -0.07538 0.42188 -0.08278 0.40868 -0.07723 C 0.40399 -0.07306 0.39965 -0.07122 0.39462 -0.06798 E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3.87283E-006 C 0.00938 0.01433 0.01667 0.02057 0.02917 0.02705 C 0.03299 0.02913 0.04063 0.03306 0.04063 0.03352 C 0.13698 0.03213 0.23334 0.0319 0.32969 0.03005 C 0.33646 0.03005 0.3441 0.02266 0.35087 0.02081 C 0.36702 0.01664 0.38334 0.01433 0.39948 0.01202 C 0.40816 -0.00833 0.41025 -0.02104 0.4132 -0.04509 C 0.4099 -0.06821 0.40417 -0.07399 0.38976 -0.08116 C 0.38386 -0.08694 0.38073 -0.09226 0.37414 -0.08694 E">
                                      <p:cBhvr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0.01896 C 0.05034 0.02566 0.04236 0.02242 0.05989 0.02821 C 0.07968 0.04138 0.10191 0.04462 0.12309 0.05156 C 0.15121 0.05063 0.18211 0.06127 0.20729 0.04462 C 0.21215 0.04138 0.21475 0.03653 0.21961 0.03283 C 0.22413 0.02936 0.22986 0.02844 0.2335 0.02358 C 0.23645 0.01965 0.24236 0.01202 0.24236 0.01225 C 0.24357 0.0074 0.24375 0.00208 0.24583 -0.00208 C 0.24704 -0.0044 0.24843 -0.00648 0.2493 -0.00902 C 0.25086 -0.01364 0.25173 -0.0185 0.25295 -0.02312 C 0.25347 -0.02544 0.25468 -0.03006 0.25468 -0.02983 C 0.25382 -0.04786 0.25694 -0.06266 0.24757 -0.07445 C 0.246 -0.0807 0.24687 -0.08393 0.24062 -0.08393 C 0.23819 -0.08393 0.23593 -0.08255 0.2335 -0.08162 C 0.23177 -0.08093 0.22829 -0.07931 0.22829 -0.07908 E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789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ke a move to the…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86900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3429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ake the move to the lef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mething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565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661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that’s righ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3657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6 x 10 = 1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73 3.58382E-006 L -0.24427 3.58382E-006 E">
                                      <p:cBhvr>
                                        <p:cTn id="14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62 3.58382E-006 L -0.23038 3.58382E-006 E">
                                      <p:cBhvr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560" y="1701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141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314172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3068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141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5084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0.00878 0.00886 0.01942 0.0158 0.02566 C 0.03056 0.03907 0.04757 0.04694 0.0632 0.05826 C 0.06684 0.06104 0.06979 0.06543 0.07361 0.06774 C 0.08038 0.07167 0.08767 0.07399 0.09462 0.07699 C 0.09792 0.07838 0.10035 0.08208 0.10347 0.08393 C 0.10955 0.0874 0.11632 0.08902 0.12274 0.0911 C 0.1441 0.0978 0.16823 0.09688 0.18941 0.09803 C 0.21042 0.09549 0.24445 0.09364 0.2684 0.08624 C 0.29479 0.07815 0.27708 0.08092 0.30174 0.07237 C 0.31788 0.06682 0.33455 0.06566 0.35087 0.06058 C 0.36788 0.05526 0.38472 0.04971 0.40174 0.04439 C 0.40521 0.04324 0.40886 0.043 0.41233 0.04185 C 0.4158 0.04069 0.42274 0.03722 0.42274 0.03722 C 0.43785 0.0215 0.4566 0.01202 0.47361 0 C 0.48351 -0.00694 0.49549 -0.01249 0.50347 -0.02359 C 0.50538 -0.03098 0.50573 -0.04254 0.50174 -0.04925 C 0.49948 -0.05318 0.49531 -0.05457 0.49288 -0.0585 C 0.4882 -0.06613 0.48785 -0.06937 0.48073 -0.0726 C 0.4717 -0.08393 0.45938 -0.08833 0.4474 -0.09133 C 0.43906 -0.08994 0.42743 -0.08948 0.41927 -0.08416 C 0.40608 -0.07538 0.42188 -0.08278 0.40868 -0.07723 C 0.40399 -0.07306 0.39965 -0.07122 0.39462 -0.06798 E">
                                      <p:cBhvr>
                                        <p:cTn id="20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20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3.87283E-006 C 0.00938 0.01433 0.01667 0.02057 0.02917 0.02705 C 0.03299 0.02913 0.04063 0.03306 0.04063 0.03352 C 0.13698 0.03213 0.23334 0.0319 0.32969 0.03005 C 0.33646 0.03005 0.3441 0.02266 0.35087 0.02081 C 0.36702 0.01664 0.38334 0.01433 0.39948 0.01202 C 0.40816 -0.00833 0.41025 -0.02104 0.4132 -0.04509 C 0.4099 -0.06821 0.40417 -0.07399 0.38976 -0.08116 C 0.38386 -0.08694 0.38073 -0.09226 0.37414 -0.08694 E">
                                      <p:cBhvr>
                                        <p:cTn id="213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0.01896 C 0.05034 0.02566 0.04236 0.02242 0.05989 0.02821 C 0.07968 0.04138 0.10191 0.04462 0.12309 0.05156 C 0.15121 0.05063 0.18211 0.06127 0.20729 0.04462 C 0.21215 0.04138 0.21475 0.03653 0.21961 0.03283 C 0.22413 0.02936 0.22986 0.02844 0.2335 0.02358 C 0.23645 0.01965 0.24236 0.01202 0.24236 0.01225 C 0.24357 0.0074 0.24375 0.00208 0.24583 -0.00208 C 0.24704 -0.0044 0.24843 -0.00648 0.2493 -0.00902 C 0.25086 -0.01364 0.25173 -0.0185 0.25295 -0.02312 C 0.25347 -0.02544 0.25468 -0.03006 0.25468 -0.02983 C 0.25382 -0.04786 0.25694 -0.06266 0.24757 -0.07445 C 0.246 -0.0807 0.24687 -0.08393 0.24062 -0.08393 C 0.23819 -0.08393 0.23593 -0.08255 0.2335 -0.08162 C 0.23177 -0.08093 0.22829 -0.07931 0.22829 -0.07908 E">
                                      <p:cBhvr>
                                        <p:cTn id="21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789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ke a move to the…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86900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500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ake the move to the lef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mething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249228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661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that’s righ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86064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9 x 10 = 6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573 3.58382E-006 L -0.24427 3.58382E-006 E">
                                      <p:cBhvr>
                                        <p:cTn id="289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62 3.58382E-006 L -0.23038 3.58382E-006 E">
                                      <p:cBhvr>
                                        <p:cTn id="29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3:56:42Z</dcterms:created>
  <dc:creator>Angie Gore</dc:creator>
  <dc:description/>
  <dc:language>en-US</dc:language>
  <cp:lastModifiedBy>Angie Gore</cp:lastModifiedBy>
  <dcterms:modified xsi:type="dcterms:W3CDTF">2006-11-20T20:35:2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501320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