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A83D-303E-415D-ABCB-F1ABE944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1604-C5F4-4FA7-BACB-6DBBB887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996A-3C74-4CFA-B6BC-B3A85C2C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4AB-4A9C-467A-B867-6A94271E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39F-A9DD-4372-AA41-B8320BD6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A279-B490-4076-959B-3CE43F08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A9F-E2D1-47B4-B578-10087656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5BB-678A-4853-8747-BB0B12EB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808B-4941-4662-9C35-917D6323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E5E-F6E2-4496-8D95-621E4372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4BE-0E60-4321-A7D1-3BE9BCA8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405C-898A-4125-A469-9E11A867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B6D3-8395-4C2E-8AA8-1DBAE76B7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260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ultiplying by a hundr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4200" y="1989000"/>
            <a:ext cx="5149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You make two mo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o the lef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4869000"/>
            <a:ext cx="38163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Yes, two mo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o the lef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77080" y="573408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39306E-006 C -0.00121 -0.01596 -0.00121 -0.03214 -0.00347 -0.04763 C -0.00399 -0.0511 -0.00712 -0.05203 -0.00816 -0.05526 C -0.0118 -0.06544 -0.01215 -0.07792 -0.01597 -0.08787 C -0.01979 -0.09758 -0.02795 -0.10451 -0.03385 -0.11029 C -0.03628 -0.11029 -0.10521 -0.11584 -0.11996 -0.10035 C -0.1217 -0.0881 -0.12326 -0.07723 -0.12639 -0.06521 C -0.12847 -0.04578 -0.13264 -0.02752 -0.1342 -0.00787 C -0.13646 -0.0185 -0.13646 -0.02983 -0.13906 -0.04024 C -0.14427 -0.06151 -0.1408 -0.0407 -0.14392 -0.05781 C -0.14462 -0.06104 -0.14462 -0.06474 -0.14548 -0.06775 C -0.14722 -0.07307 -0.15191 -0.08278 -0.15191 -0.08255 C -0.16007 -0.13226 -0.16805 -0.17272 -0.20295 -0.18544 C -0.21371 -0.18937 -0.22587 -0.18937 -0.23646 -0.19029 C -0.24861 -0.1896 -0.26093 -0.19052 -0.27309 -0.18798 C -0.29062 -0.18359 -0.30468 -0.16139 -0.321 -0.15307 C -0.32378 -0.14867 -0.32795 -0.14706 -0.33055 -0.14289 C -0.33229 -0.14012 -0.33212 -0.1355 -0.33368 -0.13295 C -0.33646 -0.12925 -0.34045 -0.12833 -0.3434 -0.12555 C -0.34982 -0.11931 -0.3559 -0.11168 -0.3625 -0.10544 C -0.3684 -0.09989 -0.37257 -0.09272 -0.37847 -0.08787 C -0.38264 -0.0844 -0.39132 -0.07792 -0.39132 -0.07769 C -0.39357 -0.0659 -0.39843 -0.06683 -0.40399 -0.05781 C -0.40937 -0.03677 -0.41458 -0.01411 -0.42482 0.00231 C -0.42986 0.03606 -0.42465 0.02682 -0.43107 0.03745 E">
                                      <p:cBhvr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79191E-006 C -0.00469 -0.00717 -0.01042 -0.01549 -0.01719 -0.02058 C -0.02222 -0.02428 -0.02813 -0.02705 -0.03247 -0.03168 C -0.03542 -0.03468 -0.03733 -0.03723 -0.04115 -0.03908 C -0.04427 -0.0407 -0.04809 -0.04139 -0.05122 -0.04301 C -0.05833 -0.04648 -0.06476 -0.05202 -0.07188 -0.05572 C -0.07899 -0.05965 -0.08767 -0.05965 -0.09566 -0.0615 C -0.10139 -0.06289 -0.12031 -0.06867 -0.12118 -0.0689 C -0.12969 -0.07029 -0.13837 -0.07006 -0.1467 -0.07075 C -0.16719 -0.07006 -0.18767 -0.07098 -0.20816 -0.0689 C -0.2099 -0.06867 -0.22188 -0.0474 -0.22344 -0.04486 C -0.22865 -0.02775 -0.22049 -0.05202 -0.23038 -0.03353 C -0.23524 -0.02451 -0.23021 -0.02428 -0.24063 -0.01688 C -0.24392 -0.01133 -0.24479 -0.00648 -0.24913 -0.00185 C -0.25243 -0.01272 -0.24861 -0.00301 -0.2559 -0.01318 C -0.27083 -0.03376 -0.25729 -0.01781 -0.26615 -0.02798 C -0.2691 -0.03746 -0.27674 -0.04578 -0.28316 -0.05202 C -0.30469 -0.07307 -0.33056 -0.09503 -0.36007 -0.10035 C -0.38195 -0.10451 -0.36684 -0.1022 -0.4059 -0.10405 C -0.44306 -0.10312 -0.47118 -0.10474 -0.50486 -0.0948 C -0.50729 -0.09064 -0.51129 -0.08786 -0.51337 -0.0837 C -0.5224 -0.06636 -0.5066 -0.08532 -0.52014 -0.07075 C -0.5257 -0.05619 -0.52222 -0.06428 -0.53212 -0.04671 C -0.53316 -0.04486 -0.53299 -0.04255 -0.53386 -0.04093 C -0.5375 -0.03399 -0.54201 -0.02636 -0.5474 -0.02058 E">
                                      <p:cBhvr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260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ultiplying by a hundr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34136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341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dr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51280" y="1341360"/>
            <a:ext cx="122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1341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3357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335772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48000" y="342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357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3280" y="3357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3357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427280" y="2708280"/>
            <a:ext cx="8650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987280" y="2708280"/>
            <a:ext cx="8650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47640" y="2708280"/>
            <a:ext cx="8654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4797360"/>
            <a:ext cx="84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wo moves to the lef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7708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By 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73 -0.01456 0.00329 -0.03375 0.00868 -0.0467 C 0.01909 -0.07121 0.03593 -0.09132 0.05607 -0.10034 C 0.05972 -0.10404 0.0625 -0.10936 0.06666 -0.11213 C 0.07395 -0.11699 0.08524 -0.12161 0.09305 -0.12369 C 0.10277 -0.13017 0.11441 -0.13803 0.12447 -0.14242 C 0.13767 -0.1482 0.15694 -0.14843 0.17013 -0.14936 C 0.21024 -0.15213 0.25572 -0.15283 0.29479 -0.15398 C 0.30347 -0.15329 0.31232 -0.15098 0.321 -0.15167 C 0.32274 -0.1519 0.32274 -0.15606 0.32447 -0.15653 C 0.32691 -0.15699 0.32916 -0.15491 0.33159 -0.15398 C 0.33506 -0.15098 0.34201 -0.14474 0.34201 -0.14474 E">
                                      <p:cBhvr>
                                        <p:cTn id="6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73 -0.01456 0.00329 -0.03375 0.00868 -0.0467 C 0.01909 -0.07121 0.03593 -0.09132 0.05607 -0.10034 C 0.05972 -0.10404 0.0625 -0.10936 0.06666 -0.11213 C 0.07395 -0.11699 0.08524 -0.12161 0.09305 -0.12369 C 0.10277 -0.13017 0.11441 -0.13803 0.12447 -0.14242 C 0.13767 -0.1482 0.15694 -0.14843 0.17013 -0.14936 C 0.21024 -0.15213 0.25572 -0.15283 0.29479 -0.15398 C 0.30347 -0.15329 0.31232 -0.15098 0.321 -0.15167 C 0.32274 -0.1519 0.32274 -0.15606 0.32447 -0.15653 C 0.32691 -0.15699 0.32916 -0.15491 0.33159 -0.15398 C 0.33506 -0.15098 0.34201 -0.14474 0.34201 -0.14474 E">
                                      <p:cBhvr>
                                        <p:cTn id="70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73 -0.01456 0.00329 -0.03375 0.00868 -0.0467 C 0.01909 -0.07121 0.03593 -0.09132 0.05607 -0.10034 C 0.05972 -0.10404 0.0625 -0.10936 0.06666 -0.11213 C 0.07395 -0.11699 0.08524 -0.12161 0.09305 -0.12369 C 0.10277 -0.13017 0.11441 -0.13803 0.12447 -0.14242 C 0.13767 -0.1482 0.15694 -0.14843 0.17013 -0.14936 C 0.21024 -0.15213 0.25572 -0.15283 0.29479 -0.15398 C 0.30347 -0.15329 0.31232 -0.15098 0.321 -0.15167 C 0.32274 -0.1519 0.32274 -0.15606 0.32447 -0.15653 C 0.32691 -0.15699 0.32916 -0.15491 0.33159 -0.15398 C 0.33506 -0.15098 0.34201 -0.14474 0.34201 -0.14474 E">
                                      <p:cBhvr>
                                        <p:cTn id="7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73 -0.01456 0.00329 -0.03375 0.00868 -0.0467 C 0.01909 -0.07121 0.03593 -0.09132 0.05607 -0.10034 C 0.05972 -0.10404 0.0625 -0.10936 0.06666 -0.11213 C 0.07395 -0.11699 0.08524 -0.12161 0.09305 -0.12369 C 0.10277 -0.13017 0.11441 -0.13803 0.12447 -0.14242 C 0.13767 -0.1482 0.15694 -0.14843 0.17013 -0.14936 C 0.21024 -0.15213 0.25572 -0.15283 0.29479 -0.15398 C 0.30347 -0.15329 0.31232 -0.15098 0.321 -0.15167 C 0.32274 -0.1519 0.32274 -0.15606 0.32447 -0.15653 C 0.32691 -0.15699 0.32916 -0.15491 0.33159 -0.15398 C 0.33506 -0.15098 0.34201 -0.14474 0.34201 -0.14474 E">
                                      <p:cBhvr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13873E-006 C 0.00486 -0.01503 0.01285 -0.02312 0.02326 -0.03352 C 0.02934 -0.03977 0.03489 -0.04532 0.04097 -0.0511 C 0.04288 -0.05295 0.0441 -0.05595 0.04635 -0.05734 C 0.05 -0.05965 0.05469 -0.05965 0.05885 -0.06104 C 0.07101 -0.07422 0.06476 -0.07098 0.07482 -0.07491 C 0.08212 -0.08693 0.08611 -0.083 0.09618 -0.08855 C 0.11319 -0.09826 0.12726 -0.11098 0.14601 -0.1163 C 0.15451 -0.12254 0.16337 -0.12462 0.17291 -0.12809 C 0.18333 -0.14011 0.20746 -0.14266 0.22083 -0.14982 C 0.22587 -0.1526 0.23489 -0.16069 0.24062 -0.16162 C 0.25833 -0.16393 0.29392 -0.16555 0.29392 -0.16532 C 0.31059 -0.16786 0.30226 -0.1674 0.31892 -0.1674 E">
                                      <p:cBhvr>
                                        <p:cTn id="7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13873E-006 C 0.00226 -0.01017 0.00538 -0.00878 0.00903 -0.01734 C 0.01111 -0.02219 0.01493 -0.03745 0.01823 -0.04185 C 0.02465 -0.05017 0.03177 -0.05688 0.04028 -0.06266 C 0.04775 -0.07468 0.06059 -0.08115 0.07136 -0.08948 C 0.07795 -0.10289 0.08472 -0.10243 0.09514 -0.11029 C 0.10695 -0.11907 0.09427 -0.11399 0.10625 -0.11792 C 0.11372 -0.12971 0.12691 -0.13826 0.13924 -0.14451 C 0.14653 -0.15214 0.16094 -0.16023 0.17031 -0.16347 C 0.17396 -0.16485 0.17813 -0.16508 0.18143 -0.1674 C 0.18316 -0.16855 0.1849 -0.1704 0.18681 -0.1711 C 0.19271 -0.17318 0.21285 -0.17456 0.21632 -0.17503 C 0.23143 -0.17433 0.24688 -0.17318 0.26215 -0.17318 C 0.2665 -0.17318 0.2757 -0.17826 0.27118 -0.16925 E">
                                      <p:cBhvr>
                                        <p:cTn id="8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" nodeType="afterEffect" fill="hold" presetClass="entr" presetID="7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260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ultiplying by a hundr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34136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0000" y="134136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dr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1280" y="1341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1341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51280" y="2205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2205000"/>
            <a:ext cx="6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72360" y="2349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20000" y="2205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96360" y="220500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17080" y="220500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67280" y="436572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at nex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427280" y="2708280"/>
            <a:ext cx="8650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987280" y="2708280"/>
            <a:ext cx="8650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547640" y="2708280"/>
            <a:ext cx="8654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2720" y="342900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wo moves to the lef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95640" y="213372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64000" y="213372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51280" y="213372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213372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4437000"/>
            <a:ext cx="84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e can’t leave it blan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3716280"/>
            <a:ext cx="59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6 x 100 = 16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7708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By 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724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One thousand six hundred no tens no un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289 C 0.0033 -0.03676 0.0007 -0.04393 -0.00642 -0.05017 C -0.00972 -0.05295 -0.01215 -0.05688 -0.01614 -0.0585 C -0.03281 -0.06613 -0.05329 -0.06751 -0.07152 -0.07144 C -0.08975 -0.07052 -0.11562 -0.07306 -0.13003 -0.06011 C -0.13559 -0.04578 -0.12986 -0.05642 -0.13819 -0.04717 C -0.14062 -0.04462 -0.14479 -0.03884 -0.14479 -0.03861 C -0.14513 -0.0326 -0.14496 -0.02636 -0.14635 -0.02035 C -0.1467 -0.01873 -0.14704 -0.02335 -0.14791 -0.02474 C -0.15086 -0.02867 -0.15833 -0.03329 -0.16267 -0.03607 C -0.17378 -0.0437 -0.18316 -0.04694 -0.1967 -0.05156 C -0.21805 -0.05919 -0.18368 -0.04879 -0.21302 -0.05711 C -0.21458 -0.05757 -0.21788 -0.0585 -0.21788 -0.0585 C -0.2276 -0.06451 -0.22413 -0.06335 -0.24392 -0.06289 C -0.27465 -0.0622 -0.28038 -0.06127 -0.30243 -0.0585 C -0.30937 -0.05618 -0.31527 -0.05318 -0.32204 -0.05017 C -0.32604 -0.04647 -0.33072 -0.04509 -0.33333 -0.04023 C -0.33715 -0.03376 -0.33854 -0.02659 -0.34322 -0.02035 C -0.34375 -0.0185 -0.34427 -0.01665 -0.34479 -0.0148 C -0.34531 -0.01341 -0.34635 -0.0104 -0.34635 -0.0104 E">
                                      <p:cBhvr>
                                        <p:cTn id="121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5723E-006 C -0.00729 -0.01457 -4.44444000000013E-006 0.00208 -0.00521 -0.02336 C -0.00711 -0.03284 -0.01163 -0.04347 -0.0158 -0.05133 C -0.01979 -0.06821 -0.03593 -0.06798 -0.04722 -0.07006 C -0.13593 -0.06682 -0.08628 -0.07538 -0.12448 -0.0585 C -0.13455 -0.0444 -0.12048 -0.06266 -0.13333 -0.05133 C -0.14045 -0.04509 -0.13732 -0.04393 -0.14201 -0.03515 C -0.1434 -0.03237 -0.14566 -0.03052 -0.14722 -0.02798 C -0.14982 -0.02359 -0.15434 -0.01411 -0.15434 -0.01411 C -0.15555 -0.00948 -0.15659 -0.00463 -0.15781 3.75723E-006 C -0.15833 0.00231 -0.15955 0.00693 -0.15955 0.00693 C -0.16198 -0.00255 -0.16093 -0.01156 -0.16666 -0.01873 C -0.16961 -0.03075 -0.16718 -0.02428 -0.17708 -0.03746 C -0.18211 -0.04416 -0.18663 -0.0511 -0.19288 -0.05596 C -0.20034 -0.06174 -0.2085 -0.06382 -0.2158 -0.07006 C -0.24392 -0.06937 -0.27205 -0.06983 -0.3 -0.06775 C -0.30364 -0.06752 -0.31041 -0.06312 -0.31041 -0.06312 C -0.31389 -0.05388 -0.31562 -0.04278 -0.321 -0.03515 C -0.32274 -0.03284 -0.32743 -0.02659 -0.32795 -0.02336 C -0.32882 -0.01711 -0.32795 -0.01087 -0.32795 -0.00463 E">
                                      <p:cBhvr>
                                        <p:cTn id="124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6500"/>
                            </p:stCondLst>
                            <p:childTnLst>
                              <p:par>
                                <p:cTn id="1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1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260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ultiplying by a hundr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34136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134136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dr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51280" y="134136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341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76360" y="3357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84360" y="3284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8000" y="342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3357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3357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64000" y="3357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27280" y="2708280"/>
            <a:ext cx="8650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987280" y="2708280"/>
            <a:ext cx="8650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547640" y="2708280"/>
            <a:ext cx="8654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4941720"/>
            <a:ext cx="921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wo moves to the lef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7708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By 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73 -0.01456 0.00329 -0.03375 0.00868 -0.0467 C 0.01909 -0.07121 0.03593 -0.09132 0.05607 -0.10034 C 0.05972 -0.10404 0.0625 -0.10936 0.06666 -0.11213 C 0.07395 -0.11699 0.08524 -0.12161 0.09305 -0.12369 C 0.10277 -0.13017 0.11441 -0.13803 0.12447 -0.14242 C 0.13767 -0.1482 0.15694 -0.14843 0.17013 -0.14936 C 0.21024 -0.15213 0.25572 -0.15283 0.29479 -0.15398 C 0.30347 -0.15329 0.31232 -0.15098 0.321 -0.15167 C 0.32274 -0.1519 0.32274 -0.15606 0.32447 -0.15653 C 0.32691 -0.15699 0.32916 -0.15491 0.33159 -0.15398 C 0.33506 -0.15098 0.34201 -0.14474 0.34201 -0.14474 E">
                                      <p:cBhvr>
                                        <p:cTn id="24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73 -0.01456 0.00329 -0.03375 0.00868 -0.0467 C 0.01909 -0.07121 0.03593 -0.09132 0.05607 -0.10034 C 0.05972 -0.10404 0.0625 -0.10936 0.06666 -0.11213 C 0.07395 -0.11699 0.08524 -0.12161 0.09305 -0.12369 C 0.10277 -0.13017 0.11441 -0.13803 0.12447 -0.14242 C 0.13767 -0.1482 0.15694 -0.14843 0.17013 -0.14936 C 0.21024 -0.15213 0.25572 -0.15283 0.29479 -0.15398 C 0.30347 -0.15329 0.31232 -0.15098 0.321 -0.15167 C 0.32274 -0.1519 0.32274 -0.15606 0.32447 -0.15653 C 0.32691 -0.15699 0.32916 -0.15491 0.33159 -0.15398 C 0.33506 -0.15098 0.34201 -0.14474 0.34201 -0.14474 E">
                                      <p:cBhvr>
                                        <p:cTn id="24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73 -0.01456 0.00329 -0.03375 0.00868 -0.0467 C 0.01909 -0.07121 0.03593 -0.09132 0.05607 -0.10034 C 0.05972 -0.10404 0.0625 -0.10936 0.06666 -0.11213 C 0.07395 -0.11699 0.08524 -0.12161 0.09305 -0.12369 C 0.10277 -0.13017 0.11441 -0.13803 0.12447 -0.14242 C 0.13767 -0.1482 0.15694 -0.14843 0.17013 -0.14936 C 0.21024 -0.15213 0.25572 -0.15283 0.29479 -0.15398 C 0.30347 -0.15329 0.31232 -0.15098 0.321 -0.15167 C 0.32274 -0.1519 0.32274 -0.15606 0.32447 -0.15653 C 0.32691 -0.15699 0.32916 -0.15491 0.33159 -0.15398 C 0.33506 -0.15098 0.34201 -0.14474 0.34201 -0.14474 E">
                                      <p:cBhvr>
                                        <p:cTn id="24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73 -0.01456 0.00329 -0.03375 0.00868 -0.0467 C 0.01909 -0.07121 0.03593 -0.09132 0.05607 -0.10034 C 0.05972 -0.10404 0.0625 -0.10936 0.06666 -0.11213 C 0.07395 -0.11699 0.08524 -0.12161 0.09305 -0.12369 C 0.10277 -0.13017 0.11441 -0.13803 0.12447 -0.14242 C 0.13767 -0.1482 0.15694 -0.14843 0.17013 -0.14936 C 0.21024 -0.15213 0.25572 -0.15283 0.29479 -0.15398 C 0.30347 -0.15329 0.31232 -0.15098 0.321 -0.15167 C 0.32274 -0.1519 0.32274 -0.15606 0.32447 -0.15653 C 0.32691 -0.15699 0.32916 -0.15491 0.33159 -0.15398 C 0.33506 -0.15098 0.34201 -0.14474 0.34201 -0.14474 E">
                                      <p:cBhvr>
                                        <p:cTn id="249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13873E-006 C 0.00486 -0.01503 0.01285 -0.02312 0.02326 -0.03352 C 0.02934 -0.03977 0.03489 -0.04532 0.04097 -0.0511 C 0.04288 -0.05295 0.0441 -0.05595 0.04635 -0.05734 C 0.05 -0.05965 0.05469 -0.05965 0.05885 -0.06104 C 0.07101 -0.07422 0.06476 -0.07098 0.07482 -0.07491 C 0.08212 -0.08693 0.08611 -0.083 0.09618 -0.08855 C 0.11319 -0.09826 0.12726 -0.11098 0.14601 -0.1163 C 0.15451 -0.12254 0.16337 -0.12462 0.17291 -0.12809 C 0.18333 -0.14011 0.20746 -0.14266 0.22083 -0.14982 C 0.22587 -0.1526 0.23489 -0.16069 0.24062 -0.16162 C 0.25833 -0.16393 0.29392 -0.16555 0.29392 -0.16532 C 0.31059 -0.16786 0.30226 -0.1674 0.31892 -0.1674 E">
                                      <p:cBhvr>
                                        <p:cTn id="25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13873E-006 C 0.00226 -0.01017 0.00538 -0.00878 0.00903 -0.01734 C 0.01111 -0.02219 0.01493 -0.03745 0.01823 -0.04185 C 0.02465 -0.05017 0.03177 -0.05688 0.04028 -0.06266 C 0.04775 -0.07468 0.06059 -0.08115 0.07136 -0.08948 C 0.07795 -0.10289 0.08472 -0.10243 0.09514 -0.11029 C 0.10695 -0.11907 0.09427 -0.11399 0.10625 -0.11792 C 0.11372 -0.12971 0.12691 -0.13826 0.13924 -0.14451 C 0.14653 -0.15214 0.16094 -0.16023 0.17031 -0.16347 C 0.17396 -0.16485 0.17813 -0.16508 0.18143 -0.1674 C 0.18316 -0.16855 0.1849 -0.1704 0.18681 -0.1711 C 0.19271 -0.17318 0.21285 -0.17456 0.21632 -0.17503 C 0.23143 -0.17433 0.24688 -0.17318 0.26215 -0.17318 C 0.2665 -0.17318 0.2625 -0.18589 0.25799 -0.17688 E">
                                      <p:cBhvr>
                                        <p:cTn id="25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95280" y="260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ultiplying by a hundr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34136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134136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dr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51280" y="134136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64000" y="1341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1280" y="2205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2060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72360" y="2349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20000" y="2205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96360" y="220500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17080" y="220500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436572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at nex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427280" y="2708280"/>
            <a:ext cx="8650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987280" y="2708280"/>
            <a:ext cx="8650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547640" y="2708280"/>
            <a:ext cx="8654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52720" y="342900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wo moves to the lef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2133720"/>
            <a:ext cx="50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5640" y="2133720"/>
            <a:ext cx="50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213372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35640" y="206064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4437000"/>
            <a:ext cx="84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e can’t leave it blan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4005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9 x 100 = 49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7708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By 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86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Four thousand nine hundred no tens no un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9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5.20231E-006 C -0.00069 -0.01479 -0.00034 -0.02982 -0.00191 -0.04439 C -0.0026 -0.05086 -0.00764 -0.05271 -0.01059 -0.05595 C -0.01857 -0.06473 -0.02517 -0.07491 -0.03524 -0.0793 C -0.04253 -0.08577 -0.04219 -0.08762 -0.05087 -0.09109 C -0.05451 -0.09248 -0.06146 -0.09572 -0.06146 -0.09572 C -0.07604 -0.09502 -0.0908 -0.09479 -0.10538 -0.0934 C -0.11701 -0.09225 -0.1085 -0.09202 -0.1158 -0.08624 C -0.11892 -0.08369 -0.12986 -0.08208 -0.13159 -0.08161 C -0.13802 -0.07606 -0.14114 -0.07028 -0.14392 -0.06057 C -0.14479 -0.05757 -0.14462 -0.0541 -0.14566 -0.05132 C -0.14757 -0.04624 -0.15278 -0.03722 -0.15278 -0.03722 C -0.15399 -0.03167 -0.15538 -0.02635 -0.15625 -0.0208 C -0.15712 -0.01549 -0.15607 -0.00947 -0.15798 -0.00462 C -0.15885 -0.00254 -0.15885 -0.00947 -0.15972 -0.01156 C -0.16059 -0.0141 -0.16198 -0.01618 -0.16319 -0.01849 C -0.1658 -0.02913 -0.16649 -0.03676 -0.17205 -0.04439 C -0.17621 -0.06127 -0.1809 -0.05734 -0.18958 -0.06774 C -0.19219 -0.07075 -0.20191 -0.08739 -0.20712 -0.09109 C -0.2092 -0.09248 -0.2118 -0.09225 -0.21406 -0.0934 C -0.22048 -0.09664 -0.22517 -0.10219 -0.23159 -0.10497 C -0.24774 -0.12554 -0.27673 -0.12231 -0.29653 -0.12369 C -0.31163 -0.12231 -0.32031 -0.12254 -0.33333 -0.11676 C -0.3401 -0.10774 -0.34236 -0.09895 -0.34739 -0.08878 C -0.3493 -0.08069 -0.35538 -0.06913 -0.35972 -0.06288 C -0.36632 -0.03653 -0.36319 -0.05387 -0.36319 -0.00924 E">
                                      <p:cBhvr>
                                        <p:cTn id="293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5723E-006 C -0.00729 -0.01457 -4.44444000000013E-006 0.00208 -0.00521 -0.02336 C -0.00711 -0.03284 -0.01163 -0.04347 -0.0158 -0.05133 C -0.01979 -0.06821 -0.03593 -0.06798 -0.04722 -0.07006 C -0.13593 -0.06682 -0.08628 -0.07538 -0.12448 -0.0585 C -0.13455 -0.0444 -0.12048 -0.06266 -0.13333 -0.05133 C -0.14045 -0.04509 -0.13732 -0.04393 -0.14201 -0.03515 C -0.1434 -0.03237 -0.14566 -0.03052 -0.14722 -0.02798 C -0.14982 -0.02359 -0.15434 -0.01411 -0.15434 -0.01411 C -0.15555 -0.00948 -0.15659 -0.00463 -0.15781 3.75723E-006 C -0.15833 0.00231 -0.15955 0.00693 -0.15955 0.00693 C -0.16198 -0.00255 -0.16093 -0.01156 -0.16666 -0.01873 C -0.16961 -0.03075 -0.16718 -0.02428 -0.17708 -0.03746 C -0.18211 -0.04416 -0.18663 -0.0511 -0.19288 -0.05596 C -0.20034 -0.06174 -0.2085 -0.06382 -0.2158 -0.07006 C -0.24392 -0.06937 -0.27205 -0.06983 -0.3 -0.06775 C -0.30364 -0.06752 -0.31041 -0.06312 -0.31041 -0.06312 C -0.31389 -0.05388 -0.31562 -0.04278 -0.321 -0.03515 C -0.32274 -0.03284 -0.32743 -0.02659 -0.32795 -0.02336 C -0.32882 -0.01711 -0.32795 -0.01087 -0.32795 -0.00463 E">
                                      <p:cBhvr>
                                        <p:cTn id="296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6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9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2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7500"/>
                            </p:stCondLst>
                            <p:childTnLst>
                              <p:par>
                                <p:cTn id="3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8000"/>
                            </p:stCondLst>
                            <p:childTnLst>
                              <p:par>
                                <p:cTn id="3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1000"/>
                            </p:stCondLst>
                            <p:childTnLst>
                              <p:par>
                                <p:cTn id="3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6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9500"/>
                            </p:stCondLst>
                            <p:childTnLst>
                              <p:par>
                                <p:cTn id="3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1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501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12:51:39Z</dcterms:created>
  <dc:creator>Angie Gore</dc:creator>
  <dc:description/>
  <dc:language>en-US</dc:language>
  <cp:lastModifiedBy>Angie Gore</cp:lastModifiedBy>
  <dcterms:modified xsi:type="dcterms:W3CDTF">2006-11-20T20:35:54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99775153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