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00A-C9D5-4DE5-A06C-0A60F347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957-5919-40D2-A880-FCDFC857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DE8-F06A-4D02-A776-2649033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331-D10F-4890-BFD6-B09DE2FB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7A3-5B8B-4B35-A9A6-64A47F78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C2B-38E3-441B-9FFE-B9A2627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1C2-4DCE-4869-9259-9215FF8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29D-64A7-461A-A1B2-905AC8F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14C-5CC7-434F-B98A-14254DC2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F27-7A28-4382-8679-BF2D5EB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227-0935-48C0-AB65-0F8780C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092-F4A6-436C-9194-58B42E3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239-C141-433F-88C4-1EBF2EBE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77336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1125360"/>
            <a:ext cx="5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94560" y="17715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13480" y="184464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984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724000" y="2421000"/>
            <a:ext cx="576360" cy="72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2560" y="278136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41840" y="1268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5480" y="12682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13480" y="126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8760" y="126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54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5661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5661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5280" y="566100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38920" y="566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5661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93372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299 point nothing for 299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72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27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412 0.00226 0.03009 -0.00851 0.03449 C -0.02118 0.04583 -0.03524 0.05509 -0.05 0.05995 C -0.06476 0.07315 -0.06232 0.07292 -0.09479 0.06227 C -0.10121 0.06018 -0.10399 0.04884 -0.11024 0.04606 C -0.11076 0.04375 -0.11111 0.0412 -0.11198 0.03912 C -0.11285 0.03681 -0.11458 0.03495 -0.11545 0.03241 C -0.11701 0.02801 -0.11892 0.01852 -0.11892 0.01852 C -0.11944 0.00856 -0.11823 -0.00185 -0.12066 -0.01134 C -0.12118 -0.01366 -0.12587 -0.00903 -0.12587 -0.00903 E">
                                      <p:cBhvr>
                                        <p:cTn id="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0.02686 -0.00069 0.05371 -0.00174 0.08056 C -0.00191 0.0838 -0.00208 0.08727 -0.00347 0.08982 C -0.0158 0.1132 -0.04028 0.1294 -0.06042 0.13334 C -0.08559 0.13056 -0.0816 0.13588 -0.09479 0.11042 C -0.09809 0.10417 -0.10122 0.09676 -0.10347 0.08982 C -0.10503 0.08542 -0.10694 0.07593 -0.10694 0.07593 C -0.10503 0.01621 -0.10521 0.04075 -0.10521 0.00232 E">
                                      <p:cBhvr>
                                        <p:cTn id="7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747 -0.01088 C 0.00677 0.01667 0.0066 0.04468 0.00556 0.07246 C 0.00538 0.07547 0.00417 0.07801 0.00382 0.08102 C 0.00226 0.09237 0.00538 0.10556 0.00018 0.11505 C -0.0033 0.1213 -0.01041 0.13496 -0.01215 0.14098 C -0.01285 0.14306 -0.01285 0.14561 -0.01406 0.14723 C -0.02048 0.15463 -0.03194 0.16297 -0.0408 0.16667 C -0.05868 0.16598 -0.07656 0.16644 -0.09444 0.16436 C -0.09965 0.16366 -0.11285 0.14746 -0.11753 0.14306 C -0.12101 0.13982 -0.1283 0.13449 -0.1283 0.13473 C -0.13038 0.12732 -0.13368 0.12223 -0.13559 0.11505 C -0.13455 0.07709 -0.13837 0.04028 -0.1283 0.00417 C -0.13021 0.00255 -0.13385 -0.00023 -0.13385 -4.07407E-006 E">
                                      <p:cBhvr>
                                        <p:cTn id="8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9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177336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1125360"/>
            <a:ext cx="5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94560" y="17715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13480" y="184464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8984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724000" y="2421000"/>
            <a:ext cx="576360" cy="72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62560" y="299556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1840" y="1268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05480" y="12682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3480" y="126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8760" y="126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537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51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537372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37372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537372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3280" y="53737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53737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73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627 point nothing for 627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32720" y="47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51" dur="1574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412 0.00226 0.03009 -0.00851 0.03449 C -0.02118 0.04583 -0.03524 0.05509 -0.05 0.05995 C -0.06476 0.07315 -0.06232 0.07292 -0.09479 0.06227 C -0.10121 0.06018 -0.10399 0.04884 -0.11024 0.04606 C -0.11076 0.04375 -0.11111 0.0412 -0.11198 0.03912 C -0.11285 0.03681 -0.11458 0.03495 -0.11545 0.03241 C -0.11701 0.02801 -0.11892 0.01852 -0.11892 0.01852 C -0.11944 0.00856 -0.11823 -0.00185 -0.12066 -0.01134 C -0.12118 -0.01366 -0.12587 -0.00903 -0.12587 -0.00903 E">
                                      <p:cBhvr>
                                        <p:cTn id="2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0.02686 -0.00069 0.05371 -0.00174 0.08056 C -0.00191 0.0838 -0.00208 0.08727 -0.00347 0.08982 C -0.0158 0.1132 -0.04028 0.1294 -0.06042 0.13334 C -0.08559 0.13056 -0.0816 0.13588 -0.09479 0.11042 C -0.09809 0.10417 -0.10122 0.09676 -0.10347 0.08982 C -0.10503 0.08542 -0.10694 0.07593 -0.10694 0.07593 C -0.10503 0.01621 -0.10521 0.04075 -0.10521 0.00232 E">
                                      <p:cBhvr>
                                        <p:cTn id="21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0747 -0.01088 C 0.00677 0.01667 0.0066 0.04468 0.00556 0.07246 C 0.00538 0.07547 0.00417 0.07801 0.00382 0.08102 C 0.00226 0.09237 0.00538 0.10556 0.00018 0.11505 C -0.0033 0.1213 -0.01041 0.13496 -0.01215 0.14098 C -0.01285 0.14306 -0.01285 0.14561 -0.01406 0.14723 C -0.02048 0.15463 -0.03194 0.16297 -0.0408 0.16667 C -0.05868 0.16598 -0.07656 0.16644 -0.09444 0.16436 C -0.09965 0.16366 -0.11285 0.14746 -0.11753 0.14306 C -0.12101 0.13982 -0.1283 0.13449 -0.1283 0.13473 C -0.13038 0.12732 -0.13368 0.12223 -0.13559 0.11505 C -0.13455 0.07709 -0.13837 0.04028 -0.1283 0.00417 C -0.13021 0.00255 -0.13385 -0.00023 -0.13385 -4.07407E-006 E">
                                      <p:cBhvr>
                                        <p:cTn id="21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773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 what do we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924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happens to the whole numb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happens to the decim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508464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t’s see what happens if it’s just a decimal we multiply by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930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296" dur="1574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33336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184464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1337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88080" y="2205000"/>
            <a:ext cx="7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67720" y="2276640"/>
            <a:ext cx="7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22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34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34136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213000"/>
            <a:ext cx="288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Rememb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 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22100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7 point nothing for 7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580000" y="3068280"/>
            <a:ext cx="50472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1417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55879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5229360"/>
            <a:ext cx="36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55879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5516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55879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2560" y="558792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55879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55897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272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41" dur="1574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19 0.02289 -0.04149 0.03121 -0.06493 0.03722 C -0.10903 0.03537 -0.11441 0.0474 -0.13681 0.01618 C -0.13993 0.0037 -0.14028 -0.00486 -0.14722 -0.01411 C -0.14896 -0.02058 -0.1526 -0.02382 -0.1526 -0.03052 E">
                                      <p:cBhvr>
                                        <p:cTn id="39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0.00416 -0.01007 0.00948 -0.01579 0.02104 C -0.01736 0.02427 -0.02048 0.02543 -0.02274 0.02797 C -0.02413 0.02936 -0.02482 0.0319 -0.02638 0.03283 C -0.02968 0.03514 -0.0368 0.03745 -0.0368 0.03745 C -0.05607 0.03676 -0.07569 0.03907 -0.09479 0.03514 C -0.09895 0.03422 -0.10052 0.02728 -0.10347 0.02335 C -0.10468 0.02173 -0.10711 0.01873 -0.10711 0.01873 C -0.10816 0.01271 -0.10833 -0.00463 -0.11406 -0.00463 E">
                                      <p:cBhvr>
                                        <p:cTn id="39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981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n’t s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1773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 hundreds and 1 f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141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point nothing f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05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ou have a try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0930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2421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280" y="580536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would you say was the ans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1480" y="4797360"/>
            <a:ext cx="30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0.35 x 10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79" dur="15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8:08:57Z</dcterms:created>
  <dc:creator>Angie Gore</dc:creator>
  <dc:description/>
  <dc:language>en-US</dc:language>
  <cp:lastModifiedBy>Angie Gore</cp:lastModifiedBy>
  <dcterms:modified xsi:type="dcterms:W3CDTF">2006-11-20T20:34:5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989925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