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690-E504-4DCE-8157-3BDC429D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64E-DFB4-48BF-B962-7CEBE246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DB8-B9C5-41D5-87E3-1396B8F7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313-8929-4E0F-8270-3A5D19ED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71B-E7F2-4387-B6A6-FC257EB0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EBF-50D7-49A0-ACB1-F6AE0B6A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E8B-5BEB-4C17-906E-74DBF55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673-BD42-4406-BC71-47738F23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F08-B3E7-4BA5-B701-D0285AF3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F55-62A4-47BC-8C44-4F29023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E15-A111-4160-BCC6-236DFC8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F38-AF97-45D6-A75D-D0C534B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1BF-438F-4505-8C50-71A2E1F9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Make these times on your clocks!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2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1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3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02-27T08:08:06Z</dcterms:modified>
  <cp:revision>2</cp:revision>
  <dc:subject/>
  <dc:title>Make these times on your clocks!    </dc:title>
</cp:coreProperties>
</file>