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6F1-BA6A-404D-B3BD-B6EC61CA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CB4-5683-484D-8749-338F94A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82F-6CAA-44AA-9CBE-3DCD556E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561-692B-4C30-B8FD-9D20866A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13F-4035-462E-9913-21B9D3AD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F1D-1F1B-44B6-83A1-C7910EE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EC0-E7D6-4695-9C17-E779B85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F1E-1A92-459D-ACFE-1AEF0A9A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A36-70FB-4C6D-9D95-2CDAFE2B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3F7-460F-47AB-8AAE-8E8821A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680-DB86-42BF-BD48-7716A0D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2FD-A032-4F21-93F8-0D9430A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D90-AC21-490B-9AC3-7E7DC0BBA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Can you make these times?</a:t>
            </a: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64500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35772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TEACHER</cp:lastModifiedBy>
  <dcterms:modified xsi:type="dcterms:W3CDTF">2008-01-13T20:58:03Z</dcterms:modified>
  <cp:revision>4</cp:revision>
  <dc:subject/>
  <dc:title>Make these times on your clocks!    </dc:title>
</cp:coreProperties>
</file>