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FA9-A74A-4DA3-A2CB-E1C5AB84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E46-0C2A-4E7B-A29A-1324717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BEB-6DE3-4A2E-9B43-30212B13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0FF-0561-4CA9-A6E8-954D8875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C46-02AF-4AE3-8680-105E75CD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571-CD47-4EAD-A046-3CC5EE6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C9E-7CA7-4737-81A2-16D57CD5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ED1-341B-4E29-A6A9-63821C47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88C-EE99-4E68-BD1F-989DF9AC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143-34C2-450B-9837-9D1868CF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5B9-300B-43F8-9449-1FFBD2AB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152-07A5-4AF6-BC80-4A49B86E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ED30-30F2-479C-9467-0B713108B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lf past or o’clock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3:26:39Z</dcterms:created>
  <dc:creator>TEACHER</dc:creator>
  <dc:description/>
  <dc:language>en-US</dc:language>
  <cp:lastModifiedBy>Staff</cp:lastModifiedBy>
  <dcterms:modified xsi:type="dcterms:W3CDTF">2006-01-09T08:55:09Z</dcterms:modified>
  <cp:revision>1</cp:revision>
  <dc:subject/>
  <dc:title>Half past or o’clock? </dc:title>
</cp:coreProperties>
</file>