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534-7F84-4A69-A3E5-D011432D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CDD-E68B-4140-A3A4-AFCDE404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EB3-00FF-4C24-AE02-0F258582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8E3-F90C-4DE5-9DED-CAF6057F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9E6-1450-4E9F-92DD-2648D3A5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316-3875-45F3-91F0-93866375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D3F-40CC-46BA-A160-565CE40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FAF-9261-4F72-9215-EBC36AB0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A68-B7BA-4D8B-A48B-3CA41022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76B-C55B-484D-BF21-B1A8B7C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81B-3518-49F1-9528-A1048AD8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018-344A-4369-A4E0-CB66FA18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38E8-CD2A-42B1-80CE-C06EB8D34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Half past or o’clock?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42900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Staff</cp:lastModifiedBy>
  <dcterms:modified xsi:type="dcterms:W3CDTF">2006-11-13T07:54:56Z</dcterms:modified>
  <cp:revision>3</cp:revision>
  <dc:subject/>
  <dc:title>Make these times on your clocks!    </dc:title>
</cp:coreProperties>
</file>