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AEE-F41E-43FB-9086-1C1EEE32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DEA-629B-4F6C-BA19-CC7BF5F5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632-199E-4066-B21A-99A23066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083-E054-4777-9B48-CB8000A0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46D-CD81-4694-B43B-6F35A01B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12F-2DA7-4E1A-A657-4BE87D8E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E8E-49BE-4272-807F-02EA6B3A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C43-18BE-49BC-BECA-BD2CE893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41B-48A6-4DB7-BA9D-3979F3A6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55F-653D-442B-8DAC-1EEC154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E39-56E0-4220-A2F2-12C980A6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3D8-9ACB-477C-92FE-6E2F179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DCDD-C028-4975-8C2F-80B8DEBB1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What time is it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284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768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7792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2:22:18Z</dcterms:created>
  <dc:creator>TEACHER</dc:creator>
  <dc:description/>
  <dc:language>en-US</dc:language>
  <cp:lastModifiedBy>Staff</cp:lastModifiedBy>
  <dcterms:modified xsi:type="dcterms:W3CDTF">2005-11-16T07:47:02Z</dcterms:modified>
  <cp:revision>1</cp:revision>
  <dc:subject/>
  <dc:title>What time is it? </dc:title>
</cp:coreProperties>
</file>