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2FB3-8DD6-47C7-A4C4-929C1378A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0438-4CC1-4681-A5A6-D08E360B9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9740-97BB-43A5-B74F-39075A827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FE7A-4FFC-409A-BD5D-000F3A9FB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B664-5E6B-4D4E-A5AE-5430828DC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71D7-A5CB-4B6D-A1EE-C481D8EBB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4FD3-2858-4471-9E16-F22E567B5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435A-146D-4A23-BA7B-52DC80957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FF90-7F63-451B-AB98-200F4E466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DC73-88D9-4F54-AE69-B50C2703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2ACD-E5DC-4B4C-8B1E-AEBC6C74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DD7F-4316-4A53-A4CA-9105E43C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617B-CE8C-4119-94FD-D55851B10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2130120"/>
            <a:ext cx="8642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People Who Help Us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79640" y="333360"/>
            <a:ext cx="461484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4451400" cy="59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771640" y="404640"/>
            <a:ext cx="42181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411280" y="333360"/>
            <a:ext cx="4322880" cy="57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979640" y="333360"/>
            <a:ext cx="461484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771640" y="404640"/>
            <a:ext cx="42181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979640" y="333360"/>
            <a:ext cx="461484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771640" y="404640"/>
            <a:ext cx="42181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4451400" cy="59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771640" y="404640"/>
            <a:ext cx="42181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ke a tally chart of the people you se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79640" y="3141720"/>
            <a:ext cx="2054160" cy="2733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68360" y="3213000"/>
            <a:ext cx="2000160" cy="2664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564000" y="2924280"/>
            <a:ext cx="2233440" cy="2973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292720" y="3068640"/>
            <a:ext cx="2111400" cy="2811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6659640" y="2781360"/>
            <a:ext cx="223344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411280" y="333360"/>
            <a:ext cx="4322880" cy="57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4451400" cy="59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979640" y="333360"/>
            <a:ext cx="461484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11280" y="333360"/>
            <a:ext cx="427356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979640" y="333360"/>
            <a:ext cx="461484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2130120"/>
            <a:ext cx="8642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Did you watch carefully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28036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many postmen did you see?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many policemen did you see?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How many vets did you see?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How many firemen did you see? 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many doctors did you s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659640" y="4941720"/>
            <a:ext cx="485640" cy="6462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732720" y="836640"/>
            <a:ext cx="811080" cy="10796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6804000" y="2133720"/>
            <a:ext cx="665280" cy="8856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6012000" y="2924280"/>
            <a:ext cx="544320" cy="7239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6443640" y="3860640"/>
            <a:ext cx="66528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2130120"/>
            <a:ext cx="8642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Watch carefully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411280" y="333360"/>
            <a:ext cx="4322880" cy="575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79640" y="333360"/>
            <a:ext cx="461484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771640" y="404640"/>
            <a:ext cx="42181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68360" y="333360"/>
            <a:ext cx="4451400" cy="59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79640" y="333360"/>
            <a:ext cx="461484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771640" y="404640"/>
            <a:ext cx="42181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22:20:55Z</dcterms:created>
  <dc:creator>TEACHER</dc:creator>
  <dc:description/>
  <dc:language>en-US</dc:language>
  <cp:lastModifiedBy>Staff</cp:lastModifiedBy>
  <dcterms:modified xsi:type="dcterms:W3CDTF">2007-01-17T07:41:28Z</dcterms:modified>
  <cp:revision>1</cp:revision>
  <dc:subject/>
  <dc:title>People Who Help Us!</dc:title>
</cp:coreProperties>
</file>