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E64F-0E07-499D-8969-DBAFF6870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E3A-B43D-46EB-BCA5-A8EAF25E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0966-99EF-4190-BAA7-E7123225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324C-0961-445A-BFC2-306D747ED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CF1E-7572-4044-B39E-92FC821E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65B4-E401-4240-84C5-47EA16F6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25E-12AA-45B5-B019-5AC2542A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4433-1EFA-48F5-B9C2-805DEEFF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C3F4-9040-4D43-8B95-6FBE6FCC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0F3-20BD-4982-B4D4-26A78A8C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C99-8CF7-4FA4-90BA-26607296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650-E008-4A5E-88BB-97A6C5F3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D504-3BBC-4F04-B691-7E7ED1219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Make a tally chart to record the different coloured cars!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7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91344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9792 -0.00092 L 5E-006 -1.11111E-006 E">
                                      <p:cBhvr>
                                        <p:cTn id="8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79371E-006 L -0.9606 -0.01133 E">
                                      <p:cBhvr>
                                        <p:cTn id="90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75 -0.01688 L -1.11111E-006 -4.04624E-007 E">
                                      <p:cBhvr>
                                        <p:cTn id="9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0.97656 0.00416 E">
                                      <p:cBhvr>
                                        <p:cTn id="10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10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110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75 -0.01688 L -1.11111E-006 -4.04624E-007 E">
                                      <p:cBhvr>
                                        <p:cTn id="11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0.97656 0.00416 E">
                                      <p:cBhvr>
                                        <p:cTn id="120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32000" y="-316080"/>
            <a:ext cx="655308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908 -0.04325 L -3.05556E-006 3.27475E-006 E">
                                      <p:cBhvr>
                                        <p:cTn id="12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6.93802E-007 L 0.84271 -6.93802E-007 E">
                                      <p:cBhvr>
                                        <p:cTn id="130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13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14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75 -0.01688 L -1.11111E-006 -4.04624E-007 E">
                                      <p:cBhvr>
                                        <p:cTn id="14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0.97656 0.00416 E">
                                      <p:cBhvr>
                                        <p:cTn id="150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91344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9792 -0.00092 L 5E-006 -1.11111E-006 E">
                                      <p:cBhvr>
                                        <p:cTn id="15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79371E-006 L -0.9606 -0.01133 E">
                                      <p:cBhvr>
                                        <p:cTn id="16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166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17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atch carefully!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Count how many of each colour car you saw!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4167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04 0.00301 L 4.44444E-006 -2.22222E-006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4875E-006 L 1.41354 0.00301 E"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913440" cy="56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9792 -0.00092 L 5E-006 -1.11111E-006 E">
                                      <p:cBhvr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79371E-006 L -0.9606 -0.01133 E">
                                      <p:cBhvr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75 -0.01688 L -1.11111E-006 -4.04624E-007 E">
                                      <p:cBhvr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0.97656 0.00416 E">
                                      <p:cBhvr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1597 0.00833 L 2.5E-006 -2.45143E-006 E">
                                      <p:cBhvr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45143E-006 L 1.20486 0.01874 E">
                                      <p:cBhvr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4167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04 0.00301 L 4.44444E-006 -2.22222E-006 E">
                                      <p:cBhvr>
                                        <p:cTn id="5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4875E-006 L 1.41354 0.00301 E">
                                      <p:cBhvr>
                                        <p:cTn id="6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792144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75 -0.01688 L -1.11111E-006 -4.04624E-007 E">
                                      <p:cBhvr>
                                        <p:cTn id="6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0.97656 0.00416 E">
                                      <p:cBhvr>
                                        <p:cTn id="70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7:15:01Z</dcterms:created>
  <dc:creator>TEACHER</dc:creator>
  <dc:description/>
  <dc:language>en-US</dc:language>
  <cp:lastModifiedBy>TEACHER</cp:lastModifiedBy>
  <dcterms:modified xsi:type="dcterms:W3CDTF">2008-02-05T17:26:09Z</dcterms:modified>
  <cp:revision>9</cp:revision>
  <dc:subject/>
  <dc:title>Slide 1</dc:title>
</cp:coreProperties>
</file>