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581-B3DF-4759-9118-02496CAA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C74C-531F-4298-B482-83254073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401-DD2C-4CCE-87C5-20E79738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A615-AEC7-4F50-9EE9-6EAD541D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8E59-9CE2-4C3B-B9A8-28F1ACE3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CE3-3640-4558-984D-38E3420A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FE03-4C5C-4B50-83EA-A171E0F9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87CC-C394-4D80-B279-5D311BD9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F09C-2250-4E0B-B630-3EA1CD81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26D-BE7C-4F4F-BF74-139B89AA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A86-335C-45FE-B162-A01BCA68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FA6-DCED-47E5-9604-5C2BBBF7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ADA6-0F17-4E8E-ADF1-4D73EFEAA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810240" cy="952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95640" y="191628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learn about balancing on different parts of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3810240" cy="952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4149720"/>
            <a:ext cx="889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an balance using a large part of my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an balance using a small part of my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an hold my balances for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an smoothly link my movements before and after my balance to my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76244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1905120" cy="952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24000" y="57340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 that an adult must check that the gym equipment has been set up safely before you us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02:26:54Z</dcterms:created>
  <dc:creator>Matt Lovegrove</dc:creator>
  <dc:description/>
  <dc:language>en-US</dc:language>
  <cp:lastModifiedBy>Matt Lovegrove</cp:lastModifiedBy>
  <dcterms:modified xsi:type="dcterms:W3CDTF">2006-04-27T02:37:19Z</dcterms:modified>
  <cp:revision>3</cp:revision>
  <dc:subject/>
  <dc:title>Slide 1</dc:title>
</cp:coreProperties>
</file>