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E4F-2A0B-44BD-A99C-31E61B76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E99-3242-4E5B-8EA3-269F2584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00E-A723-4AE3-8C86-BF4896B5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9AF-3615-43DD-A058-B87EEA5B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408-11A8-471D-ADFA-DA447DC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9FF-2920-46A8-8C2F-C746BC44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9CA-A2C4-4EAE-84B5-40BCD44E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F68-B420-48A7-B056-F744413B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B77-85A8-4890-BE43-9DC5B0A5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5FD-B9AA-417C-A45F-209C877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0DF-3656-489A-8B1B-99A9CA8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D41-855F-402A-A736-B149B02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C3E9-B62E-4685-A80C-EC41A58C8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583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tting on and falling out  -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ble to use my skills for solv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peacefully to help other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ve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r El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didn’t mean to hurt you. I just said it without thinking. I didn’t know that Martyn was standing behind the bookshelves listening to what I was saying. I know you told me never to tell anyone but I thought you wouldn’t mind if I told Honesty because she was crying. I thought if she knew that your mum and dad were going to split up then it would make her feel better now its happening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am so sorry. Please talk to me tomorrow. I don’t think I can stand another day lik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.  Who are the characters in the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.  How did Elly find out what Becky had s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.  Why do you think Elly was up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.  What did Elly do when she fou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in pairs to consider what Elly shou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when she rece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tter. Work out a role-play of what she should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eaceful problem-solv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cess poster to help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join with another pair to share your role-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ach pair will take turns to observe the other pair’s role-play and will use the ADI (Advantages/Disadvantages/Interesting) sheet to record their thou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end of each observation you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ify ONE key point from the other pair’s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try this activity again but using this l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ar Maj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didn’t mean to hurt you. I didn’t know you cared so much about it. If I did I would have made sure that you played the Artful Dodger in our play. I know you are good at acting but Miss Hall said that I must make sure I was fair. I thought that Alan would be good because he is small and can make people la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still want to be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mj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role-play or write a script of how a conversation between Majid and Ramjid might develop - first if they d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s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aceful problem solving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and then if they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ember the “hotting up” and “cooling down” respon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1989000"/>
            <a:ext cx="5759280" cy="28062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add to the lis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tting up / cooling dow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ses to conflict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ready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6:56:43Z</dcterms:created>
  <dc:creator>freddaynes</dc:creator>
  <dc:description/>
  <dc:language>en-US</dc:language>
  <cp:lastModifiedBy>Pitchford</cp:lastModifiedBy>
  <dcterms:modified xsi:type="dcterms:W3CDTF">2007-01-11T09:25:26Z</dcterms:modified>
  <cp:revision>6</cp:revision>
  <dc:subject/>
  <dc:title>Slide 1</dc:title>
</cp:coreProperties>
</file>