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816-5210-433C-9A4F-A385DE49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41A-5C76-46A5-898F-FB94882B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874-6F82-4EBC-8F64-00E76F1F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CAF-CA69-4E7C-A11D-DEC1846C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A76-6CE5-4C3B-80A1-ECCBF0CE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ACA-229F-4AFE-9DB6-F16FB1D6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A2D-C96C-4025-A1F5-0AA208AF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F70-8790-457B-A9D3-BA406C0C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BA8-924C-4CC2-9F3E-332CC139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782-1095-49ED-9FE5-293C145C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37F-D50B-4218-A288-83FB033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747-420B-440D-B896-9FCAC2C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27E4-A02A-41CE-B453-ABA078061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etting on and falling out 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at my relationships are all different and that different ways of behaving are appropriate to different types of relation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ccept and appreciate people’s friendship and try not to demand more than they are able or wish to g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about all the friends you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ir names on the back of the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about these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like all your friends in the sam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like doing the same things with all your frie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tend to see some friends only in certain situ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uld you want to see all of your friends all the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s of Friend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907920"/>
            <a:ext cx="5905440" cy="5113440"/>
          </a:xfrm>
          <a:prstGeom prst="donut">
            <a:avLst>
              <a:gd name="adj" fmla="val 15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2276640"/>
            <a:ext cx="2592360" cy="23763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names or initials for these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cir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closest to you : immediate family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iends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you l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who are close to you : cousins : good friends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you like a 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you know quite well : see a lot : get on O.K. with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mates : distant rel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aintances : people you know a bit e.g. the postma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doctor , children in Y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79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endships work at different levels - this is O.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may not want to be “best friends” with all our friends – some people prefer to have just one close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og had to be put down by the vet and you were very sad, who would you want to come and see you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evel of friendship would these people be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ould you give your favourite toy or game or money to if they felt really s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evel of friendship would this person be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.  Who would you expect to give you their favourite toy if you were feeling s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endship problems may arise when one person “expects too much” of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to respect what other people can giv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not demand that someone is a closer friend than they really are however much we would like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1-03T18:14:28Z</dcterms:modified>
  <cp:revision>7</cp:revision>
  <dc:subject/>
  <dc:title>BASEAL</dc:title>
</cp:coreProperties>
</file>