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B42-50C2-4F45-83FE-A60A37C2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980-E657-4D76-87F8-7C97021F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F65-2AD0-42B1-B441-B8B67E33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9CC-FB81-4094-B44C-F88801A8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168-24D8-452E-B171-E359CD34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A47-A603-40AC-ABAD-1CD00C6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F86-A0DD-41BA-87E5-F6905B8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AF8-CC0D-4EA9-80BC-C0341E8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460-5E3B-4E6E-871D-A505512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BFC-9899-4E61-BF0D-BCB5D2B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460-B138-43B2-A1B6-E193B68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673-4842-4B53-A313-A567596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3A42-6F36-4D43-B5CB-289BB6FE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data_folder/downloads/photocards/seal_angry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8137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ting on and falling out  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Arial"/>
              </a:rPr>
              <a:t>You could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125360"/>
            <a:ext cx="7993080" cy="470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add any ideas of your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ould make a poster display of your ideas using a red background for “hotting up” and a blue one for “cooling dow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eard any of the responses in the classroom you could put a sticker next to it and we could see how ‘hot’ or ‘cool’ we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8137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can do things and say things that are likely to make a difficult situation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can tell you things that I or other people sometimes do or say in a conflict situation that usually make things wo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data_folder\downloads\photocards\seal_angry1.jpg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00" y="127080"/>
            <a:ext cx="84456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53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92040"/>
            <a:ext cx="8353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353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makes people angry in conflict situ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do people do to make matters wor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can people do to make matter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record ou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w two columns then write these hea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ngs that make conflict worse     Things that can reduce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tting 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Cool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84280"/>
            <a:ext cx="71280" cy="424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15880"/>
            <a:ext cx="8229600" cy="55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words in their correct column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wea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ing cal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-cal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ng respec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“you always…”  or “you never…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so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understand the other person’s point of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what you would like to h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ry body language and gestures - pointing, leaning forward, clenching fist, scowling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nding too close.             Admitting the things you did wer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some common ground - saying “I know we would both like to sort this ou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oo close to the other person.       Making a “peace offering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ssuming the other person has deliberately set out to be horr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ing to make am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ing over the other pers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lm “non-angry” body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1:44:57Z</dcterms:created>
  <dc:creator>freddaynes</dc:creator>
  <dc:description/>
  <dc:language>en-US</dc:language>
  <cp:lastModifiedBy>Pitchford</cp:lastModifiedBy>
  <dcterms:modified xsi:type="dcterms:W3CDTF">2007-01-11T09:24:37Z</dcterms:modified>
  <cp:revision>7</cp:revision>
  <dc:subject/>
  <dc:title>Slide 1</dc:title>
</cp:coreProperties>
</file>