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188-5846-4E60-AA5C-32EF38B7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9BE-31FE-4D02-BB94-07829E5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B7F-3239-46FE-95E0-7F068C6B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1A9-9725-4459-B4BF-F448391B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145-A488-4094-A717-1932E89E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163-4B4F-463F-9EFE-78ACC24C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7BA-BC0F-4012-8395-8CD1656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D60-97A1-4F5D-9205-EF89F05B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424-F0CF-4DE6-9B3E-759F93E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E7D-CDB6-4100-9D86-76732E1C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D37-F1F5-4312-B79E-52AE535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FE7-D7F4-4145-9CF5-124FA90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EBC9-450B-4D01-891F-B5C70DC988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etting on and falling out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of the way anger works on our bodies we may think we don’t care at the time but the long-term consequences will affect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find alternative ways to deal with situations that don’t end with us in trou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I am responsible for th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s I make and the way I beh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f I am very a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Mia told Tom a joke in history and Tom got sent out for laughing, he said it was Mia’s fault – because she made him la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k is respon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          Give your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en Richard said “ Your mum…….” to Merle for the fifth time, she walked over and carried out her threat to punch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 made me do it….he just wouldn’t stop and I had warned hi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d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k is respon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?            Give your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we blame others for what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is question within your group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be prepared to explain you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conclusions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would be helpful if you produced a shor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y scene to illustrate your fi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We are all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responsib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for our own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 action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ther we like it or not we are responsible for our own actions even when we are pushed to the limit, even when we are a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have many more skills to enable you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l with anger now than when you wer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ddler or in Year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ch 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1-16T22:53:04Z</dcterms:modified>
  <cp:revision>13</cp:revision>
  <dc:subject/>
  <dc:title>BASEAL</dc:title>
</cp:coreProperties>
</file>