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D26-1342-4C35-9DC4-A728142B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D07-ABF4-4E5A-BB41-42074C8B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584-23D2-415E-A1B7-1CDBF8DC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963-8424-4830-8B3F-4B66C3B0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E20-59C1-47F9-AF8B-BA37E0BD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083-9B9C-4A07-9F69-D0C2E4F7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8BA-7675-42E9-909D-F8A1049F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31D-DFDC-491F-AB1D-D8925AB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0A0-C709-459D-9EAF-65C53817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307-EDE0-4718-8F05-74A13D49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DD4-7691-4E50-AB48-3BBA76D7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444-42C4-4F6C-BA46-4A022A7F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289C-DE5F-4252-B0E8-40C908134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oing for Goals! 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ble to apply what I have lear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what I need to learn n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need to identify and record what has bee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ed in this theme “Going for Goal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have done that we will split into groups and each grou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giv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hings we have identified to discu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will need to think how we can apply what has been learne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e ready to present their conclusions to the rest of the 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lass we will then choos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ursue and we’ll al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how to do 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of the things you might think about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set their own goals for thei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identify their own strengths and set a goal for how they are going to improv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take on extended pieces of work and plan how they are to keep g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set themselves time targets for some pieces of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class to set attendance, punctuality or behaviour targets and plan how to achiev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consider and agree their own rewards for meeting goals and 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76280"/>
            <a:ext cx="1873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u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dentify ways you can pass on you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thers in the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begin a new piece of work think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pebble’ you might need for that particular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work is finished think how well you used th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you identifi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think about these thing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should you set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happen if you didn’t have a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you always know what you want to achieve before you st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etter : to set a difficult goal and fail to reach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n easy goal and succ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O.K. to change your m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2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co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you set yourself any goals in other areas of the curriculum or at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keep g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could you have made it easier to keep g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2-16T15:01:04Z</dcterms:modified>
  <cp:revision>10</cp:revision>
  <dc:subject/>
  <dc:title>BASEAL</dc:title>
</cp:coreProperties>
</file>