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182B4-C906-4650-B1CE-19E295CA7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0AFC2-05E0-4782-BB69-56F531092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84AE4-E781-4ECB-A301-B13B0D094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40124-B6D1-4782-A827-00EBA10A9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150CC-2F6E-40F2-BB32-5505A7CC9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433F5-CCB3-4461-A3E9-C75C9F107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795CA-8925-47C6-85F9-6B03290FA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16503-57DA-4A4D-AA3E-790CCFB9E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15957-082E-48D2-9D06-F45616183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D6A77-0D94-4B7C-962C-F195880C3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60207-8AF9-4747-AB0C-60A2F4EAC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2630C-110F-4E27-A41A-BA5DDDD8B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3920-8AFF-48E8-B020-C91EAD1C33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EAL</a:t>
            </a:r>
            <a:br>
              <a:rPr sz="4000"/>
            </a:br>
            <a:br>
              <a:rPr sz="4000"/>
            </a:br>
            <a:r>
              <a:rPr b="1" lang="en-US" sz="4000" spc="-1" strike="noStrike">
                <a:solidFill>
                  <a:srgbClr val="000000"/>
                </a:solidFill>
                <a:latin typeface="Arial"/>
              </a:rPr>
              <a:t> Going for Goals!  - 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1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o be able to recognise and celebrate m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wn achieveme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o know what some of the people in my cla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ke or admire about 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be able to set myself a goal or a challe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u="sng">
                <a:solidFill>
                  <a:srgbClr val="000000"/>
                </a:solidFill>
                <a:uFillTx/>
                <a:latin typeface="Arial"/>
              </a:rPr>
              <a:t>Hall of Fame!  /  Roll of Honou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400" spc="-1" strike="noStrike">
                <a:solidFill>
                  <a:srgbClr val="000000"/>
                </a:solidFill>
                <a:latin typeface="Arial"/>
              </a:rPr>
              <a:t>It would be a good idea to have one of these for the class. Each person could have an entry. It would tell other people what we think are our own best achievem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get us started here are some things that might be includ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ersonal goa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ork goa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earning goa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amily / friend achiev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260280"/>
            <a:ext cx="8229600" cy="586584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You will need to be in a group of 5 or 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person has a “Certificate of Excellence” with thei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 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mbers of the group take turns to write a positi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ent about that person on the certificate th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ss it 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erson whose certificate it is will add something the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e proud of and a picture or photo of themselv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ertificate can then go in our Hall of Fame.</a:t>
            </a:r>
            <a:endParaRPr b="0" lang="en-US" sz="2400" spc="-1" strike="noStrike">
              <a:solidFill>
                <a:srgbClr val="000000"/>
              </a:solidFill>
              <a:latin typeface="Arial"/>
            </a:endParaRPr>
          </a:p>
        </p:txBody>
      </p:sp>
      <p:sp>
        <p:nvSpPr>
          <p:cNvPr id="45" name=""/>
          <p:cNvSpPr/>
          <p:nvPr/>
        </p:nvSpPr>
        <p:spPr>
          <a:xfrm>
            <a:off x="6443640" y="476280"/>
            <a:ext cx="1873440" cy="15555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79280" y="189000"/>
            <a:ext cx="8785440" cy="6480000"/>
          </a:xfrm>
          <a:prstGeom prst="rect">
            <a:avLst/>
          </a:prstGeom>
          <a:ln w="0">
            <a:noFill/>
          </a:ln>
        </p:spPr>
      </p:pic>
      <p:sp>
        <p:nvSpPr>
          <p:cNvPr id="47" name=""/>
          <p:cNvSpPr/>
          <p:nvPr/>
        </p:nvSpPr>
        <p:spPr>
          <a:xfrm>
            <a:off x="755640" y="836640"/>
            <a:ext cx="5545080" cy="478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Certificate of Excelle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__________________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48" name=""/>
          <p:cNvGraphicFramePr/>
          <p:nvPr/>
        </p:nvGraphicFramePr>
        <p:xfrm>
          <a:off x="6659640" y="981000"/>
          <a:ext cx="1800000" cy="2232000"/>
        </p:xfrm>
        <a:graphic>
          <a:graphicData uri="http://schemas.openxmlformats.org/drawingml/2006/table">
            <a:tbl>
              <a:tblPr/>
              <a:tblGrid>
                <a:gridCol w="1800000"/>
              </a:tblGrid>
              <a:tr h="223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60280"/>
            <a:ext cx="8229600" cy="586584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Now ….  IMAG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are setting off in a time machin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door shuts and you can hear the time machine shaking and rolling as it begins to move. You are going forward in time. The machine stops shaking. When you open the door and step out you realise you are back in this classroom but things are differen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t is the future, when you are 50 years old. You notice a display on the board. It is of all the children in your class. You see your photograph there. Underneath there is a list of some of your achievements in your lif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pend a little time thinking about some of the achievements you would like to have under your name by the time you are 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260280"/>
            <a:ext cx="8362800" cy="586584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rite down your ide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member to include personal or work achievements, learning achievements and thoughts about family or frie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09:45:52Z</dcterms:created>
  <dc:creator>freddaynes</dc:creator>
  <dc:description/>
  <dc:language>en-US</dc:language>
  <cp:lastModifiedBy>Nicky D</cp:lastModifiedBy>
  <dcterms:modified xsi:type="dcterms:W3CDTF">2006-12-16T14:59:49Z</dcterms:modified>
  <cp:revision>11</cp:revision>
  <dc:subject/>
  <dc:title>BASEAL</dc:title>
</cp:coreProperties>
</file>