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3EB-89A8-40E1-9084-5C37B222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CCD-CB6B-45E0-A4CB-20451FF7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AA8-D711-4990-8B0F-AE83C7F7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2D8-E5FD-466B-8A89-6E52DE0D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B62-8233-4FFF-B00E-EAB9D55D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3A0-8711-4DAB-B3D4-A8B8A05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E3B-B19B-4EB0-A954-3A418F06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E41-C6D7-47A4-97A6-3491BADC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BC8-F941-42F9-8C5A-2AD84FCA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AC0-3EC7-40E0-9A70-D5FD0E8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E72-9038-465A-8F99-44DE657A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468-E190-44D1-A4E7-BDA51B7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BA50-18F3-4B10-B0FD-35006D0F0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ble to set myself a goal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97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need to work with a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 of someone famous you admi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llowing questions to help you share what you know about the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the person achie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o you respect them for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bstacles were in their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they overcome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helped them achieve their go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think the person said / did when they felt li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giving 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the person has done in achieving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goals that you think they should not have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qualities or attributes does the person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list 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ies might insp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chie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sa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 is one per cent inspiration and ninety-nine per cent perspir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2-16T14:57:43Z</dcterms:modified>
  <cp:revision>10</cp:revision>
  <dc:subject/>
  <dc:title>BASEAL</dc:title>
</cp:coreProperties>
</file>