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9A3-6970-4574-9373-C26DF7D0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5DF-D02D-4618-B6EB-6C8195D8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2B7-160D-41E7-BC64-9A0D6F6E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71D-BA2D-427C-9476-212E0AE3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81C-CC93-43C6-9B31-3C1CC17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A0A-C2E0-40E0-BB94-E42B8629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A97-A9EA-4981-8F01-843067A1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3F8-1510-4C68-9279-0F689CB0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D63-1107-4FC1-A5E2-D6E36249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FC8-9B8C-45B7-A45C-A2549121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248-2E70-48CE-83F3-86BB48E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99C-D1A8-4A80-9190-6203338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A908-265D-4311-BD63-B46ABB6C9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e skills and attributes of 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lear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ry to develop these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rcle ti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ess the m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person uses the object in the centr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le to mime an everyday activity. Whoev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esses the activity gets a “Well do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ailed guess gets a “Good tr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about how you feel when you are tol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done” or “Good tr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 these round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 guessed the action correctly I felt…….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 got the answer wrong I felt …… but wh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…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id  “Good try”  I felt ……..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557360"/>
            <a:ext cx="784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re going to read a story call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Fourth S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carefully while we are read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2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409680"/>
            <a:ext cx="82072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33360"/>
            <a:ext cx="806436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ider these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happened in the sto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son would you like to be best?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son had been given the most useful present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pirit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might have been written on the six peb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did the fourth son do and what skills did he use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ood learn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5905440" cy="612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1989000"/>
            <a:ext cx="2160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six most important skills involved in lea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put each one we agree with on a separate peb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2-15T19:50:16Z</dcterms:modified>
  <cp:revision>8</cp:revision>
  <dc:subject/>
  <dc:title>BASEAL</dc:title>
</cp:coreProperties>
</file>