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78-5510-4F55-AECA-3DAC8D2B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7F6-0E0E-44AE-B42D-C0ECF24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CA8-78FA-442F-91BF-18D5A28D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ECB-FAB6-4795-A584-88EE23C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D2C-EE6D-48F1-9DC7-EF8DA6C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1D4-E6A2-4286-95FB-8F5020DD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CCB-76D4-48A2-B4FF-CC60B19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E14-0DA4-420C-BE91-F3F22B0E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77B-FF49-4245-9E5D-02D01A0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912-59CC-4093-94CC-DEE0703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B39-E090-43A0-8BE7-669DFB6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9BB-4D84-4BC8-8E1B-F9C9946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A189-AB76-401F-8EF1-C81DFB3F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it down with your partner and hav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teacher 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ffective you were as a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critical friend to others and to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will need to be prepared to teach something new to some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class. You may need to use something we have in school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thing you have brought in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might consider some of th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Counting to 10 in a differe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aiding 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Using fingers to learn the 9x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Communicating through sig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king friendship brac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Rollerbl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Hula-hoo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66cc"/>
                </a:solidFill>
                <a:latin typeface="Arial"/>
              </a:rPr>
              <a:t>A magic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cc00"/>
                </a:solidFill>
                <a:latin typeface="Arial"/>
              </a:rPr>
              <a:t>A football technique or tr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A tune or rhythm on a musical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a cat’s cra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need to make a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ill you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What is their learning style? 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How will you tea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What will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ow long will it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How will you know you’ve succee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someone a skill isn’t as easy as you might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next slide are examples of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grid for you to fill in so that whoev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ying to teach you will know 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some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your own preferred learning sty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760" y="0"/>
            <a:ext cx="89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have an idea of the way your “pupil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s they learn best you may begin to tea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explain to the cl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aught (or learned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questions you might ask - or be asked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hard to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do it straight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feel if you couldn’t do it very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d you get better quickly and if so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el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feel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it easy to te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id you help  …….  to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emed the best approach to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Pitchford</cp:lastModifiedBy>
  <dcterms:modified xsi:type="dcterms:W3CDTF">2007-01-11T09:33:09Z</dcterms:modified>
  <cp:revision>11</cp:revision>
  <dc:subject/>
  <dc:title>BASEAL</dc:title>
</cp:coreProperties>
</file>