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6E6-8B4B-4878-BC5D-8BB71BA2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6E6-A5D1-4224-AE83-151D6D21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44D-5388-4C25-B2E5-62EA4C4E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4C1-62FF-4A07-AC08-30F1A1BD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4D9-334E-44E5-AE3C-2E663CE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513-20A6-47D0-A1B6-3BB542F7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2FA-6F16-4A6A-8B41-481E06A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51B-A9E7-4CD4-964F-B56235F9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A80-6CF6-4E8D-83E8-891D7D9B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59B-4980-4A9B-A996-7490048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CC6-25FB-4639-8DA7-0A2AB8B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548-185A-4E2E-A29B-5A46AD1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D9F-170B-431B-A1D1-ED2BC40A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could you make the girl feel better about herself by doing and saying kind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we can think of enough we may be able to put the girl back togeth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ut-downs necessa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they kind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an be racist or homophob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are a major source of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know how to make people feel good abou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recognise when I am using a put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ake us feel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compl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464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 that make us feel b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put-d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-downs migh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or texting something nasty or unkind about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something about the person’s family or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-c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ughing at someone or making fun of someone (imitating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ving someone out or not responding to someone when they tal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ling eyes et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a model and are going to read the story “Pick me up don’t put me dow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ime there is a “put-down” or something happens which makes the girl feel bad about herself we will remove one piece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we read the story you should notice the everyday ways we put people down and the effect it has on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freddaynes</cp:lastModifiedBy>
  <dcterms:modified xsi:type="dcterms:W3CDTF">2007-01-23T11:26:53Z</dcterms:modified>
  <cp:revision>12</cp:revision>
  <dc:subject/>
  <dc:title>BASEAL   Good to be me  -1</dc:title>
</cp:coreProperties>
</file>