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FCA3A-0A0D-4EB4-A93E-37AA4E07C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EBCC8-24D6-4C6E-A49A-ED0A6F141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5C5F2-822C-4ECD-89F0-8DDA639E7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0F6F7-E833-4A8D-BA1C-A2E248A0F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7235B-34E0-49C1-B94B-7BC0E9A5A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1CD61-731D-4413-8905-61407CAEF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70B78-4FC1-4E64-95B3-3ED958454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F2915-385D-462B-893E-8C4E90E89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4AAB9-0511-4E84-A7E8-1AD99374E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C7AFA-F21C-4B1A-87AF-3BD7F6A24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517E3-AB51-49D2-87E4-B21C000BA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69534-AC3C-453E-BB97-599E04E6F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4B23-A7DD-4695-9B87-60DEDAF7EB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Relationships  -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	</a:t>
            </a:r>
            <a:r>
              <a:rPr b="0" lang="en-GB" sz="36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400" spc="-1" strike="noStrike">
                <a:solidFill>
                  <a:srgbClr val="000000"/>
                </a:solidFill>
                <a:latin typeface="Arial"/>
              </a:rPr>
              <a:t>I can recognise stereotyping</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400" spc="-1" strike="noStrike">
                <a:solidFill>
                  <a:srgbClr val="000000"/>
                </a:solidFill>
                <a:latin typeface="Arial"/>
              </a:rPr>
              <a:t>I can try to challenge stereo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ften we stereotype people, that is we look at them and think we know what they are like before we’ve met or even spoken to them.  We can be completely wro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Let’s list some situations where we might stereotype someone and wh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nsider the similarities between a book cover and our public self. (What does “our public self” me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 book cover may give only one impression of   what is inside it but </a:t>
            </a:r>
            <a:r>
              <a:rPr b="1" lang="en-GB" sz="2800" spc="-1" strike="noStrike" u="sng">
                <a:solidFill>
                  <a:srgbClr val="000000"/>
                </a:solidFill>
                <a:uFillTx/>
                <a:latin typeface="Arial"/>
              </a:rPr>
              <a:t>we</a:t>
            </a:r>
            <a:r>
              <a:rPr b="0" lang="en-GB" sz="2800" spc="-1" strike="noStrike">
                <a:solidFill>
                  <a:srgbClr val="000000"/>
                </a:solidFill>
                <a:latin typeface="Arial"/>
              </a:rPr>
              <a:t> have some control over the messages we give about 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How?</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are going to read a story about stereotyp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called </a:t>
            </a:r>
            <a:r>
              <a:rPr b="1" lang="en-GB" sz="2800" spc="-1" strike="noStrike">
                <a:solidFill>
                  <a:srgbClr val="000000"/>
                </a:solidFill>
                <a:latin typeface="Arial"/>
              </a:rPr>
              <a:t>“Don’t judge a book by its co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Afterwards you are going work in groups to investigate stereotyp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hen your investigation is complete you will need to use the “Working together self-review checklist” to see how well you co-oper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7" name="" descr=""/>
          <p:cNvPicPr/>
          <p:nvPr/>
        </p:nvPicPr>
        <p:blipFill>
          <a:blip r:embed="rId1"/>
          <a:stretch/>
        </p:blipFill>
        <p:spPr>
          <a:xfrm>
            <a:off x="179280" y="260280"/>
            <a:ext cx="8785440" cy="64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157320" y="189000"/>
            <a:ext cx="8829360" cy="648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51" name="" descr=""/>
          <p:cNvPicPr/>
          <p:nvPr/>
        </p:nvPicPr>
        <p:blipFill>
          <a:blip r:embed="rId1"/>
          <a:stretch/>
        </p:blipFill>
        <p:spPr>
          <a:xfrm>
            <a:off x="1116000" y="476280"/>
            <a:ext cx="6840720" cy="576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freddaynes</cp:lastModifiedBy>
  <dcterms:modified xsi:type="dcterms:W3CDTF">2007-01-30T11:13:22Z</dcterms:modified>
  <cp:revision>12</cp:revision>
  <dc:subject/>
  <dc:title>BASEAL   Good to be me  -1</dc:title>
</cp:coreProperties>
</file>