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0A5-511D-47BD-AB5F-6652969E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8FB-ACAE-4190-82C9-01FE938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D2F-BFE3-4CCE-AA88-0CBD7569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865-B555-463D-8ACC-B3B54A8D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3C9-E3BA-4445-AEB1-F62DB48A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042-4E7D-44F1-AE6B-F73CBA2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95A-6CB7-4285-8FB8-87E2D1B3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7E6-02A5-426E-8CF1-615F3095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204-E51C-4B11-B101-4B5C204C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270-6237-4BAF-83FC-8831116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1B5-3D93-464D-9980-60FE0F8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C73-11AE-4039-88CD-3D136AD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827-A2F0-483B-812D-EC202ABF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03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975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eople often feel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GRY ………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at themselves or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A LOSS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they don’t know 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UNCOMFORTABLE …………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inside 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ll as “hot and bothered” on the outs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hap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ecognise some of these feelings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it that influences just how embarrassing we find a particula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’s list some ide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ually ou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is there or who sees and how much we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ir opin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ther what we did was intent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bad we think what we have done i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we “let ourselves down”? –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can this apply even if no-one kn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you think of some embarr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uations that we can rate on the ‘blushometer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Type list for slide 35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even more clos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these                                       feel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f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’ve   read                             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xt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ell you about a time I was embarrassed and what it felt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know some things to do when I am embarrassed that will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ake things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use a problem-solving approach to sort out 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barrassing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hink about what embarrasses me and learn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out me that I didn’t know bef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have helped someone who felt embarra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25636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046160"/>
            <a:ext cx="7129440" cy="47196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13800" cy="5329440"/>
          </a:xfrm>
          <a:prstGeom prst="rect">
            <a:avLst/>
          </a:prstGeom>
          <a:ln w="5724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people find it embarrassing to be praised out loud in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going to stand somewhere on an imaginary line on the floor depending on how embarrassed we feel about the following stat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mbarrassment levels are from “not at all” to “very muc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emen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your par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the cl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a few close fri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for work in a favourit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d you notice any patterns or gend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ces in where people st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some situations and not i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Insert magazin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or newspaper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article or video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clip re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embarrassmen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In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pairs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discuss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What can you or other people do when you feel   embarrassed?  What helps?  What makes it wo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) at the time (when you are feeling the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physical effects of embarrassm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) later on, when you are able to problem-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You might consider describing or acting out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strategies that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1800" spc="-1" strike="noStrike" u="sng">
                <a:solidFill>
                  <a:srgbClr val="3366cc"/>
                </a:solidFill>
                <a:uFillTx/>
                <a:latin typeface="Arial"/>
              </a:rPr>
              <a:t>at the time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of your embarrassment might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one noticing your situation and distracting others by do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thing that takes the spotlight off yo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hrugging your shoulders and laughing (at yoursel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Thinking “well everyone gets embarrassed about something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eep breath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mil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Ignoring it and walking a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aying something funny 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cknowledging that you feel embarra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later on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using the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    problem-solving process might b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sk someone not to do or say something as you find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mbarrassing (when it is not done or said intentionall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When you are embarrassed because you have let yourself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others down, admit that what you have done is wro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pologise and make am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do we feel if we are embarra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barrassment can have both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emotion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ffects on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 us try to list 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then make a “blushome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ment is so horrible that sometimes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we will do anything to avoid feeling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embarr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is means that we are vulnerable to being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bull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How could we avoid this happ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are embarrassed it is difficult to thin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sensibly and problem-s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Remember the work we did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“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ight” and “flight”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and the threats we sometimes f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have been overwhelmed by 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eelings it is sometimes difficult to think stra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at behaviour might embarrassment lead us to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907920"/>
            <a:ext cx="5040360" cy="5580360"/>
          </a:xfrm>
          <a:prstGeom prst="rect">
            <a:avLst/>
          </a:pr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Remember:    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Feelings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influence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our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behavio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68836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Let us look at the list of embarrass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situations you identified earlie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ey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With a partner discuss how people m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react to those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Be prepared to explain your fi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ing situations you identified earl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Work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Tell your partner something embarrassing that has happened to you or to someone you know. Then share your stories with another p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76280"/>
            <a:ext cx="8064720" cy="563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s a group choose one story and make a ‘freeze frame’ and a headline or caption to go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character should say what they are thin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Be prepared to share your work – perhaps in a ‘hot –seat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he rest of the class will try to guess what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y did the embarrassed person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behave as they d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as their motive a ‘fight’ or a ‘flight’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response to a th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One of you will play the part of a person who helps the embarrassed person to feel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need to notice how the embarrassed person responds to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at dangers are there in trying to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en you go home tonight ask mum or dad      about their most embarrassing mo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gns of 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b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ushing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king…    stamm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We could help someone who is in an embarrassing situation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Role-playing a scene from a morning tele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ogramme discussing what the person could 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written response, in the style of an ag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aunt or unc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self-help sheet for someone fe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mbarrassed - what can people say or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themselves when they are in this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set up a class book of embarrass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of you can write or draw about an embarrassing moment you or someone you know has h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collect your ideas and put them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 book for the class to look 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In what way do adults inadvertently embarrass child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writing an open letter to all adults ‘advising’ them on what children find embarrassing and suggesting what adults should do inst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such a letter to the boys in this class – or the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make a display of descriptions of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mbarrassment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wanted the ground to open up and swallow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blushed as red as a beet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die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didn’t know where to put my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kicked myself.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work in a small group to regi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emotio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action to the statement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“Blushometer” on the next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319280" cy="6192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3313080" cy="2300040"/>
          </a:xfrm>
          <a:prstGeom prst="rect">
            <a:avLst/>
          </a:prstGeom>
          <a:noFill/>
          <a:ln w="7632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Embarr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ll colour each statement in shades of red to show how embarrassing i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rker the red the more embarrass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ok more clos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          these                      feelings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                 we look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21760" cy="58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Pitchford</cp:lastModifiedBy>
  <dcterms:modified xsi:type="dcterms:W3CDTF">2007-02-09T10:41:47Z</dcterms:modified>
  <cp:revision>14</cp:revision>
  <dc:subject/>
  <dc:title>BASEAL   Good to be me  -1</dc:title>
</cp:coreProperties>
</file>