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59F4-ED45-4247-8145-C4A688B94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FAA9-BD1D-41D6-9FB4-F7C4CB2F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59AC-75CF-4E6E-8625-0B0D1A61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5241-FD5E-4871-B83C-1AACEB7A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7AD1-C319-4301-A7BF-7E77A279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91A0-AF87-4A29-A0F8-D2FB66E6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4D50-B7CA-4669-ACDB-05279B5B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640A-297C-4FF2-B742-3F8CEE26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48BE-0C8A-4095-86B4-03ED7AAC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F749-34C5-41C8-B5C8-6980B633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B343-8CEE-471E-A2AB-46F13C0C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A4C1-0B20-4F3F-8CEE-A09488E2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F53A-76FB-4B95-8351-FE4033077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Relationships 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.O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 can find out about people who are important to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.O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 can give and receive a compl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are going to play “I don’t get it!” in a 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fterwards w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ll pass round the thoug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I make a mistake I feel ….  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e will play a name game. On the slip you pull out of the bag you will find the name of a person in this class. You will make a card about why the person is impor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r card will be given to the person who will say “thank you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09:00:18Z</dcterms:created>
  <dc:creator>Nicky D</dc:creator>
  <dc:description/>
  <dc:language>en-US</dc:language>
  <cp:lastModifiedBy>Nicky D</cp:lastModifiedBy>
  <dcterms:modified xsi:type="dcterms:W3CDTF">2007-01-15T21:05:18Z</dcterms:modified>
  <cp:revision>8</cp:revision>
  <dc:subject/>
  <dc:title>BASEAL   Good to be me  -1</dc:title>
</cp:coreProperties>
</file>