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DC36-8858-445C-B37C-ADED43BD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F181-B0B3-40FC-A645-9D92B765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24EF-F5D2-4F16-A547-28ABA6F5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4709-73A0-4669-872C-4CF5A816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8A95-86B7-4D1F-8467-BFC93D2A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9B74-C07F-4529-A44A-9E8D5720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BA40-5E59-4D55-AFD7-5060A0A7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A11A-AB75-4C73-8B16-B184C2F3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EEA2-F463-496B-98C8-A3A4F8BC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1831-2109-446A-9561-F487A12E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E759-D4D6-47F4-B5DB-4F4AF188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F411-4C86-45D0-9918-A3211FC2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91FD-BAD5-4F5A-B406-D39FE0210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Relationships 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52760" y="476280"/>
            <a:ext cx="58384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you would like to talk about your ow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eelings in private we can arrange th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 are all going to do the Lynford challen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 will see it on the next sc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626160" cy="6480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42472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are going to read a poem cal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y gerbi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will talk about it afterw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3229200" cy="597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43280" y="260280"/>
            <a:ext cx="37688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362800" cy="579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.O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 know how most people feel when they lose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something or someone they l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.O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 know some ways to celebrate the life of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 someone I care ab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406440"/>
            <a:ext cx="7775280" cy="60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st of us have had p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know that at sometime a pet may d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are upset when this happ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ventually, though, we can get over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are going to read a story about a hamster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ynford” then make a story board about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could include things li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oosing Lynfor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tting used to him and finding out about hi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ynford as an escape art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ynford’s illness and de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683480" cy="582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683480" cy="3671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5640" y="3933720"/>
            <a:ext cx="7548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721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350028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59280" y="692280"/>
            <a:ext cx="0" cy="568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12000" y="692280"/>
            <a:ext cx="0" cy="568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8900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Story board about Lynf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12000" y="981000"/>
            <a:ext cx="2592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re are some questions to think abou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do you think has happened to Lynf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ere do you think he 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ll he ever come ba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y did this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ould they get another hams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y do, will it live fore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could use the “Emotional Barometer” to explor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r feelings and those of the child in the 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12144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09:00:18Z</dcterms:created>
  <dc:creator>Nicky D</dc:creator>
  <dc:description/>
  <dc:language>en-US</dc:language>
  <cp:lastModifiedBy>Nicky D</cp:lastModifiedBy>
  <dcterms:modified xsi:type="dcterms:W3CDTF">2007-12-27T16:37:57Z</dcterms:modified>
  <cp:revision>15</cp:revision>
  <dc:subject/>
  <dc:title>BASEAL   Good to be me  -1</dc:title>
</cp:coreProperties>
</file>