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F50-5F95-44B5-8D77-B408AD2E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47E-7340-47AB-BF5A-6F2E8EA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EED-A6C7-4758-8011-E6954B8B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005-6E6A-4FA3-BD72-AEBF6E3B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C8B-4855-4B9E-9558-7FE0655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668-D32A-4BB1-965E-1D2D9FDF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9DD-D2FA-4D59-9011-FE3B2D6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E6D-ADC2-49ED-A039-B7C7540D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17D-988A-473C-BE83-D112761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4C4-6FE5-4E29-8DC7-BD05FC65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C60-53B6-476E-AC52-805977F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CFC-60CC-406F-87B8-A6DF617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751-45B0-45BD-B356-75CCD9C7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tell you how I feel about the important people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in m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play a circl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’s a chair on my righ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w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pass round the though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lt lost when…. 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I felt lonely when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icture I have brought in is of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thing that is important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can remembe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going to draw a picture of your own special person or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should label your picture with words to show your feelings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powerful descriptive adjectives, similes or metaph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12-27T15:34:34Z</dcterms:modified>
  <cp:revision>9</cp:revision>
  <dc:subject/>
  <dc:title>BASEAL   Good to be me  -1</dc:title>
</cp:coreProperties>
</file>