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BF6-4B13-4592-B31A-2DD1A770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497-3280-4A6E-927A-44777BE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C48-7F04-4E01-AD28-E4AC6909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F03-A9F9-41DF-B228-E519F4FA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EC3-3D55-45B1-8591-0D7CE7B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799-CF88-41A5-BA34-59CD1AD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A7C-AAAC-472A-8D78-2848292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E6E-DFB9-4C09-9A56-8D8E26B4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CB0-5F02-42DC-AC35-F5F2DE9B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CD2-7044-44F0-826F-1F28EE6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FCE-1CF9-4134-9955-44BDDC7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7C0-EF3B-460D-997D-6E54E1A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261-B130-4C4A-BD21-EB72B5DE8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2880" y="4046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rd’s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72160" y="1197000"/>
            <a:ext cx="576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r Fa-ther who art in hea-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l-lowed be thy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king-dom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will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earth as it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ea-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us this day our dai-ly br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give us our tres-pass-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we for-give those who tres-pass a-gainst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lead us not in-to temp-ta-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de-liv-er u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ro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e-v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thine is the King-d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the pow’r, and the glor-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 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-men, A-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9:39:37Z</dcterms:created>
  <dc:creator>LFT</dc:creator>
  <dc:description/>
  <dc:language>en-US</dc:language>
  <cp:lastModifiedBy> </cp:lastModifiedBy>
  <dcterms:modified xsi:type="dcterms:W3CDTF">2011-06-12T13:48:38Z</dcterms:modified>
  <cp:revision>7</cp:revision>
  <dc:subject/>
  <dc:title>Slide 1</dc:title>
</cp:coreProperties>
</file>