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1896A-2D67-4582-BF5A-26A7906C6A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 children of work done in previous lesson on St Alb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was his cho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l drawing a double bubble map to show how the similarities and differences can be reco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courage the children to think about choices they have to make which concern doing the right 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m if they have similarities with Alban or Rut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learning objectiv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this slide to model drawing up a bubble map, representing the choice that Alban had to m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p represents information about the country where St Alban was living, the Town in which it happened, his nationality, his personality, the choice he was faced with, the reason for his choice and the outcom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key vocabulary before telling the story of Rut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story - Naomi had lived in Bethlehem with her husband, but when famine hit they had moved far away to a town called Mo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 two sons had married two women from Moab – Ruth and Orp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dly her husband died and sometime after, so too did both of her s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ft Naomi as a widow living with Ruth and Orpah – the sons wid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many years there were now food shortages in Moab, but Naomi heard that there was food in Israel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decided to travel back to her home town to be with her own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Naomi prepared to leave, Ruth and Orpah arrived saying that they would go with her and they all set out for Bethle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on the way Naomi urged the girls to return home. She said that they had been born in Moab and could marry again. Finally Orpah was persuaded to go back, but Ruth refused to be parted from Nao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wept and pleaded and showed how much she loved her mother-in-law, insisting that this was the right choice to stay with her al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omi was convinced and the two travelled on togeth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Bethlehem the harvest had begun. Ruth and Naomi found somewhere to stay but they were very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uth decided to work in the fields collecting the barley that had been left behin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uth worked hard, gleaning the small pieces of Barley left behind by the rea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Boaz the landowner arrived he asked about Ruth. “Who is that gi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farm workers told him that she had come to look after Naomi, Moab let her collect all the grain sh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ab was a relative of Naomi’s and he was really pleased that Ruth was looking after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howed great kindness to her, and when Ruth asked, “Why have you treated me so well? After all I am a stranger to you.” He replied “I have heard what kindness you have shown towards your mother-in-law since your husband died, and how you stayed with her instead of going back to your home. Therefore I have decided to share the Lord’s blessing with you.</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children what was similar about Ruth and St Alb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the children a bubble map and ask them to complete it to show key facts from the story of Ruth.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82C02-E27E-4F55-9E8D-700C4C991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43CDF-4F22-4978-9ED8-77217C5C2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B78AD-8CA9-49A5-8296-7243CF9F1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E8F5A-4CEB-4925-8D5F-951804F45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D88C6-13E1-4EA1-BA9C-300B3286A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34CED-622B-4E12-9201-163AF8F09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7954C-42B6-48CA-97D1-E54503685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E0D91-EDD5-4804-80D2-95F3DEFC2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8289C-DA5D-4EBA-BB1A-A0E0A7EAD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E4303-71C3-4A30-950A-9F3F287F8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2C306-4D6B-4801-BD46-3283A1447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0A998-E711-4F6E-AD8F-E9DDA39BD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fab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CBFE2-B12B-407C-843C-6EDDDDEF79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fab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Arial"/>
              </a:rPr>
              <a:t>Choic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fabc"/>
        </a:solidFill>
      </p:bgPr>
    </p:bg>
    <p:spTree>
      <p:nvGrpSpPr>
        <p:cNvPr id="1" name=""/>
        <p:cNvGrpSpPr/>
        <p:nvPr/>
      </p:nvGrpSpPr>
      <p:grpSpPr>
        <a:xfrm>
          <a:off x="0" y="0"/>
          <a:ext cx="0" cy="0"/>
          <a:chOff x="0" y="0"/>
          <a:chExt cx="0" cy="0"/>
        </a:xfrm>
      </p:grpSpPr>
      <p:sp>
        <p:nvSpPr>
          <p:cNvPr id="121" name=""/>
          <p:cNvSpPr/>
          <p:nvPr/>
        </p:nvSpPr>
        <p:spPr>
          <a:xfrm>
            <a:off x="2421000" y="3222720"/>
            <a:ext cx="70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6094440" y="3222720"/>
            <a:ext cx="70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 name=""/>
          <p:cNvGrpSpPr/>
          <p:nvPr/>
        </p:nvGrpSpPr>
        <p:grpSpPr>
          <a:xfrm>
            <a:off x="250920" y="476280"/>
            <a:ext cx="8715240" cy="5761080"/>
            <a:chOff x="250920" y="476280"/>
            <a:chExt cx="8715240" cy="5761080"/>
          </a:xfrm>
        </p:grpSpPr>
        <p:sp>
          <p:nvSpPr>
            <p:cNvPr id="124" name=""/>
            <p:cNvSpPr/>
            <p:nvPr/>
          </p:nvSpPr>
          <p:spPr>
            <a:xfrm flipH="1">
              <a:off x="5076360" y="3467160"/>
              <a:ext cx="1143000" cy="169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311640" y="3351240"/>
              <a:ext cx="1171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
            <p:cNvGrpSpPr/>
            <p:nvPr/>
          </p:nvGrpSpPr>
          <p:grpSpPr>
            <a:xfrm>
              <a:off x="250920" y="476280"/>
              <a:ext cx="8715240" cy="5761080"/>
              <a:chOff x="250920" y="476280"/>
              <a:chExt cx="8715240" cy="5761080"/>
            </a:xfrm>
          </p:grpSpPr>
          <p:sp>
            <p:nvSpPr>
              <p:cNvPr id="127" name=""/>
              <p:cNvSpPr/>
              <p:nvPr/>
            </p:nvSpPr>
            <p:spPr>
              <a:xfrm flipH="1">
                <a:off x="6850080" y="1805040"/>
                <a:ext cx="946080" cy="133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
              <p:cNvGrpSpPr/>
              <p:nvPr/>
            </p:nvGrpSpPr>
            <p:grpSpPr>
              <a:xfrm>
                <a:off x="250920" y="476280"/>
                <a:ext cx="8715240" cy="5761080"/>
                <a:chOff x="250920" y="476280"/>
                <a:chExt cx="8715240" cy="5761080"/>
              </a:xfrm>
            </p:grpSpPr>
            <p:sp>
              <p:nvSpPr>
                <p:cNvPr id="129" name=""/>
                <p:cNvSpPr/>
                <p:nvPr/>
              </p:nvSpPr>
              <p:spPr>
                <a:xfrm>
                  <a:off x="2862360" y="1357200"/>
                  <a:ext cx="0" cy="155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3176640" y="1800360"/>
                  <a:ext cx="946080" cy="133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132000" y="3573360"/>
                  <a:ext cx="1224000" cy="158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862360" y="3684600"/>
                  <a:ext cx="0" cy="1882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1555560" y="3462480"/>
                  <a:ext cx="990360" cy="155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1060560" y="3351240"/>
                  <a:ext cx="135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flipV="1">
                  <a:off x="1376280" y="1688760"/>
                  <a:ext cx="1216080" cy="133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320920" y="476280"/>
                  <a:ext cx="1036800" cy="8859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211640" y="4797360"/>
                  <a:ext cx="1036800" cy="8859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2320920" y="5351400"/>
                  <a:ext cx="1036800" cy="8859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80920" y="4797360"/>
                  <a:ext cx="1035360" cy="8859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01640" y="1141560"/>
                  <a:ext cx="1035000" cy="8856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50920" y="2913120"/>
                  <a:ext cx="1035000" cy="887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320920" y="2913120"/>
                  <a:ext cx="1036800" cy="887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535800" y="1362240"/>
                  <a:ext cx="0" cy="155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985080" y="3355920"/>
                  <a:ext cx="1171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805440" y="3578400"/>
                  <a:ext cx="990720" cy="16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535800" y="3689280"/>
                  <a:ext cx="0" cy="1882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734000" y="3355920"/>
                  <a:ext cx="135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flipV="1">
                  <a:off x="5049720" y="1693800"/>
                  <a:ext cx="1216080" cy="133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994360" y="476280"/>
                  <a:ext cx="1036800" cy="8859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615080" y="4908600"/>
                  <a:ext cx="1036800" cy="8856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994360" y="5351400"/>
                  <a:ext cx="1036800" cy="8859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570800" y="1030320"/>
                  <a:ext cx="1035000" cy="8859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931160" y="2913120"/>
                  <a:ext cx="1035000" cy="887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994360" y="2913120"/>
                  <a:ext cx="1036800" cy="887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067280" y="1268280"/>
                  <a:ext cx="1035000" cy="8859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11640" y="2924280"/>
                  <a:ext cx="1035000" cy="887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57" name=""/>
          <p:cNvSpPr/>
          <p:nvPr/>
        </p:nvSpPr>
        <p:spPr>
          <a:xfrm>
            <a:off x="2342160" y="3141720"/>
            <a:ext cx="1043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 Alban</a:t>
            </a:r>
            <a:endParaRPr b="0" lang="en-US" sz="1800" spc="-1" strike="noStrike">
              <a:solidFill>
                <a:srgbClr val="000000"/>
              </a:solidFill>
              <a:latin typeface="Arial"/>
            </a:endParaRPr>
          </a:p>
        </p:txBody>
      </p:sp>
      <p:sp>
        <p:nvSpPr>
          <p:cNvPr id="158" name=""/>
          <p:cNvSpPr/>
          <p:nvPr/>
        </p:nvSpPr>
        <p:spPr>
          <a:xfrm>
            <a:off x="6158520" y="314172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u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fab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e are learning…</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explore choi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evelop an understanding of making a commit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make comparis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fabc"/>
        </a:solidFill>
      </p:bgPr>
    </p:bg>
    <p:spTree>
      <p:nvGrpSpPr>
        <p:cNvPr id="1" name=""/>
        <p:cNvGrpSpPr/>
        <p:nvPr/>
      </p:nvGrpSpPr>
      <p:grpSpPr>
        <a:xfrm>
          <a:off x="0" y="0"/>
          <a:ext cx="0" cy="0"/>
          <a:chOff x="0" y="0"/>
          <a:chExt cx="0" cy="0"/>
        </a:xfrm>
      </p:grpSpPr>
      <p:grpSp>
        <p:nvGrpSpPr>
          <p:cNvPr id="51" name=""/>
          <p:cNvGrpSpPr/>
          <p:nvPr/>
        </p:nvGrpSpPr>
        <p:grpSpPr>
          <a:xfrm>
            <a:off x="684360" y="260280"/>
            <a:ext cx="7664400" cy="5943600"/>
            <a:chOff x="684360" y="260280"/>
            <a:chExt cx="7664400" cy="5943600"/>
          </a:xfrm>
        </p:grpSpPr>
        <p:grpSp>
          <p:nvGrpSpPr>
            <p:cNvPr id="52" name=""/>
            <p:cNvGrpSpPr/>
            <p:nvPr/>
          </p:nvGrpSpPr>
          <p:grpSpPr>
            <a:xfrm>
              <a:off x="684360" y="260280"/>
              <a:ext cx="7664400" cy="5943600"/>
              <a:chOff x="684360" y="260280"/>
              <a:chExt cx="7664400" cy="5943600"/>
            </a:xfrm>
          </p:grpSpPr>
          <p:grpSp>
            <p:nvGrpSpPr>
              <p:cNvPr id="53" name=""/>
              <p:cNvGrpSpPr/>
              <p:nvPr/>
            </p:nvGrpSpPr>
            <p:grpSpPr>
              <a:xfrm>
                <a:off x="1915920" y="1174680"/>
                <a:ext cx="5200920" cy="4343400"/>
                <a:chOff x="1915920" y="1174680"/>
                <a:chExt cx="5200920" cy="4343400"/>
              </a:xfrm>
            </p:grpSpPr>
            <p:sp>
              <p:nvSpPr>
                <p:cNvPr id="54" name=""/>
                <p:cNvSpPr/>
                <p:nvPr/>
              </p:nvSpPr>
              <p:spPr>
                <a:xfrm>
                  <a:off x="4653360" y="1174680"/>
                  <a:ext cx="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H="1">
                  <a:off x="5132160" y="1631880"/>
                  <a:ext cx="143712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337720" y="3232080"/>
                  <a:ext cx="1779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063760" y="3460680"/>
                  <a:ext cx="1505520" cy="171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653360" y="3575160"/>
                  <a:ext cx="0" cy="194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2668680" y="3346200"/>
                  <a:ext cx="150552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1915920" y="3232080"/>
                  <a:ext cx="205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2394720" y="1517400"/>
                  <a:ext cx="184752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
              <p:cNvSpPr/>
              <p:nvPr/>
            </p:nvSpPr>
            <p:spPr>
              <a:xfrm>
                <a:off x="3832200" y="26028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295680" y="483228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832200" y="528948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642320" y="4717800"/>
                <a:ext cx="157356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368720" y="94572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227280" y="83160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84360" y="277488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774840" y="277488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832200" y="277488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 name=""/>
            <p:cNvSpPr/>
            <p:nvPr/>
          </p:nvSpPr>
          <p:spPr>
            <a:xfrm>
              <a:off x="3985200" y="3093840"/>
              <a:ext cx="10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 Alban</a:t>
              </a:r>
              <a:endParaRPr b="0" lang="en-US" sz="1800" spc="-1" strike="noStrike">
                <a:solidFill>
                  <a:srgbClr val="000000"/>
                </a:solidFill>
                <a:latin typeface="Arial"/>
              </a:endParaRPr>
            </a:p>
          </p:txBody>
        </p:sp>
      </p:grpSp>
      <p:sp>
        <p:nvSpPr>
          <p:cNvPr id="72" name=""/>
          <p:cNvSpPr/>
          <p:nvPr/>
        </p:nvSpPr>
        <p:spPr>
          <a:xfrm>
            <a:off x="4067280" y="404640"/>
            <a:ext cx="1066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ved in England</a:t>
            </a:r>
            <a:endParaRPr b="0" lang="en-US" sz="1800" spc="-1" strike="noStrike">
              <a:solidFill>
                <a:srgbClr val="000000"/>
              </a:solidFill>
              <a:latin typeface="Arial"/>
            </a:endParaRPr>
          </a:p>
        </p:txBody>
      </p:sp>
      <p:sp>
        <p:nvSpPr>
          <p:cNvPr id="73" name=""/>
          <p:cNvSpPr/>
          <p:nvPr/>
        </p:nvSpPr>
        <p:spPr>
          <a:xfrm>
            <a:off x="3851280" y="5445000"/>
            <a:ext cx="1616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d a house in Verulamium.</a:t>
            </a:r>
            <a:endParaRPr b="0" lang="en-US" sz="1600" spc="-1" strike="noStrike">
              <a:solidFill>
                <a:srgbClr val="000000"/>
              </a:solidFill>
              <a:latin typeface="Arial"/>
            </a:endParaRPr>
          </a:p>
        </p:txBody>
      </p:sp>
      <p:sp>
        <p:nvSpPr>
          <p:cNvPr id="74" name=""/>
          <p:cNvSpPr/>
          <p:nvPr/>
        </p:nvSpPr>
        <p:spPr>
          <a:xfrm>
            <a:off x="6372360" y="4941720"/>
            <a:ext cx="152388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e was kind and put others needs before his own.</a:t>
            </a:r>
            <a:endParaRPr b="0" lang="en-US" sz="1300" spc="-1" strike="noStrike">
              <a:solidFill>
                <a:srgbClr val="000000"/>
              </a:solidFill>
              <a:latin typeface="Arial"/>
            </a:endParaRPr>
          </a:p>
        </p:txBody>
      </p:sp>
      <p:sp>
        <p:nvSpPr>
          <p:cNvPr id="75" name=""/>
          <p:cNvSpPr/>
          <p:nvPr/>
        </p:nvSpPr>
        <p:spPr>
          <a:xfrm>
            <a:off x="1403280" y="1052640"/>
            <a:ext cx="15829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 was from a different country – a Roman.</a:t>
            </a:r>
            <a:endParaRPr b="0" lang="en-US" sz="1400" spc="-1" strike="noStrike">
              <a:solidFill>
                <a:srgbClr val="000000"/>
              </a:solidFill>
              <a:latin typeface="Arial"/>
            </a:endParaRPr>
          </a:p>
        </p:txBody>
      </p:sp>
      <p:sp>
        <p:nvSpPr>
          <p:cNvPr id="76" name=""/>
          <p:cNvSpPr/>
          <p:nvPr/>
        </p:nvSpPr>
        <p:spPr>
          <a:xfrm>
            <a:off x="1676520" y="4876920"/>
            <a:ext cx="1620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 had to choose between life or death</a:t>
            </a:r>
            <a:endParaRPr b="0" lang="en-US" sz="1400" spc="-1" strike="noStrike">
              <a:solidFill>
                <a:srgbClr val="000000"/>
              </a:solidFill>
              <a:latin typeface="Arial"/>
            </a:endParaRPr>
          </a:p>
        </p:txBody>
      </p:sp>
      <p:sp>
        <p:nvSpPr>
          <p:cNvPr id="77" name=""/>
          <p:cNvSpPr/>
          <p:nvPr/>
        </p:nvSpPr>
        <p:spPr>
          <a:xfrm>
            <a:off x="6804000" y="2852640"/>
            <a:ext cx="15238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chose to stick with what he was committed to – his faith.</a:t>
            </a:r>
            <a:endParaRPr b="0" lang="en-US" sz="1200" spc="-1" strike="noStrike">
              <a:solidFill>
                <a:srgbClr val="000000"/>
              </a:solidFill>
              <a:latin typeface="Arial"/>
            </a:endParaRPr>
          </a:p>
        </p:txBody>
      </p:sp>
      <p:sp>
        <p:nvSpPr>
          <p:cNvPr id="78" name=""/>
          <p:cNvSpPr/>
          <p:nvPr/>
        </p:nvSpPr>
        <p:spPr>
          <a:xfrm>
            <a:off x="755640" y="2852640"/>
            <a:ext cx="1512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ban was executed for his faith.</a:t>
            </a:r>
            <a:endParaRPr b="0" lang="en-US" sz="1400" spc="-1" strike="noStrike">
              <a:solidFill>
                <a:srgbClr val="000000"/>
              </a:solidFill>
              <a:latin typeface="Arial"/>
            </a:endParaRPr>
          </a:p>
        </p:txBody>
      </p:sp>
      <p:sp>
        <p:nvSpPr>
          <p:cNvPr id="79" name=""/>
          <p:cNvSpPr/>
          <p:nvPr/>
        </p:nvSpPr>
        <p:spPr>
          <a:xfrm>
            <a:off x="6227640" y="981000"/>
            <a:ext cx="1513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 became a well know sai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fab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Vocabulary</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mi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d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ab</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ethlehem</a:t>
            </a:r>
            <a:endParaRPr b="0" lang="en-US" sz="28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rae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e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lean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national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ersonal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fab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thlehem</a:t>
            </a:r>
            <a:endParaRPr b="0" lang="en-US" sz="4400" spc="-1" strike="noStrike">
              <a:solidFill>
                <a:srgbClr val="000000"/>
              </a:solidFill>
              <a:latin typeface="Arial"/>
            </a:endParaRPr>
          </a:p>
        </p:txBody>
      </p:sp>
      <p:pic>
        <p:nvPicPr>
          <p:cNvPr id="8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fab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aomi, Ruth and Orpah</a:t>
            </a:r>
            <a:endParaRPr b="0" lang="en-US" sz="4400" spc="-1" strike="noStrike">
              <a:solidFill>
                <a:srgbClr val="000000"/>
              </a:solidFill>
              <a:latin typeface="Arial"/>
            </a:endParaRPr>
          </a:p>
        </p:txBody>
      </p:sp>
      <p:pic>
        <p:nvPicPr>
          <p:cNvPr id="86" name="" descr=""/>
          <p:cNvPicPr/>
          <p:nvPr/>
        </p:nvPicPr>
        <p:blipFill>
          <a:blip r:embed="rId1"/>
          <a:stretch/>
        </p:blipFill>
        <p:spPr>
          <a:xfrm>
            <a:off x="2527200" y="1143000"/>
            <a:ext cx="4087800" cy="500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fab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thlehem</a:t>
            </a:r>
            <a:endParaRPr b="0" lang="en-US" sz="4400" spc="-1" strike="noStrike">
              <a:solidFill>
                <a:srgbClr val="000000"/>
              </a:solidFill>
              <a:latin typeface="Arial"/>
            </a:endParaRPr>
          </a:p>
        </p:txBody>
      </p:sp>
      <p:pic>
        <p:nvPicPr>
          <p:cNvPr id="88" name="" descr=""/>
          <p:cNvPicPr/>
          <p:nvPr/>
        </p:nvPicPr>
        <p:blipFill>
          <a:blip r:embed="rId1"/>
          <a:stretch/>
        </p:blipFill>
        <p:spPr>
          <a:xfrm>
            <a:off x="914400" y="1295280"/>
            <a:ext cx="7315200" cy="4876920"/>
          </a:xfrm>
          <a:prstGeom prst="rect">
            <a:avLst/>
          </a:prstGeom>
          <a:ln w="0">
            <a:noFill/>
          </a:ln>
        </p:spPr>
      </p:pic>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fab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leaning Wheat</a:t>
            </a:r>
            <a:endParaRPr b="0" lang="en-US" sz="4400" spc="-1" strike="noStrike">
              <a:solidFill>
                <a:srgbClr val="000000"/>
              </a:solidFill>
              <a:latin typeface="Arial"/>
            </a:endParaRPr>
          </a:p>
        </p:txBody>
      </p:sp>
      <p:pic>
        <p:nvPicPr>
          <p:cNvPr id="91" name="" descr=""/>
          <p:cNvPicPr/>
          <p:nvPr/>
        </p:nvPicPr>
        <p:blipFill>
          <a:blip r:embed="rId1"/>
          <a:stretch/>
        </p:blipFill>
        <p:spPr>
          <a:xfrm>
            <a:off x="2068560" y="1600200"/>
            <a:ext cx="500688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fabc"/>
        </a:solidFill>
      </p:bgPr>
    </p:bg>
    <p:spTree>
      <p:nvGrpSpPr>
        <p:cNvPr id="1" name=""/>
        <p:cNvGrpSpPr/>
        <p:nvPr/>
      </p:nvGrpSpPr>
      <p:grpSpPr>
        <a:xfrm>
          <a:off x="0" y="0"/>
          <a:ext cx="0" cy="0"/>
          <a:chOff x="0" y="0"/>
          <a:chExt cx="0" cy="0"/>
        </a:xfrm>
      </p:grpSpPr>
      <p:grpSp>
        <p:nvGrpSpPr>
          <p:cNvPr id="92" name=""/>
          <p:cNvGrpSpPr/>
          <p:nvPr/>
        </p:nvGrpSpPr>
        <p:grpSpPr>
          <a:xfrm>
            <a:off x="684360" y="404640"/>
            <a:ext cx="7664400" cy="5943600"/>
            <a:chOff x="684360" y="404640"/>
            <a:chExt cx="7664400" cy="5943600"/>
          </a:xfrm>
        </p:grpSpPr>
        <p:grpSp>
          <p:nvGrpSpPr>
            <p:cNvPr id="93" name=""/>
            <p:cNvGrpSpPr/>
            <p:nvPr/>
          </p:nvGrpSpPr>
          <p:grpSpPr>
            <a:xfrm>
              <a:off x="684360" y="404640"/>
              <a:ext cx="7664400" cy="5943600"/>
              <a:chOff x="684360" y="404640"/>
              <a:chExt cx="7664400" cy="5943600"/>
            </a:xfrm>
          </p:grpSpPr>
          <p:grpSp>
            <p:nvGrpSpPr>
              <p:cNvPr id="94" name=""/>
              <p:cNvGrpSpPr/>
              <p:nvPr/>
            </p:nvGrpSpPr>
            <p:grpSpPr>
              <a:xfrm>
                <a:off x="1915920" y="1319040"/>
                <a:ext cx="5200920" cy="4343400"/>
                <a:chOff x="1915920" y="1319040"/>
                <a:chExt cx="5200920" cy="4343400"/>
              </a:xfrm>
            </p:grpSpPr>
            <p:sp>
              <p:nvSpPr>
                <p:cNvPr id="95" name=""/>
                <p:cNvSpPr/>
                <p:nvPr/>
              </p:nvSpPr>
              <p:spPr>
                <a:xfrm>
                  <a:off x="4653360" y="1319040"/>
                  <a:ext cx="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5132160" y="1776240"/>
                  <a:ext cx="143712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337720" y="3376440"/>
                  <a:ext cx="1779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063760" y="3605040"/>
                  <a:ext cx="1505520" cy="171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653360" y="3719520"/>
                  <a:ext cx="0" cy="194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2668680" y="3490560"/>
                  <a:ext cx="150552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1915920" y="3376440"/>
                  <a:ext cx="205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flipV="1">
                  <a:off x="2394720" y="1661760"/>
                  <a:ext cx="184752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
              <p:cNvSpPr/>
              <p:nvPr/>
            </p:nvSpPr>
            <p:spPr>
              <a:xfrm>
                <a:off x="3832200" y="40464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295680" y="497664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832200" y="543384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642320" y="4862160"/>
                <a:ext cx="157356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368720" y="109008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27280" y="97596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84360" y="291924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774840" y="291924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832200" y="2919240"/>
                <a:ext cx="1573920" cy="914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3985200" y="3238200"/>
              <a:ext cx="106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
          <p:cNvSpPr/>
          <p:nvPr/>
        </p:nvSpPr>
        <p:spPr>
          <a:xfrm>
            <a:off x="4068360" y="3068640"/>
            <a:ext cx="1038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uth</a:t>
            </a:r>
            <a:endParaRPr b="0" lang="en-US" sz="3200" spc="-1" strike="noStrike">
              <a:solidFill>
                <a:srgbClr val="000000"/>
              </a:solidFill>
              <a:latin typeface="Arial"/>
            </a:endParaRPr>
          </a:p>
        </p:txBody>
      </p:sp>
      <p:sp>
        <p:nvSpPr>
          <p:cNvPr id="114" name=""/>
          <p:cNvSpPr/>
          <p:nvPr/>
        </p:nvSpPr>
        <p:spPr>
          <a:xfrm>
            <a:off x="7670880" y="333360"/>
            <a:ext cx="1206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ionality</a:t>
            </a:r>
            <a:endParaRPr b="0" lang="en-US" sz="1800" spc="-1" strike="noStrike">
              <a:solidFill>
                <a:srgbClr val="000000"/>
              </a:solidFill>
              <a:latin typeface="Arial"/>
            </a:endParaRPr>
          </a:p>
        </p:txBody>
      </p:sp>
      <p:sp>
        <p:nvSpPr>
          <p:cNvPr id="115" name=""/>
          <p:cNvSpPr/>
          <p:nvPr/>
        </p:nvSpPr>
        <p:spPr>
          <a:xfrm>
            <a:off x="5078880" y="630864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wn</a:t>
            </a:r>
            <a:endParaRPr b="0" lang="en-US" sz="1800" spc="-1" strike="noStrike">
              <a:solidFill>
                <a:srgbClr val="000000"/>
              </a:solidFill>
              <a:latin typeface="Arial"/>
            </a:endParaRPr>
          </a:p>
        </p:txBody>
      </p:sp>
      <p:sp>
        <p:nvSpPr>
          <p:cNvPr id="116" name=""/>
          <p:cNvSpPr/>
          <p:nvPr/>
        </p:nvSpPr>
        <p:spPr>
          <a:xfrm>
            <a:off x="5508720" y="189000"/>
            <a:ext cx="1352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untry</a:t>
            </a:r>
            <a:endParaRPr b="0" lang="en-US" sz="1800" spc="-1" strike="noStrike">
              <a:solidFill>
                <a:srgbClr val="000000"/>
              </a:solidFill>
              <a:latin typeface="Arial"/>
            </a:endParaRPr>
          </a:p>
        </p:txBody>
      </p:sp>
      <p:sp>
        <p:nvSpPr>
          <p:cNvPr id="117" name=""/>
          <p:cNvSpPr/>
          <p:nvPr/>
        </p:nvSpPr>
        <p:spPr>
          <a:xfrm>
            <a:off x="326520" y="26028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comes</a:t>
            </a:r>
            <a:endParaRPr b="0" lang="en-US" sz="1800" spc="-1" strike="noStrike">
              <a:solidFill>
                <a:srgbClr val="000000"/>
              </a:solidFill>
              <a:latin typeface="Arial"/>
            </a:endParaRPr>
          </a:p>
        </p:txBody>
      </p:sp>
      <p:sp>
        <p:nvSpPr>
          <p:cNvPr id="118" name=""/>
          <p:cNvSpPr/>
          <p:nvPr/>
        </p:nvSpPr>
        <p:spPr>
          <a:xfrm>
            <a:off x="398520" y="6093000"/>
            <a:ext cx="128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ity</a:t>
            </a:r>
            <a:endParaRPr b="0" lang="en-US" sz="1800" spc="-1" strike="noStrike">
              <a:solidFill>
                <a:srgbClr val="000000"/>
              </a:solidFill>
              <a:latin typeface="Arial"/>
            </a:endParaRPr>
          </a:p>
        </p:txBody>
      </p:sp>
      <p:sp>
        <p:nvSpPr>
          <p:cNvPr id="119" name=""/>
          <p:cNvSpPr/>
          <p:nvPr/>
        </p:nvSpPr>
        <p:spPr>
          <a:xfrm>
            <a:off x="254520" y="4292640"/>
            <a:ext cx="241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son for her choice</a:t>
            </a:r>
            <a:endParaRPr b="0" lang="en-US" sz="1800" spc="-1" strike="noStrike">
              <a:solidFill>
                <a:srgbClr val="000000"/>
              </a:solidFill>
              <a:latin typeface="Arial"/>
            </a:endParaRPr>
          </a:p>
        </p:txBody>
      </p:sp>
      <p:sp>
        <p:nvSpPr>
          <p:cNvPr id="120" name=""/>
          <p:cNvSpPr/>
          <p:nvPr/>
        </p:nvSpPr>
        <p:spPr>
          <a:xfrm>
            <a:off x="6659640" y="6021360"/>
            <a:ext cx="2239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she chose betwe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8"/>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0"/>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1:06:54Z</dcterms:created>
  <dc:creator>oneillg</dc:creator>
  <dc:description/>
  <dc:language>en-US</dc:language>
  <cp:lastModifiedBy>oneillg</cp:lastModifiedBy>
  <dcterms:modified xsi:type="dcterms:W3CDTF">2006-11-06T17:57:00Z</dcterms:modified>
  <cp:revision>27</cp:revision>
  <dc:subject/>
  <dc:title>Choices</dc:title>
</cp:coreProperties>
</file>