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A75A-28E0-45B9-BF42-BC09A242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4176-4637-43F3-889A-5C1AE290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52E9-2E95-4AA8-9A41-AB3CA3E9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4FC9-28DE-4EFA-8F2F-9861F567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1E51-BC57-4692-9B13-86E4CEBF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3BAD-99E1-4FB6-8BA7-9C5D746C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0610-202E-47F3-AFF9-71C9735C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9BCD-D2AB-4F7D-A102-A6392B3A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88C9-0025-4A9F-883C-3EFA71CC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A9B2-9933-4DB9-9BE2-D0A54213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85F3-1C56-4A4E-8690-62748B8F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CFBD-477E-4C41-A3A5-3397F81F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f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0354-E954-4295-9D0B-5266809AF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f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Choi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f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 are learn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xplore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develop an understanding of comm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f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e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ulam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ty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f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f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4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f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87640" y="260280"/>
            <a:ext cx="3627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f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lban’s choic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53" idx="0"/>
            <a:endCxn id="53" idx="0"/>
          </p:cNvCxnSpPr>
          <p:nvPr/>
        </p:nvCxnSpPr>
        <p:spPr>
          <a:xfrm>
            <a:off x="4571640" y="15998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 flipH="1">
            <a:off x="3132000" y="1700280"/>
            <a:ext cx="1368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00720" y="1700280"/>
            <a:ext cx="11509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2924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 up your fa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8160" y="292428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ep your fa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0360" y="3284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328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3440" y="4797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6880" y="558972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 untrue to what you bel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2880" y="46530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5960" y="5516640"/>
            <a:ext cx="33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 true to you what you bel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7640" y="501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f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y choic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8" idx="0"/>
            <a:endCxn id="68" idx="0"/>
          </p:cNvCxnSpPr>
          <p:nvPr/>
        </p:nvCxnSpPr>
        <p:spPr>
          <a:xfrm>
            <a:off x="4571640" y="15998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 flipH="1">
            <a:off x="3132000" y="1700280"/>
            <a:ext cx="1368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1700280"/>
            <a:ext cx="11509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00360" y="3284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328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6880" y="558972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 untrue to what you bel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35960" y="5516640"/>
            <a:ext cx="33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 true to you what you bel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0036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27640" y="501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5440" y="2708280"/>
            <a:ext cx="31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ick to what I believe is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75480" y="265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37200" y="2708280"/>
            <a:ext cx="30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something that I don’t think is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f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8483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1:06:54Z</dcterms:created>
  <dc:creator>oneillg</dc:creator>
  <dc:description/>
  <dc:language>en-US</dc:language>
  <cp:lastModifiedBy>oneillg</cp:lastModifiedBy>
  <dcterms:modified xsi:type="dcterms:W3CDTF">2006-11-01T11:50:27Z</dcterms:modified>
  <cp:revision>5</cp:revision>
  <dc:subject/>
  <dc:title>Choices</dc:title>
</cp:coreProperties>
</file>